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5E5-0F4A-4AB3-A52B-8471E91515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F59-6833-420E-A6A2-81440800CE4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13E1-1D72-41AB-8096-C6D62488EDD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B6E3-8692-4378-A65C-7F1427D4707C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D5D-795D-4E54-B1FD-C1AB5977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114-05A3-4423-915E-2EC65F47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5FD5A-E167-4461-8506-D49D712B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E696F-9229-4F1E-B43F-80BC727D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13404B-8A84-4E73-90B7-DB6C10F7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D3CB3-83DA-4575-A5CA-571CC08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590BA-6A8D-486C-8CCD-A556D06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B393B-5466-451B-B524-BB67245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62EB30-BC96-408D-9676-ACE7FCC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BC713-DDF4-4052-ACE5-1483B028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C8D9F-6A0D-4B94-962E-9E77EC71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C7E2F8-315F-4C8D-8D84-3428D844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855-1E99-456D-8C66-32885F41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A4140-993D-44F1-9F2D-ACD19344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8357B-3383-48AC-A112-F98008D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A407F3-BC5A-4AF4-9F35-55A9E16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E2B7C5-A9A8-4D8A-A3C3-7843EA71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5574D1-FCBE-4E0D-91CD-14E309C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F4896F-9359-4BE4-B3EC-4186E0D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FF18B1-9083-4D75-A1C6-5A15208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E1322B-CEF8-4BC5-AFD1-DA484547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188B0-D37D-4273-A12A-6B963714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EAAD4C-D2F4-49EB-9FE6-828593A7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05F-0E3A-4F07-8BAB-F5FF5F98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E8C03-F867-4CF3-B752-B2CE0E99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348416-3A96-4DB9-BD2B-037E4FA9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9F7A9A-ECC9-4094-8352-A880E297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8C8C1B-467E-4E0F-8178-199BE27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2AF915-1D47-4F4D-A6AE-0D195ED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E7513D-FC9D-43B0-997F-264C1ACC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3467AF-2081-4D59-A417-A7F2346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BFEE9B-8EB4-4307-8F2E-A981E21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8CF59-64A0-476B-B082-A3F706E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26682B-5F94-434E-A947-D61D6F6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5297-8909-4653-93A2-14B0164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6DC8E8-D5E1-42CC-8647-ECFB081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F3E202-74A0-4192-A67D-556623F7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DC0A9F-1079-4859-A63E-0F85B391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2734D4-E26E-4F87-A22B-86E4AF39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DC0A26-8476-44A7-84E0-193656CE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2A841-2732-4744-8AD5-4F39AC97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2F5311-8D16-47B6-B3B6-4F41CAE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857B8D-7C87-4E4C-9FF9-8005827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7EFE90-2A07-4483-B7AA-7B32E26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E19BC0-899A-4E95-988C-952F1D0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F59F-66AF-4A24-AD9A-E75F9EE5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4DCC95-2D33-44B9-B38B-EB84812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962DAF-3E9B-4705-8E06-252C8CC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8C0A73-9376-4BD4-939D-9E29F8E0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E328C4-F5D6-4CA7-AAFB-EDFBE8F4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A8CEC6-3942-491A-8250-24D8A732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8AECCF-AA06-4EC9-9EA7-4E6A046E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9CA3AD-40E1-46D3-AE5C-515E24F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3F3A6F-A1A0-4D23-954F-453B0E5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2DE0FB-7C55-4F89-AB88-18E573E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3687A0-6707-4B3E-9D1C-92709988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D5C-0A0E-4F15-BD24-2611B13B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BF4AD2-514D-4CD6-A4BC-47439267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97172-3378-4687-A96A-4104491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2E5D7E-6F81-402C-9A28-03510B6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94A61E-EC55-4AF3-9969-B77C4B08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E8895-CABB-4996-A9C5-0C7DA01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314137-70F7-4F44-8775-A47DA12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0545B-700D-4C18-B0EB-DCF6E0BD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F317F5-0403-46CA-9F34-C46E54FB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F2D9AB-4E3B-48B8-8C73-9CFD551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F110AC-78CF-4BFD-9E1C-1109BCA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811F-8F80-403A-84A7-C7A2E2A8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6EFBA3-2FDA-4BFA-8D0A-FD01789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F7FAA6-1A34-400A-94B8-CB777F1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077E4B-654D-41A8-9606-FF6864B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22266E-BB4E-4FC6-9159-37C829CA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13297C-4C54-48A7-8097-D465A30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31BA80-E438-4B8C-80B3-2D39778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6E2B41-9C89-4002-9300-B863C832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A44A2A-B8C7-4673-81C5-2E53FBE7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6B7FA8-16D1-4733-A065-1008CD44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1176A3-853A-4EBE-8A1B-1FCFA73B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E59-3076-4349-BDC0-41198B4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676EE6-B5E9-49C1-BD21-7F0A3D43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3CE5CA-3B25-4BEF-8686-26881608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AFB4F2-AC21-487D-B713-A4802EE8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909E23-56E9-4E82-BDF3-15878F7C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392EA8-A877-4D11-917E-89E28BE8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2C2A67-5DC0-45BB-A3DA-CE0A0D4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1F213A-3340-43A1-B94B-58678ACF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97CA6E-FD93-4AA9-8352-B4ACDE2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12F177-484D-446A-8F3C-34C2E75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15C16E-8887-40A8-8126-5E6768A0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CDE7-0E3F-4000-ABFF-6D5D609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03C665-951A-40AF-BDEA-641CFACB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DD7-5622-4F05-ADA0-A7A1BBD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97B-27EE-494D-ACF7-06F0383E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5439-95EA-45E3-AB2B-A4426CD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7492-84B2-415C-A51F-4897E36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4E8-B640-4632-BD17-7BDDC624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EEA3-B37E-416E-853A-0A823B22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792A-CF9A-42C2-8208-F6D361D0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72C-0F99-49E1-9B5B-1998228F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B8A20-16C6-464A-ABEC-AD1C74D8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6E319-3D25-44C3-9F77-C3950855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A6437-69F7-4810-98FD-7767D56C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10E-50CF-497F-9449-BCBBE0B0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65360-311E-42E8-B18F-039F1815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6A5AA-4AB1-401D-B389-7A783C31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192BC-9282-4996-9076-DC66C9BC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4CDE0-8043-4195-A264-B916D94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2CBDA-EF01-4B70-A728-AE9233B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622A8-522D-48C7-B303-BF899F2B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CEBF7-4A9B-456A-82A1-D8B7D43E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8FF2F-09C7-47BD-9C30-AE95450B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4D789-3B46-42E6-9C20-AF4E4139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13906-046D-4E6D-B6C8-55444BB0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B1B-E85C-4BE2-8D63-25EE5E63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810ED-49E6-48F7-B944-EB11B45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B2FC1-8806-4B85-85B6-87FCC49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D4936-DDBB-401D-A4C3-B9EF731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614AF-8FFC-45E8-9699-8BBF325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5093E-3D0B-4134-A586-951B20F3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43260-B629-4520-A4A5-378A365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0EC0A-E526-4B0F-AB3B-9BACC0B4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E2975-5BD7-4D2D-BBF5-83839B9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5D99E-66FC-431E-B321-933DDF4F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784C6-4775-4A3E-A80B-A0FD29EE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597-529B-402E-ADD6-6A2BB73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EC91E-7A5E-4830-A034-645584D7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879AF-6F02-4CDF-9251-1912A353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EBF94-A9FA-498B-83E1-793BAB0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18B47-244F-4FD4-A2A2-1E21F27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92FA9-11E6-431C-859A-1857F3E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1C6DC-6DF6-4DB9-9C79-1B769B62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A17A1-29DE-495A-AF52-98013DF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B6E29-5CB7-4CF3-8D3A-95CCDB5F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D55E8-70B2-4A0F-8218-ADB27F5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FA68B-C999-43B0-BE6B-C770BF9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3F0-1825-4904-A9E2-87667B0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EF972-DBC4-4EFD-9584-7065BD7A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D9BDA-11D7-47E1-9723-C4C6D4B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906AF-3F73-4B77-9584-F64D9570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57C1B-DCCC-4B2C-B5BA-8A4D90A3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0448D-F4E7-47C5-B71B-A6CAB84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2D378-23F7-4055-A107-C82BAAE4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78877-1D13-479A-B060-DE3B387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C31C4-7242-4D8E-B1CE-1B11AAF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37FAB-9AFD-41C9-ABC2-E4DC0483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1A99A-EF5C-4D36-BC75-B137408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AE7-7E70-4717-874B-98CC7F3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62916-428E-4BE8-B072-EB85A1D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478C1-E71F-4C50-BD05-0450127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3BCB7-8213-45D7-BD5F-E0AE814E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12296-395F-463C-90BC-175D881A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F4FB9-4466-4157-9605-60ACC196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ADAB8-5B97-47D8-8340-22D9378E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43F7B-8AF5-403C-93A0-8A443497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38E9C-6DC2-45F8-BF5D-CE3ABD5D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33DB2-FFB1-4235-874E-64FF7B4C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95AD18-1F3B-4979-A1AC-9DE9482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D62-68C7-4BAF-8538-955155B6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B2210-7B0F-4C93-9B65-78474FC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696FE-FC05-4375-9D6E-B5E8C0E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33C5E0-C28F-4477-A520-8BDE8FB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369D9-B5FA-4D42-BBD6-9C6F22F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24F34-68E6-478D-88EA-82546B4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AC53B-AC6A-492A-A53A-02C18969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72719-51F2-45F6-AC6B-9C381D8A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35F5A8-A33B-4114-974E-D76A9556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687727-C1C0-4F3A-A8BB-B227D43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28003E-3377-4EC6-BDEE-9F55AAE3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1B86-305C-4286-9A2F-3FDF11AFDBFF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9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173-C0D3-4829-AC0C-A47849705EE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619F-6951-429A-85D8-FE229FE2E61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5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8F7B-9706-4645-A061-267F273A94F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8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79A-2FC7-4DA6-AD13-63949014267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ACFD-61E2-4DC0-8B90-D3DE82A4DF3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5C62-BA2D-4AE3-BA02-156E4623F3F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0FE4-C348-4643-827D-CAFD26BD179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6" descr="also_vonal_ppthez"/>
          <p:cNvPicPr/>
          <p:nvPr/>
        </p:nvPicPr>
        <p:blipFill>
          <a:blip r:embed="rId9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4"/>
          <p:cNvSpPr/>
          <p:nvPr/>
        </p:nvSpPr>
        <p:spPr>
          <a:xfrm>
            <a:off x="1619280" y="57340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őadó: Kozák Tam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5" descr="mavstart prezent PPT_szurke hatter flekk"/>
          <p:cNvPicPr/>
          <p:nvPr/>
        </p:nvPicPr>
        <p:blipFill>
          <a:blip r:embed="rId2"/>
          <a:stretch/>
        </p:blipFill>
        <p:spPr>
          <a:xfrm>
            <a:off x="639720" y="1486080"/>
            <a:ext cx="8504280" cy="47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uj_designsavos_logo_RGB"/>
          <p:cNvPicPr/>
          <p:nvPr/>
        </p:nvPicPr>
        <p:blipFill>
          <a:blip r:embed="rId3"/>
          <a:stretch/>
        </p:blipFill>
        <p:spPr>
          <a:xfrm>
            <a:off x="1440" y="299880"/>
            <a:ext cx="53625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C7A-B40F-4DC7-8D74-4C54F43DC88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6869-DA9B-44CE-92F0-7092539650F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EE5-B55A-4CD7-8DEC-9B4BC900717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0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1EE-281C-402A-9FEB-2EE7147B69D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3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880-953B-4686-98AF-911FDEF2EA5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807C-3A48-4B7E-9972-4D2B30191AA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971640" y="1490760"/>
            <a:ext cx="7921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7"/>
                </a:solidFill>
                <a:latin typeface="Arial"/>
              </a:rPr>
              <a:t>Az elmúlt évek városi-közlekedés fejlesztéseinek tapasztala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692360" y="3705120"/>
            <a:ext cx="4375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00360" y="4653000"/>
            <a:ext cx="431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687"/>
                </a:solidFill>
                <a:latin typeface="Arial"/>
              </a:rPr>
              <a:t>Dr. Kormányos Lászl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687"/>
                </a:solidFill>
                <a:latin typeface="Arial"/>
              </a:rPr>
              <a:t>marketing és fejlesztési vezető, MÁV-START Zr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C:\Users\foldiak.janos\Pictures\FLIRT-rákosmente.jpg"/>
          <p:cNvPicPr/>
          <p:nvPr/>
        </p:nvPicPr>
        <p:blipFill>
          <a:blip r:embed="rId1"/>
          <a:srcRect l="0" t="25972" r="0" b="0"/>
          <a:stretch/>
        </p:blipFill>
        <p:spPr>
          <a:xfrm>
            <a:off x="2143080" y="2421000"/>
            <a:ext cx="5453280" cy="2082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461680" y="5301720"/>
            <a:ext cx="490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XIV. A Városi közlekedés aktuális kérdé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A Közlekedéstudományi Egyesület Városi Közlekedési Tagozata</a:t>
            </a: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Balatonfenyves, 2014. szeptember 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49"/>
          <p:cNvSpPr/>
          <p:nvPr/>
        </p:nvSpPr>
        <p:spPr>
          <a:xfrm>
            <a:off x="4280040" y="3573360"/>
            <a:ext cx="4330440" cy="1800"/>
          </a:xfrm>
          <a:custGeom>
            <a:avLst/>
            <a:gdLst/>
            <a:ahLst/>
            <a:rect l="l" t="t" r="r" b="b"/>
            <a:pathLst>
              <a:path w="11018" h="10000">
                <a:moveTo>
                  <a:pt x="0" y="10000"/>
                </a:moveTo>
                <a:cubicBezTo>
                  <a:pt x="5557" y="6667"/>
                  <a:pt x="5461" y="3333"/>
                  <a:pt x="11018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37"/>
          <p:cNvSpPr/>
          <p:nvPr/>
        </p:nvSpPr>
        <p:spPr>
          <a:xfrm rot="18900000">
            <a:off x="4174920" y="25268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38"/>
          <p:cNvSpPr/>
          <p:nvPr/>
        </p:nvSpPr>
        <p:spPr>
          <a:xfrm rot="18900000">
            <a:off x="4672800" y="281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40"/>
          <p:cNvSpPr/>
          <p:nvPr/>
        </p:nvSpPr>
        <p:spPr>
          <a:xfrm rot="18900000">
            <a:off x="6508080" y="281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43"/>
          <p:cNvSpPr/>
          <p:nvPr/>
        </p:nvSpPr>
        <p:spPr>
          <a:xfrm rot="18900000">
            <a:off x="3601440" y="20142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51"/>
          <p:cNvSpPr/>
          <p:nvPr/>
        </p:nvSpPr>
        <p:spPr>
          <a:xfrm>
            <a:off x="455616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23"/>
          <p:cNvSpPr/>
          <p:nvPr/>
        </p:nvSpPr>
        <p:spPr>
          <a:xfrm>
            <a:off x="491508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41"/>
          <p:cNvSpPr/>
          <p:nvPr/>
        </p:nvSpPr>
        <p:spPr>
          <a:xfrm rot="18900000">
            <a:off x="5397120" y="25696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ádorker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1"/>
          <p:cNvSpPr/>
          <p:nvPr/>
        </p:nvSpPr>
        <p:spPr>
          <a:xfrm rot="18900000">
            <a:off x="5594400" y="221292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S3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3"/>
          <p:cNvSpPr/>
          <p:nvPr/>
        </p:nvSpPr>
        <p:spPr>
          <a:xfrm>
            <a:off x="601344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Oval 23"/>
          <p:cNvSpPr/>
          <p:nvPr/>
        </p:nvSpPr>
        <p:spPr>
          <a:xfrm>
            <a:off x="5294160" y="35020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23"/>
          <p:cNvSpPr/>
          <p:nvPr/>
        </p:nvSpPr>
        <p:spPr>
          <a:xfrm>
            <a:off x="567864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646600" y="3933720"/>
            <a:ext cx="33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kiszolgálandó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3"/>
          <p:cNvSpPr/>
          <p:nvPr/>
        </p:nvSpPr>
        <p:spPr>
          <a:xfrm>
            <a:off x="5364000" y="4395960"/>
            <a:ext cx="133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Oval 50"/>
          <p:cNvSpPr/>
          <p:nvPr/>
        </p:nvSpPr>
        <p:spPr>
          <a:xfrm>
            <a:off x="5365800" y="3933720"/>
            <a:ext cx="131760" cy="1429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24"/>
          <p:cNvSpPr/>
          <p:nvPr/>
        </p:nvSpPr>
        <p:spPr>
          <a:xfrm>
            <a:off x="5365800" y="4095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Oval 50"/>
          <p:cNvSpPr/>
          <p:nvPr/>
        </p:nvSpPr>
        <p:spPr>
          <a:xfrm>
            <a:off x="5364000" y="4259160"/>
            <a:ext cx="1335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50"/>
          <p:cNvSpPr/>
          <p:nvPr/>
        </p:nvSpPr>
        <p:spPr>
          <a:xfrm flipV="1">
            <a:off x="6373800" y="350136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50"/>
          <p:cNvSpPr/>
          <p:nvPr/>
        </p:nvSpPr>
        <p:spPr>
          <a:xfrm flipV="1">
            <a:off x="6734160" y="3501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 Box 39"/>
          <p:cNvSpPr/>
          <p:nvPr/>
        </p:nvSpPr>
        <p:spPr>
          <a:xfrm rot="18900000">
            <a:off x="4919400" y="2449080"/>
            <a:ext cx="25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40"/>
          <p:cNvSpPr/>
          <p:nvPr/>
        </p:nvSpPr>
        <p:spPr>
          <a:xfrm rot="18900000">
            <a:off x="6149160" y="2819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7308720" y="31939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50"/>
          <p:cNvSpPr/>
          <p:nvPr/>
        </p:nvSpPr>
        <p:spPr>
          <a:xfrm>
            <a:off x="420372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196920" y="925560"/>
            <a:ext cx="372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, egy új székesfehérvári gyorsított személyvonat meghosszabbít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tétény kiszolgálását Székesfehérvár felől ez a viszonylat oldja m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Továbbfejlesz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fokon új megállást kap a vonat 2014 áprili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Minden vonat FLIRT 2014 júniu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Oval 50"/>
          <p:cNvSpPr/>
          <p:nvPr/>
        </p:nvSpPr>
        <p:spPr>
          <a:xfrm flipV="1">
            <a:off x="7093080" y="350028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 Box 40"/>
          <p:cNvSpPr/>
          <p:nvPr/>
        </p:nvSpPr>
        <p:spPr>
          <a:xfrm rot="18900000">
            <a:off x="6866640" y="2817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Kép 2" descr=""/>
          <p:cNvPicPr/>
          <p:nvPr/>
        </p:nvPicPr>
        <p:blipFill>
          <a:blip r:embed="rId1"/>
          <a:srcRect l="0" t="36337" r="0" b="9157"/>
          <a:stretch/>
        </p:blipFill>
        <p:spPr>
          <a:xfrm>
            <a:off x="2700360" y="4724280"/>
            <a:ext cx="37530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: Tapasztal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250920" y="925560"/>
            <a:ext cx="4275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Tapasztal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agy siker, pozitív sajtóvisszhang és utasészrevétel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egatív visszhang a szerelvényeket illető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ezdetekben alacsony kihasznált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Folyamatosan növekvő utasszám, már napi 800 utast szállítu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Politikai megkeresések és utasészrevételek új megállások beiktatásá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Kép 1" descr=""/>
          <p:cNvPicPr/>
          <p:nvPr/>
        </p:nvPicPr>
        <p:blipFill>
          <a:blip r:embed="rId1"/>
          <a:srcRect l="0" t="12020" r="0" b="7028"/>
          <a:stretch/>
        </p:blipFill>
        <p:spPr>
          <a:xfrm>
            <a:off x="455760" y="4076640"/>
            <a:ext cx="4070160" cy="1873440"/>
          </a:xfrm>
          <a:prstGeom prst="rect">
            <a:avLst/>
          </a:prstGeom>
          <a:ln w="0">
            <a:noFill/>
          </a:ln>
        </p:spPr>
      </p:pic>
      <p:pic>
        <p:nvPicPr>
          <p:cNvPr id="867" name="Kép 3" descr=""/>
          <p:cNvPicPr/>
          <p:nvPr/>
        </p:nvPicPr>
        <p:blipFill>
          <a:blip r:embed="rId2"/>
          <a:srcRect l="1513" t="0" r="0" b="0"/>
          <a:stretch/>
        </p:blipFill>
        <p:spPr>
          <a:xfrm>
            <a:off x="4638600" y="4076640"/>
            <a:ext cx="4070520" cy="187344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8"/>
          <p:cNvSpPr/>
          <p:nvPr/>
        </p:nvSpPr>
        <p:spPr>
          <a:xfrm>
            <a:off x="4822920" y="925560"/>
            <a:ext cx="40701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Fejleszté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zerelvényösszeállítás a kezdetek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unkanapokon hagyományos szerelvények alkalmaz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LIRT motorvonatok csak hétvégé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június: munkanapokon is FLI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április: új megállás: Buda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december: új megállás: Barosstele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Freeform 49"/>
          <p:cNvSpPr/>
          <p:nvPr/>
        </p:nvSpPr>
        <p:spPr>
          <a:xfrm>
            <a:off x="3648240" y="3835440"/>
            <a:ext cx="5321160" cy="1440"/>
          </a:xfrm>
          <a:custGeom>
            <a:avLst/>
            <a:gdLst/>
            <a:ahLst/>
            <a:rect l="l" t="t" r="r" b="b"/>
            <a:pathLst>
              <a:path w="13409" h="10000">
                <a:moveTo>
                  <a:pt x="0" y="10000"/>
                </a:moveTo>
                <a:cubicBezTo>
                  <a:pt x="5504" y="6667"/>
                  <a:pt x="7905" y="3333"/>
                  <a:pt x="13409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3059280" y="4797360"/>
            <a:ext cx="3682800" cy="140328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49"/>
          <p:cNvSpPr/>
          <p:nvPr/>
        </p:nvSpPr>
        <p:spPr>
          <a:xfrm>
            <a:off x="3686040" y="3683160"/>
            <a:ext cx="4502160" cy="1440"/>
          </a:xfrm>
          <a:custGeom>
            <a:avLst/>
            <a:gdLst/>
            <a:ahLst/>
            <a:rect l="l" t="t" r="r" b="b"/>
            <a:pathLst>
              <a:path w="11454" h="10000">
                <a:moveTo>
                  <a:pt x="0" y="10000"/>
                </a:moveTo>
                <a:cubicBezTo>
                  <a:pt x="5557" y="6667"/>
                  <a:pt x="5897" y="3333"/>
                  <a:pt x="11454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5: Dél-Pest–Dél-Buda fél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37"/>
          <p:cNvSpPr/>
          <p:nvPr/>
        </p:nvSpPr>
        <p:spPr>
          <a:xfrm rot="18900000">
            <a:off x="3581280" y="26366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Box 38"/>
          <p:cNvSpPr/>
          <p:nvPr/>
        </p:nvSpPr>
        <p:spPr>
          <a:xfrm rot="18900000">
            <a:off x="4079160" y="2927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 Box 40"/>
          <p:cNvSpPr/>
          <p:nvPr/>
        </p:nvSpPr>
        <p:spPr>
          <a:xfrm rot="18900000">
            <a:off x="6267240" y="309204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3"/>
          <p:cNvSpPr/>
          <p:nvPr/>
        </p:nvSpPr>
        <p:spPr>
          <a:xfrm rot="18900000">
            <a:off x="3008160" y="2123640"/>
            <a:ext cx="37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Oval 51"/>
          <p:cNvSpPr/>
          <p:nvPr/>
        </p:nvSpPr>
        <p:spPr>
          <a:xfrm>
            <a:off x="3962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Oval 23"/>
          <p:cNvSpPr/>
          <p:nvPr/>
        </p:nvSpPr>
        <p:spPr>
          <a:xfrm>
            <a:off x="4321080" y="361152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41"/>
          <p:cNvSpPr/>
          <p:nvPr/>
        </p:nvSpPr>
        <p:spPr>
          <a:xfrm rot="18900000">
            <a:off x="4803840" y="2679480"/>
            <a:ext cx="22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Nádorkert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41"/>
          <p:cNvSpPr/>
          <p:nvPr/>
        </p:nvSpPr>
        <p:spPr>
          <a:xfrm rot="18900000">
            <a:off x="5000760" y="232236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S3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és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vasúti-viszonylatok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23"/>
          <p:cNvSpPr/>
          <p:nvPr/>
        </p:nvSpPr>
        <p:spPr>
          <a:xfrm>
            <a:off x="541980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23"/>
          <p:cNvSpPr/>
          <p:nvPr/>
        </p:nvSpPr>
        <p:spPr>
          <a:xfrm>
            <a:off x="4700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Oval 23"/>
          <p:cNvSpPr/>
          <p:nvPr/>
        </p:nvSpPr>
        <p:spPr>
          <a:xfrm>
            <a:off x="5084640" y="36115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3900600" y="4073400"/>
            <a:ext cx="331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3618000" y="4363920"/>
            <a:ext cx="13320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50"/>
          <p:cNvSpPr/>
          <p:nvPr/>
        </p:nvSpPr>
        <p:spPr>
          <a:xfrm>
            <a:off x="3619440" y="4041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Oval 24"/>
          <p:cNvSpPr/>
          <p:nvPr/>
        </p:nvSpPr>
        <p:spPr>
          <a:xfrm>
            <a:off x="3619440" y="4205160"/>
            <a:ext cx="1317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50"/>
          <p:cNvSpPr/>
          <p:nvPr/>
        </p:nvSpPr>
        <p:spPr>
          <a:xfrm flipV="1">
            <a:off x="6424560" y="361080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 Box 39"/>
          <p:cNvSpPr/>
          <p:nvPr/>
        </p:nvSpPr>
        <p:spPr>
          <a:xfrm rot="18900000">
            <a:off x="4325400" y="2558520"/>
            <a:ext cx="25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0"/>
          <p:cNvSpPr/>
          <p:nvPr/>
        </p:nvSpPr>
        <p:spPr>
          <a:xfrm rot="18900000">
            <a:off x="5839560" y="29286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7577280" y="354960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3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361008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96920" y="925560"/>
            <a:ext cx="33112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 fejlesztése, egy újabb elővárosi viszonylat bevon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alacsony kihasználtságú S30-as viszonylat felváltás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Távolsági csatlakozások tökéletesítése a G43-mal félórás ütem, egy órával csökkenő csatlakozás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ala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é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40"/>
          <p:cNvSpPr/>
          <p:nvPr/>
        </p:nvSpPr>
        <p:spPr>
          <a:xfrm rot="18900000">
            <a:off x="6547320" y="3066480"/>
            <a:ext cx="11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0"/>
          <p:cNvSpPr/>
          <p:nvPr/>
        </p:nvSpPr>
        <p:spPr>
          <a:xfrm flipV="1">
            <a:off x="70707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50"/>
          <p:cNvSpPr/>
          <p:nvPr/>
        </p:nvSpPr>
        <p:spPr>
          <a:xfrm flipV="1">
            <a:off x="6100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50"/>
          <p:cNvSpPr/>
          <p:nvPr/>
        </p:nvSpPr>
        <p:spPr>
          <a:xfrm flipV="1">
            <a:off x="74343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50"/>
          <p:cNvSpPr/>
          <p:nvPr/>
        </p:nvSpPr>
        <p:spPr>
          <a:xfrm flipV="1">
            <a:off x="772164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Oval 50"/>
          <p:cNvSpPr/>
          <p:nvPr/>
        </p:nvSpPr>
        <p:spPr>
          <a:xfrm>
            <a:off x="36133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51"/>
          <p:cNvSpPr/>
          <p:nvPr/>
        </p:nvSpPr>
        <p:spPr>
          <a:xfrm>
            <a:off x="3968640" y="3763800"/>
            <a:ext cx="1447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23"/>
          <p:cNvSpPr/>
          <p:nvPr/>
        </p:nvSpPr>
        <p:spPr>
          <a:xfrm>
            <a:off x="4324320" y="3763800"/>
            <a:ext cx="1429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23"/>
          <p:cNvSpPr/>
          <p:nvPr/>
        </p:nvSpPr>
        <p:spPr>
          <a:xfrm>
            <a:off x="4708440" y="3763800"/>
            <a:ext cx="1429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23"/>
          <p:cNvSpPr/>
          <p:nvPr/>
        </p:nvSpPr>
        <p:spPr>
          <a:xfrm>
            <a:off x="5086440" y="376380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541980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50"/>
          <p:cNvSpPr/>
          <p:nvPr/>
        </p:nvSpPr>
        <p:spPr>
          <a:xfrm flipV="1">
            <a:off x="61009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0"/>
          <p:cNvSpPr/>
          <p:nvPr/>
        </p:nvSpPr>
        <p:spPr>
          <a:xfrm flipV="1">
            <a:off x="5776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50"/>
          <p:cNvSpPr/>
          <p:nvPr/>
        </p:nvSpPr>
        <p:spPr>
          <a:xfrm flipV="1">
            <a:off x="6750000" y="376164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31"/>
          <p:cNvSpPr/>
          <p:nvPr/>
        </p:nvSpPr>
        <p:spPr>
          <a:xfrm>
            <a:off x="7650000" y="38257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Oval 50"/>
          <p:cNvSpPr/>
          <p:nvPr/>
        </p:nvSpPr>
        <p:spPr>
          <a:xfrm flipV="1">
            <a:off x="8107200" y="360936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50"/>
          <p:cNvSpPr/>
          <p:nvPr/>
        </p:nvSpPr>
        <p:spPr>
          <a:xfrm flipV="1">
            <a:off x="8107200" y="3763800"/>
            <a:ext cx="1447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40"/>
          <p:cNvSpPr/>
          <p:nvPr/>
        </p:nvSpPr>
        <p:spPr>
          <a:xfrm rot="18900000">
            <a:off x="6906240" y="30682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40"/>
          <p:cNvSpPr/>
          <p:nvPr/>
        </p:nvSpPr>
        <p:spPr>
          <a:xfrm rot="18900000">
            <a:off x="5590800" y="2864880"/>
            <a:ext cx="16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ertfalva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8, 41, 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40"/>
          <p:cNvSpPr/>
          <p:nvPr/>
        </p:nvSpPr>
        <p:spPr>
          <a:xfrm rot="18900000">
            <a:off x="7597080" y="316044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felső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40"/>
          <p:cNvSpPr/>
          <p:nvPr/>
        </p:nvSpPr>
        <p:spPr>
          <a:xfrm rot="18900000">
            <a:off x="7874280" y="29185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árnok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40"/>
          <p:cNvSpPr/>
          <p:nvPr/>
        </p:nvSpPr>
        <p:spPr>
          <a:xfrm rot="18900000">
            <a:off x="7285680" y="309672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alsó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87480" y="4613400"/>
            <a:ext cx="2046240" cy="779400"/>
          </a:xfrm>
          <a:prstGeom prst="rect">
            <a:avLst/>
          </a:prstGeom>
          <a:ln w="0">
            <a:noFill/>
          </a:ln>
        </p:spPr>
      </p:pic>
      <p:sp>
        <p:nvSpPr>
          <p:cNvPr id="918" name="Freeform 49"/>
          <p:cNvSpPr/>
          <p:nvPr/>
        </p:nvSpPr>
        <p:spPr>
          <a:xfrm>
            <a:off x="144360" y="5803920"/>
            <a:ext cx="8820360" cy="1440"/>
          </a:xfrm>
          <a:custGeom>
            <a:avLst/>
            <a:gdLst>
              <a:gd name="textAreaLeft" fmla="*/ 0 w 8820360"/>
              <a:gd name="textAreaRight" fmla="*/ 8820720 w 882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1102" h="10000">
                <a:moveTo>
                  <a:pt x="0" y="10000"/>
                </a:moveTo>
                <a:cubicBezTo>
                  <a:pt x="4317" y="6667"/>
                  <a:pt x="6785" y="3333"/>
                  <a:pt x="1110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Észak-Budapest–Dél-P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 Box 29"/>
          <p:cNvSpPr/>
          <p:nvPr/>
        </p:nvSpPr>
        <p:spPr>
          <a:xfrm rot="18900000">
            <a:off x="127908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S7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 Box 30"/>
          <p:cNvSpPr/>
          <p:nvPr/>
        </p:nvSpPr>
        <p:spPr>
          <a:xfrm rot="18900000">
            <a:off x="1596960" y="494352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incum fels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31"/>
          <p:cNvSpPr/>
          <p:nvPr/>
        </p:nvSpPr>
        <p:spPr>
          <a:xfrm rot="18900000">
            <a:off x="344088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alota –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7, 7E, 107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32"/>
          <p:cNvSpPr/>
          <p:nvPr/>
        </p:nvSpPr>
        <p:spPr>
          <a:xfrm rot="18900000">
            <a:off x="3772080" y="49762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ákosszentmihá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33"/>
          <p:cNvSpPr/>
          <p:nvPr/>
        </p:nvSpPr>
        <p:spPr>
          <a:xfrm rot="18900000">
            <a:off x="4115160" y="489240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falva – </a:t>
            </a:r>
            <a:r>
              <a:rPr b="1" lang="hu-HU" sz="1000" spc="-1" strike="noStrike">
                <a:solidFill>
                  <a:srgbClr val="00b050"/>
                </a:solidFill>
                <a:latin typeface="Arial"/>
              </a:rPr>
              <a:t>H8, H9, (M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36"/>
          <p:cNvSpPr/>
          <p:nvPr/>
        </p:nvSpPr>
        <p:spPr>
          <a:xfrm rot="18900000">
            <a:off x="4322880" y="4527360"/>
            <a:ext cx="29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Éles sarok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28, 37, 62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Box 37"/>
          <p:cNvSpPr/>
          <p:nvPr/>
        </p:nvSpPr>
        <p:spPr>
          <a:xfrm rot="18900000">
            <a:off x="5114880" y="47415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M) 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 Box 39"/>
          <p:cNvSpPr/>
          <p:nvPr/>
        </p:nvSpPr>
        <p:spPr>
          <a:xfrm rot="18900000">
            <a:off x="5935680" y="4760640"/>
            <a:ext cx="23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özvágóhí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 Box 40"/>
          <p:cNvSpPr/>
          <p:nvPr/>
        </p:nvSpPr>
        <p:spPr>
          <a:xfrm rot="18900000">
            <a:off x="64339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erzsébet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41"/>
          <p:cNvSpPr/>
          <p:nvPr/>
        </p:nvSpPr>
        <p:spPr>
          <a:xfrm rot="18900000">
            <a:off x="679536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 Box 43"/>
          <p:cNvSpPr/>
          <p:nvPr/>
        </p:nvSpPr>
        <p:spPr>
          <a:xfrm rot="18900000">
            <a:off x="4660920" y="451944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Kőbánya felső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7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 Box 45"/>
          <p:cNvSpPr/>
          <p:nvPr/>
        </p:nvSpPr>
        <p:spPr>
          <a:xfrm rot="18900000">
            <a:off x="199980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est 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46"/>
          <p:cNvSpPr/>
          <p:nvPr/>
        </p:nvSpPr>
        <p:spPr>
          <a:xfrm rot="18900000">
            <a:off x="23587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gyalföld –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47"/>
          <p:cNvSpPr/>
          <p:nvPr/>
        </p:nvSpPr>
        <p:spPr>
          <a:xfrm rot="18900000">
            <a:off x="2630520" y="483372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bfbfbf"/>
                </a:solidFill>
                <a:latin typeface="Arial"/>
              </a:rPr>
              <a:t>Marcheggi híd –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0, </a:t>
            </a:r>
            <a:r>
              <a:rPr b="1" lang="hu-HU" sz="1000" spc="-1" strike="noStrike">
                <a:solidFill>
                  <a:srgbClr val="92d050"/>
                </a:solidFill>
                <a:latin typeface="Arial"/>
              </a:rPr>
              <a:t>G70,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48"/>
          <p:cNvSpPr/>
          <p:nvPr/>
        </p:nvSpPr>
        <p:spPr>
          <a:xfrm rot="18900000">
            <a:off x="308052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újhely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62, 6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Oval 51"/>
          <p:cNvSpPr/>
          <p:nvPr/>
        </p:nvSpPr>
        <p:spPr>
          <a:xfrm>
            <a:off x="55022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58"/>
          <p:cNvSpPr/>
          <p:nvPr/>
        </p:nvSpPr>
        <p:spPr>
          <a:xfrm>
            <a:off x="514188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Oval 23"/>
          <p:cNvSpPr/>
          <p:nvPr/>
        </p:nvSpPr>
        <p:spPr>
          <a:xfrm>
            <a:off x="334152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4"/>
          <p:cNvSpPr/>
          <p:nvPr/>
        </p:nvSpPr>
        <p:spPr>
          <a:xfrm>
            <a:off x="2981160" y="57326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23"/>
          <p:cNvSpPr/>
          <p:nvPr/>
        </p:nvSpPr>
        <p:spPr>
          <a:xfrm>
            <a:off x="370188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23"/>
          <p:cNvSpPr/>
          <p:nvPr/>
        </p:nvSpPr>
        <p:spPr>
          <a:xfrm>
            <a:off x="4421160" y="573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478152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44360" y="3138480"/>
            <a:ext cx="882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2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3"/>
          <p:cNvSpPr/>
          <p:nvPr/>
        </p:nvSpPr>
        <p:spPr>
          <a:xfrm>
            <a:off x="6303960" y="573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18"/>
          <p:cNvSpPr/>
          <p:nvPr/>
        </p:nvSpPr>
        <p:spPr>
          <a:xfrm>
            <a:off x="820800" y="3789360"/>
            <a:ext cx="288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Az első ütembe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3"/>
          <p:cNvSpPr/>
          <p:nvPr/>
        </p:nvSpPr>
        <p:spPr>
          <a:xfrm>
            <a:off x="539640" y="424332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50"/>
          <p:cNvSpPr/>
          <p:nvPr/>
        </p:nvSpPr>
        <p:spPr>
          <a:xfrm>
            <a:off x="539640" y="393372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24"/>
          <p:cNvSpPr/>
          <p:nvPr/>
        </p:nvSpPr>
        <p:spPr>
          <a:xfrm>
            <a:off x="539640" y="409104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50"/>
          <p:cNvSpPr/>
          <p:nvPr/>
        </p:nvSpPr>
        <p:spPr>
          <a:xfrm>
            <a:off x="539640" y="378936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50"/>
          <p:cNvSpPr/>
          <p:nvPr/>
        </p:nvSpPr>
        <p:spPr>
          <a:xfrm flipV="1">
            <a:off x="668340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50"/>
          <p:cNvSpPr/>
          <p:nvPr/>
        </p:nvSpPr>
        <p:spPr>
          <a:xfrm flipV="1">
            <a:off x="704376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50"/>
          <p:cNvSpPr/>
          <p:nvPr/>
        </p:nvSpPr>
        <p:spPr>
          <a:xfrm flipV="1">
            <a:off x="2629080" y="5731920"/>
            <a:ext cx="142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50"/>
          <p:cNvSpPr/>
          <p:nvPr/>
        </p:nvSpPr>
        <p:spPr>
          <a:xfrm flipV="1">
            <a:off x="226836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50"/>
          <p:cNvSpPr/>
          <p:nvPr/>
        </p:nvSpPr>
        <p:spPr>
          <a:xfrm flipV="1">
            <a:off x="190800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50"/>
          <p:cNvSpPr/>
          <p:nvPr/>
        </p:nvSpPr>
        <p:spPr>
          <a:xfrm flipV="1">
            <a:off x="154764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50"/>
          <p:cNvSpPr/>
          <p:nvPr/>
        </p:nvSpPr>
        <p:spPr>
          <a:xfrm flipV="1">
            <a:off x="4068720" y="57301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7313760" y="5578560"/>
            <a:ext cx="14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nszentmiklós-T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324000" y="54198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7866000" y="5424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611280" y="1141560"/>
            <a:ext cx="7148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Átlós „munkáskörúti” városi-vasúti viszonylat, a 2-es vonal piliscsabai betétjáratainak és a 150-es vonal kunszetmiklós-tassi személyvonatainak összekötésé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Négy új megállóhely (Pestújhely, Újpalota, Rákosfalva és Közvágóhíd) megépít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Marcheggi híd és a 2-es vonal villamosí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pest-Nyugati–Rákospalota-Újpest szakasz átépítése* alatt alternatív útirány az esztergomi vonatoknak. (Nyugati pályaudvar  és csatlakozó vonalszakaszai 1/a ü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18"/>
          <p:cNvSpPr/>
          <p:nvPr/>
        </p:nvSpPr>
        <p:spPr>
          <a:xfrm flipV="1" rot="10800000">
            <a:off x="2279160" y="5950080"/>
            <a:ext cx="4884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yugati pályaudvar és csatlakozó vonalszakaszai 1/a ütem várható kezdés 2015-b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zövegdoboz 31"/>
          <p:cNvSpPr/>
          <p:nvPr/>
        </p:nvSpPr>
        <p:spPr>
          <a:xfrm rot="21397200">
            <a:off x="6593760" y="1413000"/>
            <a:ext cx="2297160" cy="733320"/>
          </a:xfrm>
          <a:prstGeom prst="rect">
            <a:avLst/>
          </a:prstGeom>
          <a:noFill/>
          <a:ln cap="rnd" w="19080">
            <a:solidFill>
              <a:srgbClr val="ad5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sak megállóhely építéssel megvalósíthat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18"/>
          <p:cNvSpPr/>
          <p:nvPr/>
        </p:nvSpPr>
        <p:spPr>
          <a:xfrm rot="21397200">
            <a:off x="6516720" y="1484280"/>
            <a:ext cx="2433600" cy="63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 Box 43"/>
          <p:cNvSpPr/>
          <p:nvPr/>
        </p:nvSpPr>
        <p:spPr>
          <a:xfrm rot="18900000">
            <a:off x="5429160" y="451800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5910120" y="57308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49"/>
          <p:cNvSpPr/>
          <p:nvPr/>
        </p:nvSpPr>
        <p:spPr>
          <a:xfrm>
            <a:off x="2476440" y="6164280"/>
            <a:ext cx="4029120" cy="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10000" y="0"/>
                </a:lnTo>
              </a:path>
            </a:pathLst>
          </a:custGeom>
          <a:noFill/>
          <a:ln w="76320">
            <a:solidFill>
              <a:srgbClr val="0070c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Pilisvörösvár–Margit híd(–Batthyány té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9"/>
          <p:cNvSpPr/>
          <p:nvPr/>
        </p:nvSpPr>
        <p:spPr>
          <a:xfrm rot="18900000">
            <a:off x="367344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30"/>
          <p:cNvSpPr/>
          <p:nvPr/>
        </p:nvSpPr>
        <p:spPr>
          <a:xfrm rot="18900000">
            <a:off x="3990960" y="530388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zásdűl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31"/>
          <p:cNvSpPr/>
          <p:nvPr/>
        </p:nvSpPr>
        <p:spPr>
          <a:xfrm rot="18900000">
            <a:off x="5440320" y="5302080"/>
            <a:ext cx="18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épvölgy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32"/>
          <p:cNvSpPr/>
          <p:nvPr/>
        </p:nvSpPr>
        <p:spPr>
          <a:xfrm rot="18900000">
            <a:off x="5678640" y="500508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git híd, Budai hídfő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, 6, 19, 41, 6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5"/>
          <p:cNvSpPr/>
          <p:nvPr/>
        </p:nvSpPr>
        <p:spPr>
          <a:xfrm rot="18900000">
            <a:off x="439416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atorigá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46"/>
          <p:cNvSpPr/>
          <p:nvPr/>
        </p:nvSpPr>
        <p:spPr>
          <a:xfrm rot="18900000">
            <a:off x="4734720" y="5365800"/>
            <a:ext cx="16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entlélek tér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8"/>
          <p:cNvSpPr/>
          <p:nvPr/>
        </p:nvSpPr>
        <p:spPr>
          <a:xfrm rot="18900000">
            <a:off x="5125320" y="5408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ímár ut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258920" y="3868560"/>
            <a:ext cx="691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73</a:t>
            </a: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73160" y="4581360"/>
            <a:ext cx="28861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Oval 50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Oval 50"/>
          <p:cNvSpPr/>
          <p:nvPr/>
        </p:nvSpPr>
        <p:spPr>
          <a:xfrm flipV="1">
            <a:off x="502128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50"/>
          <p:cNvSpPr/>
          <p:nvPr/>
        </p:nvSpPr>
        <p:spPr>
          <a:xfrm flipV="1">
            <a:off x="466236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Oval 50"/>
          <p:cNvSpPr/>
          <p:nvPr/>
        </p:nvSpPr>
        <p:spPr>
          <a:xfrm flipV="1">
            <a:off x="430200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Oval 50"/>
          <p:cNvSpPr/>
          <p:nvPr/>
        </p:nvSpPr>
        <p:spPr>
          <a:xfrm flipV="1">
            <a:off x="394164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2655720" y="57783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S7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vörös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431640" y="1197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MÁV-START viszonylat HÉV-vonal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KK-val való megegyezés az üzemeltetés és az értékesítés feltételeirő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atthyány téri továbbvezetés feltételeinek tisztáz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egyvágányú Újpesti vasúti híd  alacsonyabb kapaci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Pilis térségéből Budára utazók igényeinek jobb kiszolgál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Oval 50"/>
          <p:cNvSpPr/>
          <p:nvPr/>
        </p:nvSpPr>
        <p:spPr>
          <a:xfrm flipV="1">
            <a:off x="575136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Oval 50"/>
          <p:cNvSpPr/>
          <p:nvPr/>
        </p:nvSpPr>
        <p:spPr>
          <a:xfrm flipV="1">
            <a:off x="539280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29"/>
          <p:cNvSpPr/>
          <p:nvPr/>
        </p:nvSpPr>
        <p:spPr>
          <a:xfrm rot="18900000">
            <a:off x="331308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nyvölgy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50"/>
          <p:cNvSpPr/>
          <p:nvPr/>
        </p:nvSpPr>
        <p:spPr>
          <a:xfrm flipV="1">
            <a:off x="358128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C:\Documents and Settings\foldiak.janos\Dokumentumok\Képek\106.jpg"/>
          <p:cNvPicPr/>
          <p:nvPr/>
        </p:nvPicPr>
        <p:blipFill>
          <a:blip r:embed="rId1"/>
          <a:stretch/>
        </p:blipFill>
        <p:spPr>
          <a:xfrm>
            <a:off x="4643280" y="1341360"/>
            <a:ext cx="3851280" cy="2016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45"/>
          <p:cNvSpPr/>
          <p:nvPr/>
        </p:nvSpPr>
        <p:spPr>
          <a:xfrm rot="18900000">
            <a:off x="6176880" y="527976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hyány tér –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,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 19, 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Egyenes összekötő 2"/>
          <p:cNvSpPr/>
          <p:nvPr/>
        </p:nvSpPr>
        <p:spPr>
          <a:xfrm>
            <a:off x="6184800" y="6164280"/>
            <a:ext cx="3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50"/>
          <p:cNvSpPr/>
          <p:nvPr/>
        </p:nvSpPr>
        <p:spPr>
          <a:xfrm flipV="1">
            <a:off x="6113520" y="60904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50"/>
          <p:cNvSpPr/>
          <p:nvPr/>
        </p:nvSpPr>
        <p:spPr>
          <a:xfrm flipV="1">
            <a:off x="649764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zövegdoboz 31"/>
          <p:cNvSpPr/>
          <p:nvPr/>
        </p:nvSpPr>
        <p:spPr>
          <a:xfrm rot="20464800">
            <a:off x="739080" y="5087880"/>
            <a:ext cx="1746360" cy="52020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Feltételek teljesíthető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AutoShape 18"/>
          <p:cNvSpPr/>
          <p:nvPr/>
        </p:nvSpPr>
        <p:spPr>
          <a:xfrm rot="20464800">
            <a:off x="663120" y="5022360"/>
            <a:ext cx="190656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B380-D8F6-4505-B9C5-8C82E7A0A4D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8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"/>
          <p:cNvGrpSpPr/>
          <p:nvPr/>
        </p:nvGrpSpPr>
        <p:grpSpPr>
          <a:xfrm>
            <a:off x="766800" y="765000"/>
            <a:ext cx="7692840" cy="5400720"/>
            <a:chOff x="766800" y="765000"/>
            <a:chExt cx="7692840" cy="5400720"/>
          </a:xfrm>
        </p:grpSpPr>
        <p:sp>
          <p:nvSpPr>
            <p:cNvPr id="997" name="AutoShape 181"/>
            <p:cNvSpPr/>
            <p:nvPr/>
          </p:nvSpPr>
          <p:spPr>
            <a:xfrm>
              <a:off x="766800" y="765000"/>
              <a:ext cx="76928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80"/>
            <p:cNvSpPr/>
            <p:nvPr/>
          </p:nvSpPr>
          <p:spPr>
            <a:xfrm>
              <a:off x="2338920" y="887040"/>
              <a:ext cx="1938240" cy="14616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1453" h="1194">
                  <a:moveTo>
                    <a:pt x="0" y="0"/>
                  </a:moveTo>
                  <a:cubicBezTo>
                    <a:pt x="89" y="52"/>
                    <a:pt x="399" y="242"/>
                    <a:pt x="542" y="309"/>
                  </a:cubicBezTo>
                  <a:cubicBezTo>
                    <a:pt x="685" y="376"/>
                    <a:pt x="747" y="359"/>
                    <a:pt x="860" y="400"/>
                  </a:cubicBezTo>
                  <a:cubicBezTo>
                    <a:pt x="973" y="441"/>
                    <a:pt x="1137" y="507"/>
                    <a:pt x="1220" y="556"/>
                  </a:cubicBezTo>
                  <a:cubicBezTo>
                    <a:pt x="1303" y="605"/>
                    <a:pt x="1322" y="642"/>
                    <a:pt x="1360" y="692"/>
                  </a:cubicBezTo>
                  <a:cubicBezTo>
                    <a:pt x="1398" y="742"/>
                    <a:pt x="1453" y="772"/>
                    <a:pt x="1448" y="856"/>
                  </a:cubicBezTo>
                  <a:cubicBezTo>
                    <a:pt x="1443" y="940"/>
                    <a:pt x="1356" y="1124"/>
                    <a:pt x="1332" y="11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179"/>
            <p:cNvSpPr/>
            <p:nvPr/>
          </p:nvSpPr>
          <p:spPr>
            <a:xfrm>
              <a:off x="3546360" y="2369880"/>
              <a:ext cx="586080" cy="3938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39" h="322">
                  <a:moveTo>
                    <a:pt x="0" y="322"/>
                  </a:moveTo>
                  <a:cubicBezTo>
                    <a:pt x="73" y="268"/>
                    <a:pt x="348" y="67"/>
                    <a:pt x="439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178"/>
            <p:cNvSpPr/>
            <p:nvPr/>
          </p:nvSpPr>
          <p:spPr>
            <a:xfrm>
              <a:off x="4179960" y="1430640"/>
              <a:ext cx="360360" cy="93924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372" h="1068">
                  <a:moveTo>
                    <a:pt x="0" y="1068"/>
                  </a:moveTo>
                  <a:cubicBezTo>
                    <a:pt x="19" y="1022"/>
                    <a:pt x="81" y="882"/>
                    <a:pt x="115" y="800"/>
                  </a:cubicBezTo>
                  <a:cubicBezTo>
                    <a:pt x="149" y="718"/>
                    <a:pt x="170" y="672"/>
                    <a:pt x="206" y="574"/>
                  </a:cubicBezTo>
                  <a:cubicBezTo>
                    <a:pt x="242" y="476"/>
                    <a:pt x="302" y="306"/>
                    <a:pt x="330" y="210"/>
                  </a:cubicBezTo>
                  <a:cubicBezTo>
                    <a:pt x="358" y="114"/>
                    <a:pt x="363" y="44"/>
                    <a:pt x="372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77"/>
            <p:cNvSpPr/>
            <p:nvPr/>
          </p:nvSpPr>
          <p:spPr>
            <a:xfrm>
              <a:off x="3588120" y="2547360"/>
              <a:ext cx="1674720" cy="140868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1256" h="1151">
                  <a:moveTo>
                    <a:pt x="0" y="215"/>
                  </a:moveTo>
                  <a:cubicBezTo>
                    <a:pt x="37" y="189"/>
                    <a:pt x="164" y="92"/>
                    <a:pt x="220" y="59"/>
                  </a:cubicBezTo>
                  <a:cubicBezTo>
                    <a:pt x="276" y="26"/>
                    <a:pt x="302" y="20"/>
                    <a:pt x="336" y="15"/>
                  </a:cubicBezTo>
                  <a:cubicBezTo>
                    <a:pt x="370" y="10"/>
                    <a:pt x="387" y="0"/>
                    <a:pt x="424" y="27"/>
                  </a:cubicBezTo>
                  <a:cubicBezTo>
                    <a:pt x="461" y="54"/>
                    <a:pt x="499" y="114"/>
                    <a:pt x="559" y="177"/>
                  </a:cubicBezTo>
                  <a:cubicBezTo>
                    <a:pt x="619" y="240"/>
                    <a:pt x="741" y="351"/>
                    <a:pt x="786" y="404"/>
                  </a:cubicBezTo>
                  <a:cubicBezTo>
                    <a:pt x="831" y="457"/>
                    <a:pt x="808" y="435"/>
                    <a:pt x="831" y="495"/>
                  </a:cubicBezTo>
                  <a:cubicBezTo>
                    <a:pt x="854" y="555"/>
                    <a:pt x="882" y="678"/>
                    <a:pt x="922" y="767"/>
                  </a:cubicBezTo>
                  <a:cubicBezTo>
                    <a:pt x="962" y="856"/>
                    <a:pt x="1016" y="967"/>
                    <a:pt x="1072" y="1031"/>
                  </a:cubicBezTo>
                  <a:cubicBezTo>
                    <a:pt x="1128" y="1095"/>
                    <a:pt x="1218" y="1126"/>
                    <a:pt x="1256" y="115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76"/>
            <p:cNvSpPr/>
            <p:nvPr/>
          </p:nvSpPr>
          <p:spPr>
            <a:xfrm>
              <a:off x="5241960" y="3970440"/>
              <a:ext cx="1635120" cy="9766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26" h="798">
                  <a:moveTo>
                    <a:pt x="0" y="0"/>
                  </a:moveTo>
                  <a:cubicBezTo>
                    <a:pt x="69" y="32"/>
                    <a:pt x="295" y="146"/>
                    <a:pt x="408" y="193"/>
                  </a:cubicBezTo>
                  <a:cubicBezTo>
                    <a:pt x="521" y="240"/>
                    <a:pt x="597" y="239"/>
                    <a:pt x="680" y="284"/>
                  </a:cubicBezTo>
                  <a:cubicBezTo>
                    <a:pt x="763" y="329"/>
                    <a:pt x="816" y="380"/>
                    <a:pt x="907" y="466"/>
                  </a:cubicBezTo>
                  <a:cubicBezTo>
                    <a:pt x="998" y="552"/>
                    <a:pt x="1160" y="729"/>
                    <a:pt x="1226" y="79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32440" y="3846240"/>
              <a:ext cx="1082880" cy="1634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12" h="134">
                  <a:moveTo>
                    <a:pt x="0" y="42"/>
                  </a:moveTo>
                  <a:cubicBezTo>
                    <a:pt x="29" y="36"/>
                    <a:pt x="122" y="12"/>
                    <a:pt x="174" y="6"/>
                  </a:cubicBezTo>
                  <a:cubicBezTo>
                    <a:pt x="226" y="0"/>
                    <a:pt x="260" y="2"/>
                    <a:pt x="312" y="6"/>
                  </a:cubicBezTo>
                  <a:cubicBezTo>
                    <a:pt x="364" y="10"/>
                    <a:pt x="403" y="9"/>
                    <a:pt x="486" y="30"/>
                  </a:cubicBezTo>
                  <a:cubicBezTo>
                    <a:pt x="569" y="51"/>
                    <a:pt x="744" y="112"/>
                    <a:pt x="812" y="13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74"/>
            <p:cNvSpPr/>
            <p:nvPr/>
          </p:nvSpPr>
          <p:spPr>
            <a:xfrm>
              <a:off x="3978360" y="3930480"/>
              <a:ext cx="841680" cy="183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631" h="1497">
                  <a:moveTo>
                    <a:pt x="85" y="0"/>
                  </a:moveTo>
                  <a:cubicBezTo>
                    <a:pt x="75" y="5"/>
                    <a:pt x="40" y="20"/>
                    <a:pt x="27" y="33"/>
                  </a:cubicBezTo>
                  <a:cubicBezTo>
                    <a:pt x="14" y="46"/>
                    <a:pt x="10" y="58"/>
                    <a:pt x="7" y="77"/>
                  </a:cubicBezTo>
                  <a:cubicBezTo>
                    <a:pt x="4" y="96"/>
                    <a:pt x="0" y="106"/>
                    <a:pt x="7" y="145"/>
                  </a:cubicBezTo>
                  <a:cubicBezTo>
                    <a:pt x="14" y="184"/>
                    <a:pt x="28" y="231"/>
                    <a:pt x="51" y="313"/>
                  </a:cubicBezTo>
                  <a:cubicBezTo>
                    <a:pt x="74" y="395"/>
                    <a:pt x="96" y="508"/>
                    <a:pt x="147" y="637"/>
                  </a:cubicBezTo>
                  <a:cubicBezTo>
                    <a:pt x="198" y="766"/>
                    <a:pt x="276" y="945"/>
                    <a:pt x="357" y="1088"/>
                  </a:cubicBezTo>
                  <a:cubicBezTo>
                    <a:pt x="438" y="1231"/>
                    <a:pt x="574" y="1412"/>
                    <a:pt x="631" y="149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73"/>
            <p:cNvSpPr/>
            <p:nvPr/>
          </p:nvSpPr>
          <p:spPr>
            <a:xfrm>
              <a:off x="4636440" y="553932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2"/>
            <p:cNvSpPr/>
            <p:nvPr/>
          </p:nvSpPr>
          <p:spPr>
            <a:xfrm>
              <a:off x="4118760" y="467316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Oval 171"/>
            <p:cNvSpPr/>
            <p:nvPr/>
          </p:nvSpPr>
          <p:spPr>
            <a:xfrm>
              <a:off x="3998520" y="4306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Oval 170"/>
            <p:cNvSpPr/>
            <p:nvPr/>
          </p:nvSpPr>
          <p:spPr>
            <a:xfrm>
              <a:off x="6669360" y="47516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Oval 169"/>
            <p:cNvSpPr/>
            <p:nvPr/>
          </p:nvSpPr>
          <p:spPr>
            <a:xfrm>
              <a:off x="6365520" y="446760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Oval 168"/>
            <p:cNvSpPr/>
            <p:nvPr/>
          </p:nvSpPr>
          <p:spPr>
            <a:xfrm>
              <a:off x="5757480" y="41644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7"/>
            <p:cNvSpPr/>
            <p:nvPr/>
          </p:nvSpPr>
          <p:spPr>
            <a:xfrm>
              <a:off x="5167080" y="4020120"/>
              <a:ext cx="902160" cy="167580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676" h="1370">
                  <a:moveTo>
                    <a:pt x="40" y="0"/>
                  </a:moveTo>
                  <a:cubicBezTo>
                    <a:pt x="60" y="14"/>
                    <a:pt x="134" y="46"/>
                    <a:pt x="160" y="88"/>
                  </a:cubicBezTo>
                  <a:cubicBezTo>
                    <a:pt x="186" y="130"/>
                    <a:pt x="209" y="161"/>
                    <a:pt x="196" y="252"/>
                  </a:cubicBezTo>
                  <a:cubicBezTo>
                    <a:pt x="183" y="343"/>
                    <a:pt x="0" y="450"/>
                    <a:pt x="80" y="636"/>
                  </a:cubicBezTo>
                  <a:cubicBezTo>
                    <a:pt x="160" y="822"/>
                    <a:pt x="552" y="1217"/>
                    <a:pt x="676" y="137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Oval 166"/>
            <p:cNvSpPr/>
            <p:nvPr/>
          </p:nvSpPr>
          <p:spPr>
            <a:xfrm>
              <a:off x="5122080" y="3885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Oval 165"/>
            <p:cNvSpPr/>
            <p:nvPr/>
          </p:nvSpPr>
          <p:spPr>
            <a:xfrm>
              <a:off x="5308920" y="43596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Oval 164"/>
            <p:cNvSpPr/>
            <p:nvPr/>
          </p:nvSpPr>
          <p:spPr>
            <a:xfrm>
              <a:off x="5639760" y="526032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Oval 163"/>
            <p:cNvSpPr/>
            <p:nvPr/>
          </p:nvSpPr>
          <p:spPr>
            <a:xfrm>
              <a:off x="5884560" y="55202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2"/>
            <p:cNvSpPr/>
            <p:nvPr/>
          </p:nvSpPr>
          <p:spPr>
            <a:xfrm>
              <a:off x="4147920" y="3349080"/>
              <a:ext cx="837720" cy="504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28" h="412">
                  <a:moveTo>
                    <a:pt x="0" y="412"/>
                  </a:moveTo>
                  <a:cubicBezTo>
                    <a:pt x="48" y="390"/>
                    <a:pt x="223" y="326"/>
                    <a:pt x="288" y="280"/>
                  </a:cubicBezTo>
                  <a:cubicBezTo>
                    <a:pt x="353" y="234"/>
                    <a:pt x="364" y="174"/>
                    <a:pt x="390" y="136"/>
                  </a:cubicBezTo>
                  <a:cubicBezTo>
                    <a:pt x="416" y="98"/>
                    <a:pt x="406" y="75"/>
                    <a:pt x="446" y="52"/>
                  </a:cubicBezTo>
                  <a:cubicBezTo>
                    <a:pt x="486" y="29"/>
                    <a:pt x="555" y="14"/>
                    <a:pt x="62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61"/>
            <p:cNvSpPr/>
            <p:nvPr/>
          </p:nvSpPr>
          <p:spPr>
            <a:xfrm>
              <a:off x="4028400" y="3124440"/>
              <a:ext cx="571680" cy="6753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429" h="551">
                  <a:moveTo>
                    <a:pt x="66" y="551"/>
                  </a:moveTo>
                  <a:cubicBezTo>
                    <a:pt x="105" y="534"/>
                    <a:pt x="246" y="481"/>
                    <a:pt x="300" y="451"/>
                  </a:cubicBezTo>
                  <a:cubicBezTo>
                    <a:pt x="354" y="421"/>
                    <a:pt x="369" y="401"/>
                    <a:pt x="390" y="373"/>
                  </a:cubicBezTo>
                  <a:cubicBezTo>
                    <a:pt x="411" y="345"/>
                    <a:pt x="423" y="314"/>
                    <a:pt x="426" y="283"/>
                  </a:cubicBezTo>
                  <a:cubicBezTo>
                    <a:pt x="429" y="252"/>
                    <a:pt x="425" y="220"/>
                    <a:pt x="408" y="187"/>
                  </a:cubicBezTo>
                  <a:cubicBezTo>
                    <a:pt x="391" y="154"/>
                    <a:pt x="364" y="112"/>
                    <a:pt x="326" y="83"/>
                  </a:cubicBezTo>
                  <a:cubicBezTo>
                    <a:pt x="288" y="54"/>
                    <a:pt x="234" y="26"/>
                    <a:pt x="180" y="13"/>
                  </a:cubicBezTo>
                  <a:cubicBezTo>
                    <a:pt x="126" y="0"/>
                    <a:pt x="37" y="8"/>
                    <a:pt x="0" y="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160"/>
            <p:cNvSpPr/>
            <p:nvPr/>
          </p:nvSpPr>
          <p:spPr>
            <a:xfrm>
              <a:off x="5397840" y="4800240"/>
              <a:ext cx="947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Bivalyré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159"/>
            <p:cNvSpPr/>
            <p:nvPr/>
          </p:nvSpPr>
          <p:spPr>
            <a:xfrm>
              <a:off x="4887360" y="3661920"/>
              <a:ext cx="12060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58"/>
            <p:cNvSpPr/>
            <p:nvPr/>
          </p:nvSpPr>
          <p:spPr>
            <a:xfrm>
              <a:off x="4043880" y="3054240"/>
              <a:ext cx="904680" cy="28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78" h="229">
                  <a:moveTo>
                    <a:pt x="0" y="5"/>
                  </a:moveTo>
                  <a:cubicBezTo>
                    <a:pt x="24" y="5"/>
                    <a:pt x="96" y="0"/>
                    <a:pt x="138" y="5"/>
                  </a:cubicBezTo>
                  <a:cubicBezTo>
                    <a:pt x="180" y="10"/>
                    <a:pt x="217" y="20"/>
                    <a:pt x="252" y="35"/>
                  </a:cubicBezTo>
                  <a:cubicBezTo>
                    <a:pt x="287" y="50"/>
                    <a:pt x="320" y="75"/>
                    <a:pt x="346" y="97"/>
                  </a:cubicBezTo>
                  <a:cubicBezTo>
                    <a:pt x="372" y="119"/>
                    <a:pt x="387" y="144"/>
                    <a:pt x="410" y="165"/>
                  </a:cubicBezTo>
                  <a:cubicBezTo>
                    <a:pt x="433" y="186"/>
                    <a:pt x="450" y="213"/>
                    <a:pt x="482" y="221"/>
                  </a:cubicBezTo>
                  <a:cubicBezTo>
                    <a:pt x="514" y="229"/>
                    <a:pt x="569" y="218"/>
                    <a:pt x="602" y="213"/>
                  </a:cubicBezTo>
                  <a:cubicBezTo>
                    <a:pt x="635" y="208"/>
                    <a:pt x="662" y="197"/>
                    <a:pt x="678" y="19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57"/>
            <p:cNvSpPr/>
            <p:nvPr/>
          </p:nvSpPr>
          <p:spPr>
            <a:xfrm>
              <a:off x="4985640" y="3320280"/>
              <a:ext cx="774000" cy="7740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80" h="63">
                  <a:moveTo>
                    <a:pt x="0" y="23"/>
                  </a:moveTo>
                  <a:cubicBezTo>
                    <a:pt x="26" y="18"/>
                    <a:pt x="53" y="14"/>
                    <a:pt x="88" y="11"/>
                  </a:cubicBezTo>
                  <a:cubicBezTo>
                    <a:pt x="123" y="8"/>
                    <a:pt x="171" y="8"/>
                    <a:pt x="212" y="7"/>
                  </a:cubicBezTo>
                  <a:cubicBezTo>
                    <a:pt x="253" y="6"/>
                    <a:pt x="281" y="0"/>
                    <a:pt x="332" y="7"/>
                  </a:cubicBezTo>
                  <a:cubicBezTo>
                    <a:pt x="383" y="14"/>
                    <a:pt x="475" y="38"/>
                    <a:pt x="516" y="47"/>
                  </a:cubicBezTo>
                  <a:cubicBezTo>
                    <a:pt x="557" y="56"/>
                    <a:pt x="568" y="59"/>
                    <a:pt x="580" y="6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56"/>
            <p:cNvSpPr/>
            <p:nvPr/>
          </p:nvSpPr>
          <p:spPr>
            <a:xfrm>
              <a:off x="4518000" y="1364760"/>
              <a:ext cx="932040" cy="191556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699" h="1566">
                  <a:moveTo>
                    <a:pt x="335" y="1566"/>
                  </a:moveTo>
                  <a:cubicBezTo>
                    <a:pt x="366" y="1563"/>
                    <a:pt x="398" y="1560"/>
                    <a:pt x="439" y="1558"/>
                  </a:cubicBezTo>
                  <a:cubicBezTo>
                    <a:pt x="480" y="1556"/>
                    <a:pt x="543" y="1555"/>
                    <a:pt x="579" y="1554"/>
                  </a:cubicBezTo>
                  <a:cubicBezTo>
                    <a:pt x="615" y="1553"/>
                    <a:pt x="635" y="1565"/>
                    <a:pt x="655" y="1554"/>
                  </a:cubicBezTo>
                  <a:cubicBezTo>
                    <a:pt x="675" y="1543"/>
                    <a:pt x="699" y="1545"/>
                    <a:pt x="699" y="1486"/>
                  </a:cubicBezTo>
                  <a:cubicBezTo>
                    <a:pt x="699" y="1427"/>
                    <a:pt x="683" y="1291"/>
                    <a:pt x="655" y="1198"/>
                  </a:cubicBezTo>
                  <a:cubicBezTo>
                    <a:pt x="627" y="1105"/>
                    <a:pt x="578" y="999"/>
                    <a:pt x="531" y="930"/>
                  </a:cubicBezTo>
                  <a:cubicBezTo>
                    <a:pt x="484" y="861"/>
                    <a:pt x="427" y="826"/>
                    <a:pt x="371" y="786"/>
                  </a:cubicBezTo>
                  <a:cubicBezTo>
                    <a:pt x="315" y="746"/>
                    <a:pt x="250" y="727"/>
                    <a:pt x="195" y="690"/>
                  </a:cubicBezTo>
                  <a:cubicBezTo>
                    <a:pt x="140" y="653"/>
                    <a:pt x="75" y="611"/>
                    <a:pt x="43" y="566"/>
                  </a:cubicBezTo>
                  <a:cubicBezTo>
                    <a:pt x="11" y="521"/>
                    <a:pt x="6" y="468"/>
                    <a:pt x="3" y="422"/>
                  </a:cubicBezTo>
                  <a:cubicBezTo>
                    <a:pt x="0" y="376"/>
                    <a:pt x="4" y="358"/>
                    <a:pt x="23" y="288"/>
                  </a:cubicBezTo>
                  <a:cubicBezTo>
                    <a:pt x="42" y="218"/>
                    <a:pt x="99" y="60"/>
                    <a:pt x="119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55"/>
            <p:cNvSpPr/>
            <p:nvPr/>
          </p:nvSpPr>
          <p:spPr>
            <a:xfrm>
              <a:off x="5576760" y="3308760"/>
              <a:ext cx="2140920" cy="86724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605" h="709">
                  <a:moveTo>
                    <a:pt x="137" y="81"/>
                  </a:moveTo>
                  <a:cubicBezTo>
                    <a:pt x="155" y="84"/>
                    <a:pt x="0" y="0"/>
                    <a:pt x="245" y="105"/>
                  </a:cubicBezTo>
                  <a:cubicBezTo>
                    <a:pt x="490" y="210"/>
                    <a:pt x="1322" y="583"/>
                    <a:pt x="1605" y="7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54"/>
            <p:cNvSpPr/>
            <p:nvPr/>
          </p:nvSpPr>
          <p:spPr>
            <a:xfrm>
              <a:off x="5792040" y="3344040"/>
              <a:ext cx="1990080" cy="120240"/>
            </a:xfrm>
            <a:custGeom>
              <a:avLst/>
              <a:gdLst>
                <a:gd name="textAreaLeft" fmla="*/ 0 w 1990080"/>
                <a:gd name="textAreaRight" fmla="*/ 1990440 w 199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492" h="99">
                  <a:moveTo>
                    <a:pt x="0" y="0"/>
                  </a:moveTo>
                  <a:cubicBezTo>
                    <a:pt x="42" y="16"/>
                    <a:pt x="85" y="33"/>
                    <a:pt x="196" y="48"/>
                  </a:cubicBezTo>
                  <a:cubicBezTo>
                    <a:pt x="307" y="63"/>
                    <a:pt x="478" y="85"/>
                    <a:pt x="664" y="92"/>
                  </a:cubicBezTo>
                  <a:cubicBezTo>
                    <a:pt x="850" y="99"/>
                    <a:pt x="1174" y="93"/>
                    <a:pt x="1312" y="92"/>
                  </a:cubicBezTo>
                  <a:cubicBezTo>
                    <a:pt x="1450" y="91"/>
                    <a:pt x="1455" y="87"/>
                    <a:pt x="1492" y="8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Oval 153"/>
            <p:cNvSpPr/>
            <p:nvPr/>
          </p:nvSpPr>
          <p:spPr>
            <a:xfrm>
              <a:off x="5655600" y="327312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Oval 152"/>
            <p:cNvSpPr/>
            <p:nvPr/>
          </p:nvSpPr>
          <p:spPr>
            <a:xfrm>
              <a:off x="6717960" y="33958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Oval 151"/>
            <p:cNvSpPr/>
            <p:nvPr/>
          </p:nvSpPr>
          <p:spPr>
            <a:xfrm>
              <a:off x="6856560" y="379224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Box 150"/>
            <p:cNvSpPr/>
            <p:nvPr/>
          </p:nvSpPr>
          <p:spPr>
            <a:xfrm>
              <a:off x="5092920" y="3309840"/>
              <a:ext cx="76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Éles sar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Text Box 149"/>
            <p:cNvSpPr/>
            <p:nvPr/>
          </p:nvSpPr>
          <p:spPr>
            <a:xfrm>
              <a:off x="5954040" y="3088800"/>
              <a:ext cx="82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széli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148"/>
            <p:cNvSpPr/>
            <p:nvPr/>
          </p:nvSpPr>
          <p:spPr>
            <a:xfrm flipV="1" rot="10800000">
              <a:off x="6312600" y="3151440"/>
              <a:ext cx="846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keresztú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Box 147"/>
            <p:cNvSpPr/>
            <p:nvPr/>
          </p:nvSpPr>
          <p:spPr>
            <a:xfrm>
              <a:off x="6545160" y="3579840"/>
              <a:ext cx="90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kadémia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7160400" y="34002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145"/>
            <p:cNvSpPr/>
            <p:nvPr/>
          </p:nvSpPr>
          <p:spPr>
            <a:xfrm>
              <a:off x="7560360" y="341064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Oval 144"/>
            <p:cNvSpPr/>
            <p:nvPr/>
          </p:nvSpPr>
          <p:spPr>
            <a:xfrm>
              <a:off x="7480440" y="404676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143"/>
            <p:cNvSpPr/>
            <p:nvPr/>
          </p:nvSpPr>
          <p:spPr>
            <a:xfrm>
              <a:off x="5024160" y="765000"/>
              <a:ext cx="100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alotaújmajo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 Box 142"/>
            <p:cNvSpPr/>
            <p:nvPr/>
          </p:nvSpPr>
          <p:spPr>
            <a:xfrm>
              <a:off x="5262120" y="2426760"/>
              <a:ext cx="999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szentmihá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4420440" y="17244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Oval 140"/>
            <p:cNvSpPr/>
            <p:nvPr/>
          </p:nvSpPr>
          <p:spPr>
            <a:xfrm>
              <a:off x="4063320" y="163836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Oval 139"/>
            <p:cNvSpPr/>
            <p:nvPr/>
          </p:nvSpPr>
          <p:spPr>
            <a:xfrm>
              <a:off x="3881880" y="151128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Oval 138"/>
            <p:cNvSpPr/>
            <p:nvPr/>
          </p:nvSpPr>
          <p:spPr>
            <a:xfrm>
              <a:off x="2926080" y="11707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Oval 137"/>
            <p:cNvSpPr/>
            <p:nvPr/>
          </p:nvSpPr>
          <p:spPr>
            <a:xfrm>
              <a:off x="2585160" y="9950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Box 136"/>
            <p:cNvSpPr/>
            <p:nvPr/>
          </p:nvSpPr>
          <p:spPr>
            <a:xfrm>
              <a:off x="2664720" y="840960"/>
              <a:ext cx="731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ranyvöl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3575880" y="1252080"/>
              <a:ext cx="638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ómaipa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 Box 134"/>
            <p:cNvSpPr/>
            <p:nvPr/>
          </p:nvSpPr>
          <p:spPr>
            <a:xfrm>
              <a:off x="4814640" y="2071080"/>
              <a:ext cx="683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estúj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133"/>
            <p:cNvSpPr/>
            <p:nvPr/>
          </p:nvSpPr>
          <p:spPr>
            <a:xfrm>
              <a:off x="5500800" y="2906280"/>
              <a:ext cx="676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Felsőrákos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Box 132"/>
            <p:cNvSpPr/>
            <p:nvPr/>
          </p:nvSpPr>
          <p:spPr>
            <a:xfrm>
              <a:off x="3227040" y="2336760"/>
              <a:ext cx="765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őport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131"/>
            <p:cNvSpPr/>
            <p:nvPr/>
          </p:nvSpPr>
          <p:spPr>
            <a:xfrm>
              <a:off x="4006800" y="2260440"/>
              <a:ext cx="217440" cy="188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130"/>
            <p:cNvSpPr/>
            <p:nvPr/>
          </p:nvSpPr>
          <p:spPr>
            <a:xfrm>
              <a:off x="3238200" y="126936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 Box 129"/>
            <p:cNvSpPr/>
            <p:nvPr/>
          </p:nvSpPr>
          <p:spPr>
            <a:xfrm>
              <a:off x="2038320" y="921600"/>
              <a:ext cx="419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rö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Box 128"/>
            <p:cNvSpPr/>
            <p:nvPr/>
          </p:nvSpPr>
          <p:spPr>
            <a:xfrm>
              <a:off x="2900160" y="988920"/>
              <a:ext cx="482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Óbud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Box 127"/>
            <p:cNvSpPr/>
            <p:nvPr/>
          </p:nvSpPr>
          <p:spPr>
            <a:xfrm>
              <a:off x="3218040" y="1125000"/>
              <a:ext cx="89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uincum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Text Box 126"/>
            <p:cNvSpPr/>
            <p:nvPr/>
          </p:nvSpPr>
          <p:spPr>
            <a:xfrm>
              <a:off x="3865680" y="1346400"/>
              <a:ext cx="49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 Box 125"/>
            <p:cNvSpPr/>
            <p:nvPr/>
          </p:nvSpPr>
          <p:spPr>
            <a:xfrm>
              <a:off x="3493800" y="168048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yal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 Box 124"/>
            <p:cNvSpPr/>
            <p:nvPr/>
          </p:nvSpPr>
          <p:spPr>
            <a:xfrm>
              <a:off x="3406680" y="1920960"/>
              <a:ext cx="91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sútmúze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Oval 123"/>
            <p:cNvSpPr/>
            <p:nvPr/>
          </p:nvSpPr>
          <p:spPr>
            <a:xfrm>
              <a:off x="4177800" y="19447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 Box 122"/>
            <p:cNvSpPr/>
            <p:nvPr/>
          </p:nvSpPr>
          <p:spPr>
            <a:xfrm>
              <a:off x="5411520" y="2628720"/>
              <a:ext cx="989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 Box 121"/>
            <p:cNvSpPr/>
            <p:nvPr/>
          </p:nvSpPr>
          <p:spPr>
            <a:xfrm>
              <a:off x="4547880" y="170784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tvántel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Text Box 120"/>
            <p:cNvSpPr/>
            <p:nvPr/>
          </p:nvSpPr>
          <p:spPr>
            <a:xfrm>
              <a:off x="4732560" y="1333800"/>
              <a:ext cx="12027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 Box 119"/>
            <p:cNvSpPr/>
            <p:nvPr/>
          </p:nvSpPr>
          <p:spPr>
            <a:xfrm>
              <a:off x="4871880" y="966600"/>
              <a:ext cx="120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Kert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 Box 118"/>
            <p:cNvSpPr/>
            <p:nvPr/>
          </p:nvSpPr>
          <p:spPr>
            <a:xfrm>
              <a:off x="3252600" y="221904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rendez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 Box 117"/>
            <p:cNvSpPr/>
            <p:nvPr/>
          </p:nvSpPr>
          <p:spPr>
            <a:xfrm>
              <a:off x="2581200" y="2591640"/>
              <a:ext cx="96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Nyuga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 Box 116"/>
            <p:cNvSpPr/>
            <p:nvPr/>
          </p:nvSpPr>
          <p:spPr>
            <a:xfrm>
              <a:off x="3082680" y="2977920"/>
              <a:ext cx="868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Kele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Oval 115"/>
            <p:cNvSpPr/>
            <p:nvPr/>
          </p:nvSpPr>
          <p:spPr>
            <a:xfrm>
              <a:off x="3441240" y="2685960"/>
              <a:ext cx="21672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Oval 114"/>
            <p:cNvSpPr/>
            <p:nvPr/>
          </p:nvSpPr>
          <p:spPr>
            <a:xfrm>
              <a:off x="3873600" y="299196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Oval 113"/>
            <p:cNvSpPr/>
            <p:nvPr/>
          </p:nvSpPr>
          <p:spPr>
            <a:xfrm>
              <a:off x="4940640" y="3184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Oval 112"/>
            <p:cNvSpPr/>
            <p:nvPr/>
          </p:nvSpPr>
          <p:spPr>
            <a:xfrm>
              <a:off x="4313880" y="274716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 Box 111"/>
            <p:cNvSpPr/>
            <p:nvPr/>
          </p:nvSpPr>
          <p:spPr>
            <a:xfrm>
              <a:off x="4363920" y="2616120"/>
              <a:ext cx="45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gl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 Box 110"/>
            <p:cNvSpPr/>
            <p:nvPr/>
          </p:nvSpPr>
          <p:spPr>
            <a:xfrm>
              <a:off x="3841200" y="3259080"/>
              <a:ext cx="740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erepes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 Box 109"/>
            <p:cNvSpPr/>
            <p:nvPr/>
          </p:nvSpPr>
          <p:spPr>
            <a:xfrm>
              <a:off x="4603320" y="2903040"/>
              <a:ext cx="67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Törökő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 Box 108"/>
            <p:cNvSpPr/>
            <p:nvPr/>
          </p:nvSpPr>
          <p:spPr>
            <a:xfrm>
              <a:off x="4942800" y="360504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als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Box 107"/>
            <p:cNvSpPr/>
            <p:nvPr/>
          </p:nvSpPr>
          <p:spPr>
            <a:xfrm>
              <a:off x="5276880" y="3757320"/>
              <a:ext cx="882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-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 Box 106"/>
            <p:cNvSpPr/>
            <p:nvPr/>
          </p:nvSpPr>
          <p:spPr>
            <a:xfrm>
              <a:off x="5637240" y="311616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 Box 105"/>
            <p:cNvSpPr/>
            <p:nvPr/>
          </p:nvSpPr>
          <p:spPr>
            <a:xfrm>
              <a:off x="6621120" y="346680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 Box 104"/>
            <p:cNvSpPr/>
            <p:nvPr/>
          </p:nvSpPr>
          <p:spPr>
            <a:xfrm>
              <a:off x="6953040" y="3247920"/>
              <a:ext cx="1274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-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 Box 103"/>
            <p:cNvSpPr/>
            <p:nvPr/>
          </p:nvSpPr>
          <p:spPr>
            <a:xfrm flipV="1" rot="10800000">
              <a:off x="7276680" y="3432600"/>
              <a:ext cx="94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Text Box 102"/>
            <p:cNvSpPr/>
            <p:nvPr/>
          </p:nvSpPr>
          <p:spPr>
            <a:xfrm>
              <a:off x="6394320" y="3871440"/>
              <a:ext cx="66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 Box 101"/>
            <p:cNvSpPr/>
            <p:nvPr/>
          </p:nvSpPr>
          <p:spPr>
            <a:xfrm>
              <a:off x="7228800" y="414360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Text Box 100"/>
            <p:cNvSpPr/>
            <p:nvPr/>
          </p:nvSpPr>
          <p:spPr>
            <a:xfrm>
              <a:off x="5742000" y="401652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lőrinc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6429240" y="431964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emere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 Box 98"/>
            <p:cNvSpPr/>
            <p:nvPr/>
          </p:nvSpPr>
          <p:spPr>
            <a:xfrm>
              <a:off x="6813720" y="4657680"/>
              <a:ext cx="66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i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Text Box 97"/>
            <p:cNvSpPr/>
            <p:nvPr/>
          </p:nvSpPr>
          <p:spPr>
            <a:xfrm>
              <a:off x="4849200" y="4349880"/>
              <a:ext cx="663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Box 96"/>
            <p:cNvSpPr/>
            <p:nvPr/>
          </p:nvSpPr>
          <p:spPr>
            <a:xfrm>
              <a:off x="5751720" y="519084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 Box 95"/>
            <p:cNvSpPr/>
            <p:nvPr/>
          </p:nvSpPr>
          <p:spPr>
            <a:xfrm>
              <a:off x="6050160" y="546912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Text Box 94"/>
            <p:cNvSpPr/>
            <p:nvPr/>
          </p:nvSpPr>
          <p:spPr>
            <a:xfrm>
              <a:off x="4790520" y="5484600"/>
              <a:ext cx="61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Text Box 93"/>
            <p:cNvSpPr/>
            <p:nvPr/>
          </p:nvSpPr>
          <p:spPr>
            <a:xfrm>
              <a:off x="4268520" y="464148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erzséb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 Box 92"/>
            <p:cNvSpPr/>
            <p:nvPr/>
          </p:nvSpPr>
          <p:spPr>
            <a:xfrm>
              <a:off x="4077000" y="4157640"/>
              <a:ext cx="753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i ú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Text Box 91"/>
            <p:cNvSpPr/>
            <p:nvPr/>
          </p:nvSpPr>
          <p:spPr>
            <a:xfrm>
              <a:off x="3998520" y="3933720"/>
              <a:ext cx="707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özvágó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Text Box 90"/>
            <p:cNvSpPr/>
            <p:nvPr/>
          </p:nvSpPr>
          <p:spPr>
            <a:xfrm>
              <a:off x="4421160" y="3692520"/>
              <a:ext cx="565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ép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 Box 89"/>
            <p:cNvSpPr/>
            <p:nvPr/>
          </p:nvSpPr>
          <p:spPr>
            <a:xfrm>
              <a:off x="3328560" y="39178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ádor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8"/>
            <p:cNvSpPr/>
            <p:nvPr/>
          </p:nvSpPr>
          <p:spPr>
            <a:xfrm>
              <a:off x="2867040" y="3825720"/>
              <a:ext cx="1259280" cy="8640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44" h="71">
                  <a:moveTo>
                    <a:pt x="944" y="11"/>
                  </a:moveTo>
                  <a:cubicBezTo>
                    <a:pt x="796" y="11"/>
                    <a:pt x="649" y="12"/>
                    <a:pt x="544" y="11"/>
                  </a:cubicBezTo>
                  <a:cubicBezTo>
                    <a:pt x="439" y="10"/>
                    <a:pt x="379" y="4"/>
                    <a:pt x="312" y="3"/>
                  </a:cubicBezTo>
                  <a:cubicBezTo>
                    <a:pt x="245" y="2"/>
                    <a:pt x="187" y="0"/>
                    <a:pt x="140" y="3"/>
                  </a:cubicBezTo>
                  <a:cubicBezTo>
                    <a:pt x="93" y="6"/>
                    <a:pt x="51" y="8"/>
                    <a:pt x="28" y="19"/>
                  </a:cubicBezTo>
                  <a:cubicBezTo>
                    <a:pt x="5" y="30"/>
                    <a:pt x="2" y="50"/>
                    <a:pt x="0" y="7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809080" y="3104280"/>
              <a:ext cx="122400" cy="792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92" h="648">
                  <a:moveTo>
                    <a:pt x="92" y="0"/>
                  </a:moveTo>
                  <a:cubicBezTo>
                    <a:pt x="92" y="0"/>
                    <a:pt x="46" y="324"/>
                    <a:pt x="0" y="64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6"/>
            <p:cNvSpPr/>
            <p:nvPr/>
          </p:nvSpPr>
          <p:spPr>
            <a:xfrm>
              <a:off x="1274760" y="3921840"/>
              <a:ext cx="1962360" cy="205704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471" h="1681">
                  <a:moveTo>
                    <a:pt x="1194" y="0"/>
                  </a:moveTo>
                  <a:cubicBezTo>
                    <a:pt x="1184" y="71"/>
                    <a:pt x="1175" y="143"/>
                    <a:pt x="1202" y="236"/>
                  </a:cubicBezTo>
                  <a:cubicBezTo>
                    <a:pt x="1229" y="329"/>
                    <a:pt x="1321" y="478"/>
                    <a:pt x="1354" y="556"/>
                  </a:cubicBezTo>
                  <a:cubicBezTo>
                    <a:pt x="1387" y="634"/>
                    <a:pt x="1388" y="653"/>
                    <a:pt x="1402" y="704"/>
                  </a:cubicBezTo>
                  <a:cubicBezTo>
                    <a:pt x="1416" y="755"/>
                    <a:pt x="1438" y="828"/>
                    <a:pt x="1438" y="864"/>
                  </a:cubicBezTo>
                  <a:cubicBezTo>
                    <a:pt x="1438" y="900"/>
                    <a:pt x="1471" y="1022"/>
                    <a:pt x="1350" y="1136"/>
                  </a:cubicBezTo>
                  <a:cubicBezTo>
                    <a:pt x="1229" y="1250"/>
                    <a:pt x="908" y="1461"/>
                    <a:pt x="710" y="1548"/>
                  </a:cubicBezTo>
                  <a:cubicBezTo>
                    <a:pt x="512" y="1635"/>
                    <a:pt x="280" y="1639"/>
                    <a:pt x="162" y="1660"/>
                  </a:cubicBezTo>
                  <a:cubicBezTo>
                    <a:pt x="44" y="1681"/>
                    <a:pt x="34" y="1670"/>
                    <a:pt x="0" y="167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5"/>
            <p:cNvSpPr/>
            <p:nvPr/>
          </p:nvSpPr>
          <p:spPr>
            <a:xfrm>
              <a:off x="1578600" y="3931200"/>
              <a:ext cx="1546200" cy="17064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1159" h="1394">
                  <a:moveTo>
                    <a:pt x="926" y="0"/>
                  </a:moveTo>
                  <a:cubicBezTo>
                    <a:pt x="923" y="8"/>
                    <a:pt x="908" y="19"/>
                    <a:pt x="906" y="50"/>
                  </a:cubicBezTo>
                  <a:cubicBezTo>
                    <a:pt x="904" y="81"/>
                    <a:pt x="909" y="147"/>
                    <a:pt x="914" y="188"/>
                  </a:cubicBezTo>
                  <a:cubicBezTo>
                    <a:pt x="919" y="229"/>
                    <a:pt x="913" y="233"/>
                    <a:pt x="938" y="296"/>
                  </a:cubicBezTo>
                  <a:cubicBezTo>
                    <a:pt x="963" y="359"/>
                    <a:pt x="1033" y="493"/>
                    <a:pt x="1062" y="564"/>
                  </a:cubicBezTo>
                  <a:cubicBezTo>
                    <a:pt x="1091" y="635"/>
                    <a:pt x="1097" y="680"/>
                    <a:pt x="1110" y="724"/>
                  </a:cubicBezTo>
                  <a:cubicBezTo>
                    <a:pt x="1123" y="768"/>
                    <a:pt x="1136" y="795"/>
                    <a:pt x="1142" y="828"/>
                  </a:cubicBezTo>
                  <a:cubicBezTo>
                    <a:pt x="1148" y="861"/>
                    <a:pt x="1159" y="879"/>
                    <a:pt x="1146" y="920"/>
                  </a:cubicBezTo>
                  <a:cubicBezTo>
                    <a:pt x="1133" y="961"/>
                    <a:pt x="1095" y="1035"/>
                    <a:pt x="1062" y="1072"/>
                  </a:cubicBezTo>
                  <a:cubicBezTo>
                    <a:pt x="1029" y="1109"/>
                    <a:pt x="1015" y="1102"/>
                    <a:pt x="950" y="1144"/>
                  </a:cubicBezTo>
                  <a:cubicBezTo>
                    <a:pt x="885" y="1186"/>
                    <a:pt x="742" y="1286"/>
                    <a:pt x="670" y="1324"/>
                  </a:cubicBezTo>
                  <a:cubicBezTo>
                    <a:pt x="598" y="1362"/>
                    <a:pt x="630" y="1360"/>
                    <a:pt x="518" y="1372"/>
                  </a:cubicBezTo>
                  <a:cubicBezTo>
                    <a:pt x="406" y="1384"/>
                    <a:pt x="108" y="1390"/>
                    <a:pt x="0" y="13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84"/>
            <p:cNvSpPr/>
            <p:nvPr/>
          </p:nvSpPr>
          <p:spPr>
            <a:xfrm>
              <a:off x="4065480" y="3769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83"/>
            <p:cNvSpPr/>
            <p:nvPr/>
          </p:nvSpPr>
          <p:spPr>
            <a:xfrm>
              <a:off x="3052080" y="45853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82"/>
            <p:cNvSpPr/>
            <p:nvPr/>
          </p:nvSpPr>
          <p:spPr>
            <a:xfrm>
              <a:off x="2768760" y="527004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81"/>
            <p:cNvSpPr/>
            <p:nvPr/>
          </p:nvSpPr>
          <p:spPr>
            <a:xfrm>
              <a:off x="6765480" y="163692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80"/>
            <p:cNvSpPr/>
            <p:nvPr/>
          </p:nvSpPr>
          <p:spPr>
            <a:xfrm>
              <a:off x="2459160" y="546084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Oval 79"/>
            <p:cNvSpPr/>
            <p:nvPr/>
          </p:nvSpPr>
          <p:spPr>
            <a:xfrm>
              <a:off x="2091600" y="55638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Oval 78"/>
            <p:cNvSpPr/>
            <p:nvPr/>
          </p:nvSpPr>
          <p:spPr>
            <a:xfrm>
              <a:off x="1744920" y="556884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Oval 77"/>
            <p:cNvSpPr/>
            <p:nvPr/>
          </p:nvSpPr>
          <p:spPr>
            <a:xfrm>
              <a:off x="4685760" y="3427560"/>
              <a:ext cx="120960" cy="11160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76"/>
            <p:cNvSpPr/>
            <p:nvPr/>
          </p:nvSpPr>
          <p:spPr>
            <a:xfrm>
              <a:off x="1429560" y="590688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75"/>
            <p:cNvSpPr/>
            <p:nvPr/>
          </p:nvSpPr>
          <p:spPr>
            <a:xfrm>
              <a:off x="2811600" y="296964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Text Box 74"/>
            <p:cNvSpPr/>
            <p:nvPr/>
          </p:nvSpPr>
          <p:spPr>
            <a:xfrm>
              <a:off x="1963440" y="2933640"/>
              <a:ext cx="898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Dél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Text Box 73"/>
            <p:cNvSpPr/>
            <p:nvPr/>
          </p:nvSpPr>
          <p:spPr>
            <a:xfrm>
              <a:off x="2117160" y="3814560"/>
              <a:ext cx="649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len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Text Box 72"/>
            <p:cNvSpPr/>
            <p:nvPr/>
          </p:nvSpPr>
          <p:spPr>
            <a:xfrm>
              <a:off x="3174480" y="4548240"/>
              <a:ext cx="648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bert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 Box 71"/>
            <p:cNvSpPr/>
            <p:nvPr/>
          </p:nvSpPr>
          <p:spPr>
            <a:xfrm>
              <a:off x="3227040" y="4897440"/>
              <a:ext cx="51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f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2603520" y="507852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Box 69"/>
            <p:cNvSpPr/>
            <p:nvPr/>
          </p:nvSpPr>
          <p:spPr>
            <a:xfrm>
              <a:off x="2043360" y="5048280"/>
              <a:ext cx="64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tétén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Box 68"/>
            <p:cNvSpPr/>
            <p:nvPr/>
          </p:nvSpPr>
          <p:spPr>
            <a:xfrm>
              <a:off x="1674720" y="517680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oss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Box 67"/>
            <p:cNvSpPr/>
            <p:nvPr/>
          </p:nvSpPr>
          <p:spPr>
            <a:xfrm>
              <a:off x="910800" y="5430600"/>
              <a:ext cx="952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gytétény-Diós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Box 66"/>
            <p:cNvSpPr/>
            <p:nvPr/>
          </p:nvSpPr>
          <p:spPr>
            <a:xfrm>
              <a:off x="4830840" y="3427560"/>
              <a:ext cx="73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y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 Box 65"/>
            <p:cNvSpPr/>
            <p:nvPr/>
          </p:nvSpPr>
          <p:spPr>
            <a:xfrm>
              <a:off x="996480" y="598320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tény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Text Box 64"/>
            <p:cNvSpPr/>
            <p:nvPr/>
          </p:nvSpPr>
          <p:spPr>
            <a:xfrm>
              <a:off x="2446200" y="5699160"/>
              <a:ext cx="771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astélypar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2526120" y="524340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62"/>
            <p:cNvSpPr/>
            <p:nvPr/>
          </p:nvSpPr>
          <p:spPr>
            <a:xfrm>
              <a:off x="2152800" y="534096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984400" y="3585960"/>
              <a:ext cx="741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ágymány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1968120" y="3973320"/>
              <a:ext cx="645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őérber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 flipV="1">
              <a:off x="4748400" y="3365640"/>
              <a:ext cx="5292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58"/>
            <p:cNvSpPr/>
            <p:nvPr/>
          </p:nvSpPr>
          <p:spPr>
            <a:xfrm flipV="1">
              <a:off x="4761360" y="3412440"/>
              <a:ext cx="5364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57"/>
            <p:cNvSpPr/>
            <p:nvPr/>
          </p:nvSpPr>
          <p:spPr>
            <a:xfrm flipV="1">
              <a:off x="4722120" y="3300480"/>
              <a:ext cx="55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56"/>
            <p:cNvSpPr/>
            <p:nvPr/>
          </p:nvSpPr>
          <p:spPr>
            <a:xfrm flipV="1">
              <a:off x="4734720" y="3346920"/>
              <a:ext cx="56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Box 55"/>
            <p:cNvSpPr/>
            <p:nvPr/>
          </p:nvSpPr>
          <p:spPr>
            <a:xfrm>
              <a:off x="3622680" y="3591000"/>
              <a:ext cx="73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enc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>
              <a:off x="4668840" y="3052800"/>
              <a:ext cx="779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"/>
            <p:cNvSpPr/>
            <p:nvPr/>
          </p:nvSpPr>
          <p:spPr>
            <a:xfrm>
              <a:off x="4676760" y="909000"/>
              <a:ext cx="263520" cy="4330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98" h="354">
                  <a:moveTo>
                    <a:pt x="0" y="354"/>
                  </a:moveTo>
                  <a:cubicBezTo>
                    <a:pt x="5" y="341"/>
                    <a:pt x="9" y="316"/>
                    <a:pt x="30" y="276"/>
                  </a:cubicBezTo>
                  <a:cubicBezTo>
                    <a:pt x="51" y="236"/>
                    <a:pt x="98" y="160"/>
                    <a:pt x="126" y="114"/>
                  </a:cubicBezTo>
                  <a:cubicBezTo>
                    <a:pt x="154" y="68"/>
                    <a:pt x="186" y="19"/>
                    <a:pt x="19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4540320" y="1297440"/>
              <a:ext cx="216720" cy="19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1"/>
            <p:cNvSpPr/>
            <p:nvPr/>
          </p:nvSpPr>
          <p:spPr>
            <a:xfrm>
              <a:off x="4769640" y="99720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50"/>
            <p:cNvSpPr/>
            <p:nvPr/>
          </p:nvSpPr>
          <p:spPr>
            <a:xfrm flipH="1">
              <a:off x="5164920" y="2207880"/>
              <a:ext cx="1294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Újpalot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49"/>
            <p:cNvSpPr/>
            <p:nvPr/>
          </p:nvSpPr>
          <p:spPr>
            <a:xfrm>
              <a:off x="4492080" y="1900080"/>
              <a:ext cx="892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Marcheggi 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48"/>
            <p:cNvSpPr/>
            <p:nvPr/>
          </p:nvSpPr>
          <p:spPr>
            <a:xfrm>
              <a:off x="2619720" y="3926880"/>
              <a:ext cx="183960" cy="153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8" h="126">
                  <a:moveTo>
                    <a:pt x="138" y="0"/>
                  </a:moveTo>
                  <a:cubicBezTo>
                    <a:pt x="81" y="51"/>
                    <a:pt x="25" y="103"/>
                    <a:pt x="0" y="12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2720520" y="3831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Oval 46"/>
            <p:cNvSpPr/>
            <p:nvPr/>
          </p:nvSpPr>
          <p:spPr>
            <a:xfrm>
              <a:off x="4642200" y="2118240"/>
              <a:ext cx="12096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Oval 45"/>
            <p:cNvSpPr/>
            <p:nvPr/>
          </p:nvSpPr>
          <p:spPr>
            <a:xfrm>
              <a:off x="3115440" y="4837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6034680" y="3330000"/>
              <a:ext cx="120600" cy="11016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Oval 43"/>
            <p:cNvSpPr/>
            <p:nvPr/>
          </p:nvSpPr>
          <p:spPr>
            <a:xfrm>
              <a:off x="4102560" y="2556360"/>
              <a:ext cx="12168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Oval 42"/>
            <p:cNvSpPr/>
            <p:nvPr/>
          </p:nvSpPr>
          <p:spPr>
            <a:xfrm>
              <a:off x="3900240" y="242172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Oval 41"/>
            <p:cNvSpPr/>
            <p:nvPr/>
          </p:nvSpPr>
          <p:spPr>
            <a:xfrm>
              <a:off x="6354720" y="36014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Oval 40"/>
            <p:cNvSpPr/>
            <p:nvPr/>
          </p:nvSpPr>
          <p:spPr>
            <a:xfrm>
              <a:off x="4369680" y="3799800"/>
              <a:ext cx="12132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Oval 39"/>
            <p:cNvSpPr/>
            <p:nvPr/>
          </p:nvSpPr>
          <p:spPr>
            <a:xfrm>
              <a:off x="4487400" y="322416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Oval 38"/>
            <p:cNvSpPr/>
            <p:nvPr/>
          </p:nvSpPr>
          <p:spPr>
            <a:xfrm>
              <a:off x="5284800" y="3251520"/>
              <a:ext cx="12060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Oval 37"/>
            <p:cNvSpPr/>
            <p:nvPr/>
          </p:nvSpPr>
          <p:spPr>
            <a:xfrm>
              <a:off x="4305960" y="18248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Oval 36"/>
            <p:cNvSpPr/>
            <p:nvPr/>
          </p:nvSpPr>
          <p:spPr>
            <a:xfrm>
              <a:off x="3137400" y="377748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Oval 35"/>
            <p:cNvSpPr/>
            <p:nvPr/>
          </p:nvSpPr>
          <p:spPr>
            <a:xfrm>
              <a:off x="3435840" y="379440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3918960" y="381132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Oval 33"/>
            <p:cNvSpPr/>
            <p:nvPr/>
          </p:nvSpPr>
          <p:spPr>
            <a:xfrm>
              <a:off x="2509920" y="406152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Oval 32"/>
            <p:cNvSpPr/>
            <p:nvPr/>
          </p:nvSpPr>
          <p:spPr>
            <a:xfrm>
              <a:off x="5314680" y="2761920"/>
              <a:ext cx="12060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Oval 31"/>
            <p:cNvSpPr/>
            <p:nvPr/>
          </p:nvSpPr>
          <p:spPr>
            <a:xfrm>
              <a:off x="4919400" y="8456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Oval 30"/>
            <p:cNvSpPr/>
            <p:nvPr/>
          </p:nvSpPr>
          <p:spPr>
            <a:xfrm>
              <a:off x="3547800" y="1378800"/>
              <a:ext cx="121680" cy="11124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Oval 29"/>
            <p:cNvSpPr/>
            <p:nvPr/>
          </p:nvSpPr>
          <p:spPr>
            <a:xfrm>
              <a:off x="4337280" y="368964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Oval 28"/>
            <p:cNvSpPr/>
            <p:nvPr/>
          </p:nvSpPr>
          <p:spPr>
            <a:xfrm>
              <a:off x="2269800" y="83088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Oval 27"/>
            <p:cNvSpPr/>
            <p:nvPr/>
          </p:nvSpPr>
          <p:spPr>
            <a:xfrm>
              <a:off x="5258160" y="483444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Oval 26"/>
            <p:cNvSpPr/>
            <p:nvPr/>
          </p:nvSpPr>
          <p:spPr>
            <a:xfrm>
              <a:off x="3030120" y="48470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Oval 25"/>
            <p:cNvSpPr/>
            <p:nvPr/>
          </p:nvSpPr>
          <p:spPr>
            <a:xfrm>
              <a:off x="6363000" y="337356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Oval 24"/>
            <p:cNvSpPr/>
            <p:nvPr/>
          </p:nvSpPr>
          <p:spPr>
            <a:xfrm>
              <a:off x="5190480" y="2500200"/>
              <a:ext cx="120600" cy="110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>
              <a:off x="4569480" y="299196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Oval 22"/>
            <p:cNvSpPr/>
            <p:nvPr/>
          </p:nvSpPr>
          <p:spPr>
            <a:xfrm>
              <a:off x="4302720" y="195408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Oval 21"/>
            <p:cNvSpPr/>
            <p:nvPr/>
          </p:nvSpPr>
          <p:spPr>
            <a:xfrm>
              <a:off x="4905720" y="2257560"/>
              <a:ext cx="12168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Oval 20"/>
            <p:cNvSpPr/>
            <p:nvPr/>
          </p:nvSpPr>
          <p:spPr>
            <a:xfrm>
              <a:off x="2955960" y="4609440"/>
              <a:ext cx="12096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Text Box 19"/>
            <p:cNvSpPr/>
            <p:nvPr/>
          </p:nvSpPr>
          <p:spPr>
            <a:xfrm>
              <a:off x="4071960" y="2435040"/>
              <a:ext cx="650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8"/>
            <p:cNvSpPr/>
            <p:nvPr/>
          </p:nvSpPr>
          <p:spPr>
            <a:xfrm flipH="1" flipV="1">
              <a:off x="4396320" y="1892880"/>
              <a:ext cx="216000" cy="2426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7"/>
            <p:cNvSpPr/>
            <p:nvPr/>
          </p:nvSpPr>
          <p:spPr>
            <a:xfrm flipH="1" flipV="1">
              <a:off x="4172040" y="1709640"/>
              <a:ext cx="128160" cy="878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6"/>
            <p:cNvSpPr/>
            <p:nvPr/>
          </p:nvSpPr>
          <p:spPr>
            <a:xfrm>
              <a:off x="4057560" y="243648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90">
                  <a:moveTo>
                    <a:pt x="2" y="0"/>
                  </a:moveTo>
                  <a:cubicBezTo>
                    <a:pt x="1" y="25"/>
                    <a:pt x="0" y="51"/>
                    <a:pt x="14" y="66"/>
                  </a:cubicBezTo>
                  <a:cubicBezTo>
                    <a:pt x="28" y="81"/>
                    <a:pt x="79" y="87"/>
                    <a:pt x="86" y="9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5"/>
            <p:cNvSpPr/>
            <p:nvPr/>
          </p:nvSpPr>
          <p:spPr>
            <a:xfrm>
              <a:off x="4700160" y="3082320"/>
              <a:ext cx="248040" cy="176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22" h="144">
                  <a:moveTo>
                    <a:pt x="0" y="0"/>
                  </a:moveTo>
                  <a:cubicBezTo>
                    <a:pt x="8" y="48"/>
                    <a:pt x="17" y="96"/>
                    <a:pt x="54" y="120"/>
                  </a:cubicBezTo>
                  <a:cubicBezTo>
                    <a:pt x="91" y="144"/>
                    <a:pt x="193" y="140"/>
                    <a:pt x="222" y="14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5411520" y="3161520"/>
              <a:ext cx="191520" cy="256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44" h="210">
                  <a:moveTo>
                    <a:pt x="0" y="0"/>
                  </a:moveTo>
                  <a:cubicBezTo>
                    <a:pt x="6" y="68"/>
                    <a:pt x="12" y="136"/>
                    <a:pt x="30" y="168"/>
                  </a:cubicBezTo>
                  <a:cubicBezTo>
                    <a:pt x="48" y="200"/>
                    <a:pt x="89" y="185"/>
                    <a:pt x="108" y="192"/>
                  </a:cubicBezTo>
                  <a:cubicBezTo>
                    <a:pt x="127" y="199"/>
                    <a:pt x="138" y="207"/>
                    <a:pt x="144" y="2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3"/>
            <p:cNvSpPr/>
            <p:nvPr/>
          </p:nvSpPr>
          <p:spPr>
            <a:xfrm>
              <a:off x="4220280" y="2108160"/>
              <a:ext cx="407880" cy="2253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6" h="184">
                  <a:moveTo>
                    <a:pt x="306" y="46"/>
                  </a:moveTo>
                  <a:cubicBezTo>
                    <a:pt x="248" y="23"/>
                    <a:pt x="190" y="0"/>
                    <a:pt x="156" y="4"/>
                  </a:cubicBezTo>
                  <a:cubicBezTo>
                    <a:pt x="122" y="8"/>
                    <a:pt x="128" y="40"/>
                    <a:pt x="102" y="70"/>
                  </a:cubicBezTo>
                  <a:cubicBezTo>
                    <a:pt x="76" y="100"/>
                    <a:pt x="17" y="165"/>
                    <a:pt x="0" y="18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2442960" y="4161240"/>
              <a:ext cx="72360" cy="73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2120400" y="796680"/>
              <a:ext cx="144000" cy="58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 flipH="1">
              <a:off x="5028120" y="806400"/>
              <a:ext cx="72360" cy="51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 Box 9"/>
            <p:cNvSpPr/>
            <p:nvPr/>
          </p:nvSpPr>
          <p:spPr>
            <a:xfrm>
              <a:off x="7017120" y="1633320"/>
              <a:ext cx="11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lévő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Oval 8"/>
            <p:cNvSpPr/>
            <p:nvPr/>
          </p:nvSpPr>
          <p:spPr>
            <a:xfrm>
              <a:off x="6822720" y="191628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Oval 7"/>
            <p:cNvSpPr/>
            <p:nvPr/>
          </p:nvSpPr>
          <p:spPr>
            <a:xfrm>
              <a:off x="4049280" y="258084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Text Box 6"/>
            <p:cNvSpPr/>
            <p:nvPr/>
          </p:nvSpPr>
          <p:spPr>
            <a:xfrm>
              <a:off x="7013880" y="1889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rvezett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örvasúti S-Bahn 2014-2020 között megvalósuló ütemének feltétel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Oval 5"/>
            <p:cNvSpPr/>
            <p:nvPr/>
          </p:nvSpPr>
          <p:spPr>
            <a:xfrm>
              <a:off x="5411520" y="3028320"/>
              <a:ext cx="12060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Oval 4"/>
            <p:cNvSpPr/>
            <p:nvPr/>
          </p:nvSpPr>
          <p:spPr>
            <a:xfrm>
              <a:off x="2338920" y="56959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Oval 3"/>
            <p:cNvSpPr/>
            <p:nvPr/>
          </p:nvSpPr>
          <p:spPr>
            <a:xfrm>
              <a:off x="3953520" y="392472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Oval 2"/>
            <p:cNvSpPr/>
            <p:nvPr/>
          </p:nvSpPr>
          <p:spPr>
            <a:xfrm>
              <a:off x="6834600" y="213084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7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Hosszútáv: Városi vasúti hálózat Budap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23920" y="429264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687"/>
                </a:solidFill>
                <a:latin typeface="Arial"/>
              </a:rPr>
              <a:t>Köszönöm a figyelmet!</a:t>
            </a:r>
            <a:endParaRPr b="1" lang="en-US" sz="5000" spc="-1" strike="noStrike">
              <a:solidFill>
                <a:srgbClr val="004687"/>
              </a:solidFill>
              <a:latin typeface="Arial"/>
            </a:endParaRPr>
          </a:p>
        </p:txBody>
      </p:sp>
      <p:pic>
        <p:nvPicPr>
          <p:cNvPr id="1179" name="Picture 2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1865160" y="1700280"/>
            <a:ext cx="6091560" cy="23223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340000" y="53481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kormanyos.laszlo@mav-start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A vasút szerepe a városi közlekedésben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980640"/>
            <a:ext cx="446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aponta 146 ezer utas a fejpályaudvarokon, amely komoly városi közlekedési kihívá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Fejpályudvarok elhelyezkedése kiváll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hálózat az egész várost átszöv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 városi-közlekedési szerepe csak kiegészít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izonyos viszonylatokon a vasút menetidő-előnye tetemes, ez a leggyorsabb városi közlekedési mó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z elővárosi hálózaton dinamikusan növekszik az utasszá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jelenlegi szerepénél lényegesen nagyobb a potenciá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F352-16FE-4D93-A00D-D460EA92C3A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C:\Users\foldiak.janos\Pictures\Keleti.jpg"/>
          <p:cNvPicPr/>
          <p:nvPr/>
        </p:nvPicPr>
        <p:blipFill>
          <a:blip r:embed="rId9"/>
          <a:stretch/>
        </p:blipFill>
        <p:spPr>
          <a:xfrm>
            <a:off x="4716360" y="981000"/>
            <a:ext cx="3794400" cy="251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C:\Users\foldiak.janos\Pictures\Nyugati.jpg"/>
          <p:cNvPicPr/>
          <p:nvPr/>
        </p:nvPicPr>
        <p:blipFill>
          <a:blip r:embed="rId10"/>
          <a:stretch/>
        </p:blipFill>
        <p:spPr>
          <a:xfrm>
            <a:off x="4716360" y="3637080"/>
            <a:ext cx="3794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Nyuga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718A-8F5E-4A98-94D6-753158F44BC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33"/>
          <p:cNvSpPr/>
          <p:nvPr/>
        </p:nvSpPr>
        <p:spPr>
          <a:xfrm>
            <a:off x="4687920" y="2019240"/>
            <a:ext cx="3332160" cy="1800"/>
          </a:xfrm>
          <a:custGeom>
            <a:avLst/>
            <a:gdLst/>
            <a:ahLst/>
            <a:rect l="l" t="t" r="r" b="b"/>
            <a:pathLst>
              <a:path w="9459" h="10000">
                <a:moveTo>
                  <a:pt x="0" y="10000"/>
                </a:moveTo>
                <a:cubicBezTo>
                  <a:pt x="6946" y="6667"/>
                  <a:pt x="2513" y="3333"/>
                  <a:pt x="9459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4689360" y="2868480"/>
            <a:ext cx="3915000" cy="239760"/>
          </a:xfrm>
          <a:custGeom>
            <a:avLst/>
            <a:gdLst/>
            <a:ahLst/>
            <a:rect l="l" t="t" r="r" b="b"/>
            <a:pathLst>
              <a:path w="14445" h="10940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94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4"/>
          <p:cNvSpPr/>
          <p:nvPr/>
        </p:nvSpPr>
        <p:spPr>
          <a:xfrm rot="18900000">
            <a:off x="5121360" y="1215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rendez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8"/>
          <p:cNvSpPr/>
          <p:nvPr/>
        </p:nvSpPr>
        <p:spPr>
          <a:xfrm rot="18900000">
            <a:off x="7253280" y="3631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zemere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"/>
          <p:cNvSpPr/>
          <p:nvPr/>
        </p:nvSpPr>
        <p:spPr>
          <a:xfrm rot="18900000">
            <a:off x="5653800" y="4227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29"/>
          <p:cNvSpPr/>
          <p:nvPr/>
        </p:nvSpPr>
        <p:spPr>
          <a:xfrm rot="18900000">
            <a:off x="7138080" y="148680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Istvántele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0"/>
          <p:cNvSpPr/>
          <p:nvPr/>
        </p:nvSpPr>
        <p:spPr>
          <a:xfrm rot="18900000">
            <a:off x="7328880" y="1270080"/>
            <a:ext cx="15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2"/>
          <p:cNvSpPr/>
          <p:nvPr/>
        </p:nvSpPr>
        <p:spPr>
          <a:xfrm rot="18900000">
            <a:off x="6832440" y="370512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lőrin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"/>
          <p:cNvSpPr/>
          <p:nvPr/>
        </p:nvSpPr>
        <p:spPr>
          <a:xfrm rot="18900000">
            <a:off x="5869080" y="4041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4683240" y="18334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0-G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4672080" y="2484360"/>
            <a:ext cx="92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, 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64240" y="22543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4764240" y="26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Z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4"/>
          <p:cNvSpPr/>
          <p:nvPr/>
        </p:nvSpPr>
        <p:spPr>
          <a:xfrm>
            <a:off x="4676760" y="2666880"/>
            <a:ext cx="3929040" cy="214560"/>
          </a:xfrm>
          <a:custGeom>
            <a:avLst/>
            <a:gdLst/>
            <a:ahLst/>
            <a:rect l="l" t="t" r="r" b="b"/>
            <a:pathLst>
              <a:path w="45585" h="10000">
                <a:moveTo>
                  <a:pt x="0" y="0"/>
                </a:moveTo>
                <a:lnTo>
                  <a:pt x="5675" y="0"/>
                </a:lnTo>
                <a:cubicBezTo>
                  <a:pt x="6451" y="3333"/>
                  <a:pt x="7331" y="6667"/>
                  <a:pt x="8104" y="10000"/>
                </a:cubicBezTo>
                <a:lnTo>
                  <a:pt x="-19951" y="999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8"/>
          <p:cNvSpPr/>
          <p:nvPr/>
        </p:nvSpPr>
        <p:spPr>
          <a:xfrm rot="18900000">
            <a:off x="7545240" y="3609720"/>
            <a:ext cx="9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i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9"/>
          <p:cNvSpPr/>
          <p:nvPr/>
        </p:nvSpPr>
        <p:spPr>
          <a:xfrm rot="18900000">
            <a:off x="4881600" y="3899880"/>
            <a:ext cx="11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9"/>
          <p:cNvSpPr/>
          <p:nvPr/>
        </p:nvSpPr>
        <p:spPr>
          <a:xfrm rot="18900000">
            <a:off x="5115600" y="3671280"/>
            <a:ext cx="5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Zug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9"/>
          <p:cNvSpPr/>
          <p:nvPr/>
        </p:nvSpPr>
        <p:spPr>
          <a:xfrm rot="18900000">
            <a:off x="6059880" y="4168440"/>
            <a:ext cx="129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3"/>
          <p:cNvSpPr/>
          <p:nvPr/>
        </p:nvSpPr>
        <p:spPr>
          <a:xfrm rot="18900000">
            <a:off x="4356000" y="113940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Nyuga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4"/>
          <p:cNvSpPr/>
          <p:nvPr/>
        </p:nvSpPr>
        <p:spPr>
          <a:xfrm>
            <a:off x="4656240" y="1514520"/>
            <a:ext cx="2838240" cy="304920"/>
          </a:xfrm>
          <a:custGeom>
            <a:avLst/>
            <a:gdLst/>
            <a:ahLst/>
            <a:rect l="l" t="t" r="r" b="b"/>
            <a:pathLst>
              <a:path w="18460" h="12328">
                <a:moveTo>
                  <a:pt x="0" y="12310"/>
                </a:moveTo>
                <a:cubicBezTo>
                  <a:pt x="1023" y="12374"/>
                  <a:pt x="4310" y="12244"/>
                  <a:pt x="5333" y="12308"/>
                </a:cubicBezTo>
                <a:lnTo>
                  <a:pt x="7285" y="195"/>
                </a:lnTo>
                <a:lnTo>
                  <a:pt x="18460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4764240" y="1623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5888160" y="1444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9"/>
          <p:cNvSpPr/>
          <p:nvPr/>
        </p:nvSpPr>
        <p:spPr>
          <a:xfrm rot="18900000">
            <a:off x="5721480" y="98424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ngyal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"/>
          <p:cNvSpPr/>
          <p:nvPr/>
        </p:nvSpPr>
        <p:spPr>
          <a:xfrm rot="18900000">
            <a:off x="5005440" y="3960720"/>
            <a:ext cx="13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68184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619452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9"/>
          <p:cNvSpPr/>
          <p:nvPr/>
        </p:nvSpPr>
        <p:spPr>
          <a:xfrm rot="18900000">
            <a:off x="6026400" y="9997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31"/>
          <p:cNvSpPr/>
          <p:nvPr/>
        </p:nvSpPr>
        <p:spPr>
          <a:xfrm rot="18900000">
            <a:off x="6661440" y="100260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Óbu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651996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9"/>
          <p:cNvSpPr/>
          <p:nvPr/>
        </p:nvSpPr>
        <p:spPr>
          <a:xfrm rot="18900000">
            <a:off x="6355080" y="10123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quinc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70992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31"/>
          <p:cNvSpPr/>
          <p:nvPr/>
        </p:nvSpPr>
        <p:spPr>
          <a:xfrm rot="18900000">
            <a:off x="6995160" y="112824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Ürö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33"/>
          <p:cNvSpPr/>
          <p:nvPr/>
        </p:nvSpPr>
        <p:spPr>
          <a:xfrm>
            <a:off x="4667400" y="2225520"/>
            <a:ext cx="3695400" cy="233640"/>
          </a:xfrm>
          <a:custGeom>
            <a:avLst/>
            <a:gdLst/>
            <a:ahLst/>
            <a:rect l="l" t="t" r="r" b="b"/>
            <a:pathLst>
              <a:path w="10144" h="10110">
                <a:moveTo>
                  <a:pt x="0" y="173"/>
                </a:moveTo>
                <a:lnTo>
                  <a:pt x="8580" y="0"/>
                </a:lnTo>
                <a:cubicBezTo>
                  <a:pt x="8781" y="3299"/>
                  <a:pt x="9007" y="6803"/>
                  <a:pt x="9208" y="10102"/>
                </a:cubicBezTo>
                <a:cubicBezTo>
                  <a:pt x="9391" y="10154"/>
                  <a:pt x="10062" y="9948"/>
                  <a:pt x="10144" y="1000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8"/>
          <p:cNvSpPr/>
          <p:nvPr/>
        </p:nvSpPr>
        <p:spPr>
          <a:xfrm>
            <a:off x="7291440" y="1949400"/>
            <a:ext cx="12708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3"/>
          <p:cNvSpPr/>
          <p:nvPr/>
        </p:nvSpPr>
        <p:spPr>
          <a:xfrm>
            <a:off x="4681440" y="2430360"/>
            <a:ext cx="3684600" cy="230400"/>
          </a:xfrm>
          <a:custGeom>
            <a:avLst/>
            <a:gdLst/>
            <a:ahLst/>
            <a:rect l="l" t="t" r="r" b="b"/>
            <a:pathLst>
              <a:path w="10000" h="10211">
                <a:moveTo>
                  <a:pt x="0" y="388"/>
                </a:moveTo>
                <a:lnTo>
                  <a:pt x="8313" y="0"/>
                </a:lnTo>
                <a:cubicBezTo>
                  <a:pt x="8511" y="3368"/>
                  <a:pt x="8735" y="6736"/>
                  <a:pt x="8933" y="10105"/>
                </a:cubicBezTo>
                <a:cubicBezTo>
                  <a:pt x="9113" y="10158"/>
                  <a:pt x="9919" y="10158"/>
                  <a:pt x="10000" y="10211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49"/>
          <p:cNvSpPr/>
          <p:nvPr/>
        </p:nvSpPr>
        <p:spPr>
          <a:xfrm>
            <a:off x="5280120" y="1709640"/>
            <a:ext cx="162000" cy="6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764240" y="2031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7550280" y="1903320"/>
            <a:ext cx="166680" cy="6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9"/>
          <p:cNvSpPr/>
          <p:nvPr/>
        </p:nvSpPr>
        <p:spPr>
          <a:xfrm rot="18900000">
            <a:off x="7786800" y="168264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Kert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074080" y="23875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4689360" y="3301920"/>
            <a:ext cx="2651400" cy="434880"/>
          </a:xfrm>
          <a:custGeom>
            <a:avLst/>
            <a:gdLst/>
            <a:ahLst/>
            <a:rect l="l" t="t" r="r" b="b"/>
            <a:pathLst>
              <a:path w="9780" h="1985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5760" y="10650"/>
                </a:lnTo>
                <a:cubicBezTo>
                  <a:pt x="6017" y="13766"/>
                  <a:pt x="6248" y="16666"/>
                  <a:pt x="6505" y="19782"/>
                </a:cubicBezTo>
                <a:lnTo>
                  <a:pt x="9780" y="1985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4689360" y="3073320"/>
            <a:ext cx="3915000" cy="235080"/>
          </a:xfrm>
          <a:custGeom>
            <a:avLst/>
            <a:gdLst/>
            <a:ahLst/>
            <a:rect l="l" t="t" r="r" b="b"/>
            <a:pathLst>
              <a:path w="14445" h="1072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72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40864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5697360" y="3013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596736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6526080" y="366876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6778800" y="3673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7029360" y="3673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771696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796608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8182080" y="2797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48"/>
          <p:cNvSpPr/>
          <p:nvPr/>
        </p:nvSpPr>
        <p:spPr>
          <a:xfrm>
            <a:off x="4600440" y="1709640"/>
            <a:ext cx="1620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4764240" y="28814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4762440" y="311616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artalom helye 2"/>
          <p:cNvSpPr/>
          <p:nvPr/>
        </p:nvSpPr>
        <p:spPr>
          <a:xfrm>
            <a:off x="179280" y="836640"/>
            <a:ext cx="442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-Pest, Pestszentimre, Pestszentlőrinc, Kisp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Pestszentlőrinc, Ferihegy, Pestszentimre és a belváros között a vasút adja a leggyorsabb kapcsolat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Jelentős harántirányú szerep Kőbánya-Kispest, Kőbánya alsó és Zugló közö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őbánya és a belváros kapcsolatában fejlődési lehetősé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Újpest, Rákospal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megállók nem ideális elhelyezkedése miatt a vasút szerepe a potenciálhoz képest gy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quincum, Ób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pest és Aquincum között hídpótl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yugati utasforgalma napi 66 ezer fő*, ebből elővárosi utas 35 e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Nyugati elővárosi utasszámában 6%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zövegdoboz 66"/>
          <p:cNvSpPr/>
          <p:nvPr/>
        </p:nvSpPr>
        <p:spPr>
          <a:xfrm>
            <a:off x="2268360" y="5805360"/>
            <a:ext cx="458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*2010 és 2013 között Budapest bérlethez csatlakozójegyet vett utasok száma (A 2013-ban kizárt esztergomi vonal kivételéve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33"/>
          <p:cNvSpPr/>
          <p:nvPr/>
        </p:nvSpPr>
        <p:spPr>
          <a:xfrm>
            <a:off x="5435640" y="3292560"/>
            <a:ext cx="1857240" cy="1440"/>
          </a:xfrm>
          <a:custGeom>
            <a:avLst/>
            <a:gdLst/>
            <a:ahLst/>
            <a:rect l="l" t="t" r="r" b="b"/>
            <a:pathLst>
              <a:path w="12663" h="10000">
                <a:moveTo>
                  <a:pt x="0" y="10000"/>
                </a:moveTo>
                <a:cubicBezTo>
                  <a:pt x="16691" y="6667"/>
                  <a:pt x="-4028" y="3333"/>
                  <a:pt x="12663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Kele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052640"/>
            <a:ext cx="433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-Pest, Rákosmen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Rákosmente és a belváros között a vasút adja a leggyorsabb kapcsolato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ráhordás javult, de még mindig nem ide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Jelentős szerep a Rákosmente és Kőbánya közöt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Soroksár, Pesterzséb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vasút szerepe városi közlekedésben margin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i utasforgalma napi 45 ezer fő,* ebből elővárosi utas 18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Keleti elővárosi utasszámában 8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5984-E21F-46E9-879C-ECEC1F2E8D3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33"/>
          <p:cNvSpPr/>
          <p:nvPr/>
        </p:nvSpPr>
        <p:spPr>
          <a:xfrm>
            <a:off x="5502240" y="1812960"/>
            <a:ext cx="3105360" cy="216000"/>
          </a:xfrm>
          <a:custGeom>
            <a:avLst/>
            <a:gdLst/>
            <a:ahLst/>
            <a:rect l="l" t="t" r="r" b="b"/>
            <a:pathLst>
              <a:path w="8445" h="10036">
                <a:moveTo>
                  <a:pt x="0" y="10036"/>
                </a:moveTo>
                <a:lnTo>
                  <a:pt x="2989" y="9778"/>
                </a:lnTo>
                <a:cubicBezTo>
                  <a:pt x="3179" y="6531"/>
                  <a:pt x="3368" y="3283"/>
                  <a:pt x="3558" y="36"/>
                </a:cubicBezTo>
                <a:lnTo>
                  <a:pt x="8445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45"/>
          <p:cNvSpPr/>
          <p:nvPr/>
        </p:nvSpPr>
        <p:spPr>
          <a:xfrm>
            <a:off x="6807240" y="2233440"/>
            <a:ext cx="27144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7734240" y="1738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7445520" y="1738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 rot="18900000">
            <a:off x="7459560" y="102672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-Új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18"/>
          <p:cNvSpPr/>
          <p:nvPr/>
        </p:nvSpPr>
        <p:spPr>
          <a:xfrm rot="18900000">
            <a:off x="6450840" y="354600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rot="18900000">
            <a:off x="7368480" y="31446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k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30"/>
          <p:cNvSpPr/>
          <p:nvPr/>
        </p:nvSpPr>
        <p:spPr>
          <a:xfrm rot="18900000">
            <a:off x="7860960" y="1283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32"/>
          <p:cNvSpPr/>
          <p:nvPr/>
        </p:nvSpPr>
        <p:spPr>
          <a:xfrm rot="18900000">
            <a:off x="7274160" y="127548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5513400" y="2220840"/>
            <a:ext cx="3100320" cy="190440"/>
          </a:xfrm>
          <a:custGeom>
            <a:avLst/>
            <a:gdLst/>
            <a:ahLst/>
            <a:rect l="l" t="t" r="r" b="b"/>
            <a:pathLst>
              <a:path w="10062" h="10000">
                <a:moveTo>
                  <a:pt x="0" y="93"/>
                </a:moveTo>
                <a:lnTo>
                  <a:pt x="3534" y="0"/>
                </a:lnTo>
                <a:lnTo>
                  <a:pt x="4185" y="9990"/>
                </a:lnTo>
                <a:lnTo>
                  <a:pt x="10062" y="1000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 rot="18900000">
            <a:off x="5460840" y="35892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543564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5589720" y="18414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5589720" y="2033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8021520" y="173664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8"/>
          <p:cNvSpPr/>
          <p:nvPr/>
        </p:nvSpPr>
        <p:spPr>
          <a:xfrm rot="18900000">
            <a:off x="5910120" y="364428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erzséb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8"/>
          <p:cNvSpPr/>
          <p:nvPr/>
        </p:nvSpPr>
        <p:spPr>
          <a:xfrm rot="18900000">
            <a:off x="5744880" y="35892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9"/>
          <p:cNvSpPr/>
          <p:nvPr/>
        </p:nvSpPr>
        <p:spPr>
          <a:xfrm>
            <a:off x="640872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9"/>
          <p:cNvSpPr/>
          <p:nvPr/>
        </p:nvSpPr>
        <p:spPr>
          <a:xfrm rot="18900000">
            <a:off x="7108920" y="31338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9"/>
          <p:cNvSpPr/>
          <p:nvPr/>
        </p:nvSpPr>
        <p:spPr>
          <a:xfrm rot="18900000">
            <a:off x="4455720" y="369216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13"/>
          <p:cNvSpPr/>
          <p:nvPr/>
        </p:nvSpPr>
        <p:spPr>
          <a:xfrm rot="18900000">
            <a:off x="5238720" y="138240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Kele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5581800" y="31068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33"/>
          <p:cNvSpPr/>
          <p:nvPr/>
        </p:nvSpPr>
        <p:spPr>
          <a:xfrm>
            <a:off x="5508720" y="2438280"/>
            <a:ext cx="3100320" cy="190800"/>
          </a:xfrm>
          <a:custGeom>
            <a:avLst/>
            <a:gdLst/>
            <a:ahLst/>
            <a:rect l="l" t="t" r="r" b="b"/>
            <a:pathLst>
              <a:path w="9924" h="10000">
                <a:moveTo>
                  <a:pt x="0" y="94"/>
                </a:moveTo>
                <a:lnTo>
                  <a:pt x="3486" y="0"/>
                </a:lnTo>
                <a:cubicBezTo>
                  <a:pt x="3700" y="2664"/>
                  <a:pt x="3914" y="7326"/>
                  <a:pt x="4128" y="9989"/>
                </a:cubicBezTo>
                <a:lnTo>
                  <a:pt x="9924" y="10000"/>
                </a:ln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33"/>
          <p:cNvSpPr/>
          <p:nvPr/>
        </p:nvSpPr>
        <p:spPr>
          <a:xfrm>
            <a:off x="5508720" y="2654280"/>
            <a:ext cx="3105000" cy="190440"/>
          </a:xfrm>
          <a:custGeom>
            <a:avLst/>
            <a:gdLst/>
            <a:ahLst/>
            <a:rect l="l" t="t" r="r" b="b"/>
            <a:pathLst>
              <a:path w="10046" h="10000">
                <a:moveTo>
                  <a:pt x="0" y="94"/>
                </a:moveTo>
                <a:lnTo>
                  <a:pt x="3524" y="0"/>
                </a:lnTo>
                <a:cubicBezTo>
                  <a:pt x="3740" y="2664"/>
                  <a:pt x="3956" y="7326"/>
                  <a:pt x="4172" y="9989"/>
                </a:cubicBezTo>
                <a:lnTo>
                  <a:pt x="10046" y="1000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9"/>
          <p:cNvSpPr/>
          <p:nvPr/>
        </p:nvSpPr>
        <p:spPr>
          <a:xfrm>
            <a:off x="609912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9"/>
          <p:cNvSpPr/>
          <p:nvPr/>
        </p:nvSpPr>
        <p:spPr>
          <a:xfrm>
            <a:off x="638820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7743960" y="2563920"/>
            <a:ext cx="982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"/>
          <p:cNvSpPr/>
          <p:nvPr/>
        </p:nvSpPr>
        <p:spPr>
          <a:xfrm>
            <a:off x="8021520" y="2776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580000" y="2249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19"/>
          <p:cNvSpPr/>
          <p:nvPr/>
        </p:nvSpPr>
        <p:spPr>
          <a:xfrm>
            <a:off x="5580000" y="246528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2"/>
          <p:cNvSpPr/>
          <p:nvPr/>
        </p:nvSpPr>
        <p:spPr>
          <a:xfrm>
            <a:off x="6985080" y="322272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>
            <a:off x="5499000" y="2870280"/>
            <a:ext cx="1790640" cy="195120"/>
          </a:xfrm>
          <a:custGeom>
            <a:avLst/>
            <a:gdLst/>
            <a:ahLst/>
            <a:rect l="l" t="t" r="r" b="b"/>
            <a:pathLst>
              <a:path w="4960" h="11712">
                <a:moveTo>
                  <a:pt x="0" y="107"/>
                </a:moveTo>
                <a:lnTo>
                  <a:pt x="1203" y="0"/>
                </a:lnTo>
                <a:cubicBezTo>
                  <a:pt x="1388" y="3900"/>
                  <a:pt x="1554" y="7800"/>
                  <a:pt x="1739" y="11700"/>
                </a:cubicBezTo>
                <a:lnTo>
                  <a:pt x="4960" y="1171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12"/>
          <p:cNvSpPr/>
          <p:nvPr/>
        </p:nvSpPr>
        <p:spPr>
          <a:xfrm>
            <a:off x="6119640" y="2992320"/>
            <a:ext cx="9540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6696000" y="2992320"/>
            <a:ext cx="11124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49"/>
          <p:cNvSpPr/>
          <p:nvPr/>
        </p:nvSpPr>
        <p:spPr>
          <a:xfrm>
            <a:off x="5435640" y="1952640"/>
            <a:ext cx="128520" cy="9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2"/>
          <p:cNvSpPr/>
          <p:nvPr/>
        </p:nvSpPr>
        <p:spPr>
          <a:xfrm rot="18900000">
            <a:off x="5905440" y="1396800"/>
            <a:ext cx="11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2"/>
          <p:cNvSpPr/>
          <p:nvPr/>
        </p:nvSpPr>
        <p:spPr>
          <a:xfrm rot="18900000">
            <a:off x="6282000" y="15980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5407200" y="2689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zövegdoboz 7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33"/>
          <p:cNvSpPr/>
          <p:nvPr/>
        </p:nvSpPr>
        <p:spPr>
          <a:xfrm>
            <a:off x="5267160" y="22780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Dél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5195880" y="2948040"/>
            <a:ext cx="3772080" cy="449280"/>
          </a:xfrm>
          <a:custGeom>
            <a:avLst/>
            <a:gdLst/>
            <a:ahLst/>
            <a:rect l="l" t="t" r="r" b="b"/>
            <a:pathLst>
              <a:path w="13918" h="20504">
                <a:moveTo>
                  <a:pt x="0" y="0"/>
                </a:moveTo>
                <a:lnTo>
                  <a:pt x="1549" y="217"/>
                </a:lnTo>
                <a:cubicBezTo>
                  <a:pt x="1835" y="3767"/>
                  <a:pt x="2122" y="7318"/>
                  <a:pt x="2408" y="10868"/>
                </a:cubicBezTo>
                <a:lnTo>
                  <a:pt x="5724" y="10650"/>
                </a:lnTo>
                <a:cubicBezTo>
                  <a:pt x="6023" y="13766"/>
                  <a:pt x="6233" y="17100"/>
                  <a:pt x="6532" y="20216"/>
                </a:cubicBezTo>
                <a:cubicBezTo>
                  <a:pt x="11126" y="20312"/>
                  <a:pt x="9324" y="20408"/>
                  <a:pt x="13918" y="20504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44"/>
          <p:cNvSpPr/>
          <p:nvPr/>
        </p:nvSpPr>
        <p:spPr>
          <a:xfrm>
            <a:off x="6634080" y="2162160"/>
            <a:ext cx="166680" cy="11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5"/>
          <p:cNvSpPr/>
          <p:nvPr/>
        </p:nvSpPr>
        <p:spPr>
          <a:xfrm>
            <a:off x="6572160" y="2381400"/>
            <a:ext cx="2714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4"/>
          <p:cNvSpPr/>
          <p:nvPr/>
        </p:nvSpPr>
        <p:spPr>
          <a:xfrm>
            <a:off x="5240160" y="2928960"/>
            <a:ext cx="3710160" cy="252360"/>
          </a:xfrm>
          <a:custGeom>
            <a:avLst/>
            <a:gdLst/>
            <a:ahLst/>
            <a:rect l="l" t="t" r="r" b="b"/>
            <a:pathLst>
              <a:path w="13690" h="11523">
                <a:moveTo>
                  <a:pt x="0" y="11088"/>
                </a:moveTo>
                <a:cubicBezTo>
                  <a:pt x="580" y="11160"/>
                  <a:pt x="775" y="11232"/>
                  <a:pt x="1355" y="11304"/>
                </a:cubicBezTo>
                <a:cubicBezTo>
                  <a:pt x="1648" y="7609"/>
                  <a:pt x="1958" y="3914"/>
                  <a:pt x="2251" y="219"/>
                </a:cubicBezTo>
                <a:lnTo>
                  <a:pt x="5671" y="0"/>
                </a:lnTo>
                <a:cubicBezTo>
                  <a:pt x="5904" y="3333"/>
                  <a:pt x="6350" y="8189"/>
                  <a:pt x="6584" y="11523"/>
                </a:cubicBezTo>
                <a:lnTo>
                  <a:pt x="11967" y="11305"/>
                </a:lnTo>
                <a:cubicBezTo>
                  <a:pt x="12214" y="7971"/>
                  <a:pt x="12548" y="3986"/>
                  <a:pt x="12795" y="653"/>
                </a:cubicBezTo>
                <a:lnTo>
                  <a:pt x="13690" y="725"/>
                </a:lnTo>
              </a:path>
            </a:pathLst>
          </a:custGeom>
          <a:noFill/>
          <a:ln w="76320">
            <a:solidFill>
              <a:srgbClr val="99cc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79740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8"/>
          <p:cNvSpPr/>
          <p:nvPr/>
        </p:nvSpPr>
        <p:spPr>
          <a:xfrm>
            <a:off x="69642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Oval 9"/>
          <p:cNvSpPr/>
          <p:nvPr/>
        </p:nvSpPr>
        <p:spPr>
          <a:xfrm>
            <a:off x="802008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Oval 10"/>
          <p:cNvSpPr/>
          <p:nvPr/>
        </p:nvSpPr>
        <p:spPr>
          <a:xfrm>
            <a:off x="634032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Oval 12"/>
          <p:cNvSpPr/>
          <p:nvPr/>
        </p:nvSpPr>
        <p:spPr>
          <a:xfrm>
            <a:off x="747864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4"/>
          <p:cNvSpPr/>
          <p:nvPr/>
        </p:nvSpPr>
        <p:spPr>
          <a:xfrm rot="18900000">
            <a:off x="5751720" y="15868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elen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5"/>
          <p:cNvSpPr/>
          <p:nvPr/>
        </p:nvSpPr>
        <p:spPr>
          <a:xfrm rot="18900000">
            <a:off x="8184240" y="1799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8"/>
          <p:cNvSpPr/>
          <p:nvPr/>
        </p:nvSpPr>
        <p:spPr>
          <a:xfrm rot="18900000">
            <a:off x="7772400" y="36410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9"/>
          <p:cNvSpPr/>
          <p:nvPr/>
        </p:nvSpPr>
        <p:spPr>
          <a:xfrm rot="18900000">
            <a:off x="6577200" y="36936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9"/>
          <p:cNvSpPr/>
          <p:nvPr/>
        </p:nvSpPr>
        <p:spPr>
          <a:xfrm rot="18900000">
            <a:off x="6175800" y="174564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lbertfal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30"/>
          <p:cNvSpPr/>
          <p:nvPr/>
        </p:nvSpPr>
        <p:spPr>
          <a:xfrm rot="18900000">
            <a:off x="6522120" y="17902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1"/>
          <p:cNvSpPr/>
          <p:nvPr/>
        </p:nvSpPr>
        <p:spPr>
          <a:xfrm rot="18900000">
            <a:off x="6807600" y="174564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 rot="18900000">
            <a:off x="7803000" y="172800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3"/>
          <p:cNvSpPr/>
          <p:nvPr/>
        </p:nvSpPr>
        <p:spPr>
          <a:xfrm>
            <a:off x="5257800" y="24796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46"/>
          <p:cNvSpPr/>
          <p:nvPr/>
        </p:nvSpPr>
        <p:spPr>
          <a:xfrm>
            <a:off x="7732800" y="2712960"/>
            <a:ext cx="1150920" cy="1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04" h="1">
                <a:moveTo>
                  <a:pt x="0" y="1"/>
                </a:moveTo>
                <a:lnTo>
                  <a:pt x="47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5473800" y="30891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9"/>
          <p:cNvSpPr/>
          <p:nvPr/>
        </p:nvSpPr>
        <p:spPr>
          <a:xfrm rot="18900000">
            <a:off x="4818240" y="34732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5159520" y="3089160"/>
            <a:ext cx="107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5354640" y="209232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54640" y="22860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159520" y="251136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gyor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6157800" y="27338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8290080" y="3081240"/>
            <a:ext cx="16164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7209000" y="3089160"/>
            <a:ext cx="1616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148360" y="2755800"/>
            <a:ext cx="7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40-S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776772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4"/>
          <p:cNvSpPr/>
          <p:nvPr/>
        </p:nvSpPr>
        <p:spPr>
          <a:xfrm>
            <a:off x="5256360" y="2714760"/>
            <a:ext cx="3705120" cy="214200"/>
          </a:xfrm>
          <a:custGeom>
            <a:avLst/>
            <a:gdLst/>
            <a:ahLst/>
            <a:rect l="l" t="t" r="r" b="b"/>
            <a:pathLst>
              <a:path w="13769" h="10000">
                <a:moveTo>
                  <a:pt x="0" y="0"/>
                </a:moveTo>
                <a:lnTo>
                  <a:pt x="10455" y="0"/>
                </a:lnTo>
                <a:cubicBezTo>
                  <a:pt x="10703" y="3333"/>
                  <a:pt x="10985" y="6667"/>
                  <a:pt x="11233" y="10000"/>
                </a:cubicBezTo>
                <a:lnTo>
                  <a:pt x="11840" y="10000"/>
                </a:lnTo>
                <a:cubicBezTo>
                  <a:pt x="12088" y="6593"/>
                  <a:pt x="12389" y="3407"/>
                  <a:pt x="12637" y="0"/>
                </a:cubicBezTo>
                <a:lnTo>
                  <a:pt x="13769" y="7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8290080" y="2178000"/>
            <a:ext cx="161640" cy="69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8"/>
          <p:cNvSpPr/>
          <p:nvPr/>
        </p:nvSpPr>
        <p:spPr>
          <a:xfrm rot="18900000">
            <a:off x="7491960" y="3634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8"/>
          <p:cNvSpPr/>
          <p:nvPr/>
        </p:nvSpPr>
        <p:spPr>
          <a:xfrm rot="18900000">
            <a:off x="6818040" y="36892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6912000" y="33177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9"/>
          <p:cNvSpPr/>
          <p:nvPr/>
        </p:nvSpPr>
        <p:spPr>
          <a:xfrm rot="18900000">
            <a:off x="6477480" y="347580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H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19"/>
          <p:cNvSpPr/>
          <p:nvPr/>
        </p:nvSpPr>
        <p:spPr>
          <a:xfrm rot="18900000">
            <a:off x="6026400" y="34106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9"/>
          <p:cNvSpPr/>
          <p:nvPr/>
        </p:nvSpPr>
        <p:spPr>
          <a:xfrm rot="18900000">
            <a:off x="4180680" y="361008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3"/>
          <p:cNvSpPr/>
          <p:nvPr/>
        </p:nvSpPr>
        <p:spPr>
          <a:xfrm rot="18900000">
            <a:off x="4970880" y="14713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Dé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"/>
          <p:cNvSpPr/>
          <p:nvPr/>
        </p:nvSpPr>
        <p:spPr>
          <a:xfrm>
            <a:off x="5235480" y="1392120"/>
            <a:ext cx="1917720" cy="700200"/>
          </a:xfrm>
          <a:custGeom>
            <a:avLst/>
            <a:gdLst/>
            <a:ahLst/>
            <a:rect l="l" t="t" r="r" b="b"/>
            <a:pathLst>
              <a:path w="12479" h="28269">
                <a:moveTo>
                  <a:pt x="0" y="28078"/>
                </a:moveTo>
                <a:cubicBezTo>
                  <a:pt x="1023" y="28142"/>
                  <a:pt x="4341" y="28205"/>
                  <a:pt x="5364" y="28269"/>
                </a:cubicBezTo>
                <a:cubicBezTo>
                  <a:pt x="5881" y="25000"/>
                  <a:pt x="9402" y="3268"/>
                  <a:pt x="9919" y="0"/>
                </a:cubicBezTo>
                <a:lnTo>
                  <a:pt x="12479" y="189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48"/>
          <p:cNvSpPr/>
          <p:nvPr/>
        </p:nvSpPr>
        <p:spPr>
          <a:xfrm>
            <a:off x="5133960" y="1968480"/>
            <a:ext cx="16200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49"/>
          <p:cNvSpPr/>
          <p:nvPr/>
        </p:nvSpPr>
        <p:spPr>
          <a:xfrm>
            <a:off x="5864400" y="1968480"/>
            <a:ext cx="16164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5354640" y="18972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6811920" y="1309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9"/>
          <p:cNvSpPr/>
          <p:nvPr/>
        </p:nvSpPr>
        <p:spPr>
          <a:xfrm rot="18900000">
            <a:off x="6674400" y="909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ö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18"/>
          <p:cNvSpPr/>
          <p:nvPr/>
        </p:nvSpPr>
        <p:spPr>
          <a:xfrm rot="18900000">
            <a:off x="6770520" y="3830400"/>
            <a:ext cx="13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tétény-Diós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907560"/>
            <a:ext cx="4608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udafok, Nagytété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Nagytétény és a belváros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ejlődési lehetőség, a vasút szerepe a potenciálhoz képest gyen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Dél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észak-déli városi kapcsolatot lát 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Kőbánya-Kispe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-Pest és Dél-Buda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él évvel az indulás után napi 800 ut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i utasforgalma napi 33 ezer fő*, ebből elővárosi utas 21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Déli elővárosi utasszámában 7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Szövegdoboz 70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árosi, elővárosi menetrendi struktúrák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6840" y="1052640"/>
            <a:ext cx="447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Ütemes menetrendek alkalmaz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őbeli kínálatnövelés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ugalmasság biztosít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lább óránkénti közlekedés minden vonalon egész na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élóránkénti közlekedés a belső gyűrűbe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idő csökkentés menetrendi eszközökkel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Zónázó 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yorsított személy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ávolsági vonatok bevonása az elővárosi kiszolgálásb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ínálati menetrend alapján meghatározott infrastruktúraigények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FBBC-DF45-42E7-9195-93D130AF654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1"/>
          <a:stretch/>
        </p:blipFill>
        <p:spPr>
          <a:xfrm>
            <a:off x="5148360" y="1093680"/>
            <a:ext cx="3441600" cy="2952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Users\foldiak.janos\Pictures\zonazo_Zónázó képeslap 1 oldal 09 okt kicsi.jpg"/>
          <p:cNvPicPr/>
          <p:nvPr/>
        </p:nvPicPr>
        <p:blipFill>
          <a:blip r:embed="rId12"/>
          <a:stretch/>
        </p:blipFill>
        <p:spPr>
          <a:xfrm>
            <a:off x="5160960" y="4046400"/>
            <a:ext cx="34545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C:\Users\foldiak.janos\Documents\Menetrend\30a_40a_végleges.png"/>
          <p:cNvPicPr/>
          <p:nvPr/>
        </p:nvPicPr>
        <p:blipFill>
          <a:blip r:embed="rId1"/>
          <a:stretch/>
        </p:blipFill>
        <p:spPr>
          <a:xfrm>
            <a:off x="149400" y="3780000"/>
            <a:ext cx="6843600" cy="2313000"/>
          </a:xfrm>
          <a:prstGeom prst="rect">
            <a:avLst/>
          </a:prstGeom>
          <a:ln w="0">
            <a:noFill/>
          </a:ln>
        </p:spPr>
      </p:pic>
      <p:pic>
        <p:nvPicPr>
          <p:cNvPr id="817" name="Kép 1" descr=""/>
          <p:cNvPicPr/>
          <p:nvPr/>
        </p:nvPicPr>
        <p:blipFill>
          <a:blip r:embed="rId2"/>
          <a:stretch/>
        </p:blipFill>
        <p:spPr>
          <a:xfrm>
            <a:off x="7051680" y="4033800"/>
            <a:ext cx="1677960" cy="1555920"/>
          </a:xfrm>
          <a:prstGeom prst="rect">
            <a:avLst/>
          </a:prstGeom>
          <a:ln w="0">
            <a:noFill/>
          </a:ln>
        </p:spPr>
      </p:pic>
      <p:pic>
        <p:nvPicPr>
          <p:cNvPr id="818" name="Kép 1" descr=""/>
          <p:cNvPicPr/>
          <p:nvPr/>
        </p:nvPicPr>
        <p:blipFill>
          <a:blip r:embed="rId3"/>
          <a:stretch/>
        </p:blipFill>
        <p:spPr>
          <a:xfrm>
            <a:off x="4788000" y="1152360"/>
            <a:ext cx="3941640" cy="2627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Székesfehérvár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Budapest–Székesfehérvár elővárosi von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Infrastruktúrafejlesztést kihasználva menetrendi fejleszté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vonatok egésznap legalább félóránké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enetidőcsökken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-10-20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Érd alsó – Kelenföld 9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 célállomások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Kőbánya-Kispe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izárólag FLIRT motorvonat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kadálymentes állomás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Szövegdoboz 31"/>
          <p:cNvSpPr/>
          <p:nvPr/>
        </p:nvSpPr>
        <p:spPr>
          <a:xfrm rot="21229200">
            <a:off x="3018960" y="339408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6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18"/>
          <p:cNvSpPr/>
          <p:nvPr/>
        </p:nvSpPr>
        <p:spPr>
          <a:xfrm rot="21229200">
            <a:off x="2933280" y="332424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zövegdoboz 8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13 első félévről 2014 első félév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Kép 1" descr=""/>
          <p:cNvPicPr/>
          <p:nvPr/>
        </p:nvPicPr>
        <p:blipFill>
          <a:blip r:embed="rId1"/>
          <a:stretch/>
        </p:blipFill>
        <p:spPr>
          <a:xfrm>
            <a:off x="6313320" y="1695600"/>
            <a:ext cx="162108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Lajosmizs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748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Budapest–Lajosmizse elővárosi von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őbánya-Kispest helyett Budapest-Nyugati végállomás 2008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Egyre nagyobb számú Desiro motorvonat 2010-tő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Cél: órás ütem létrehozása, kapacitásbőví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ét új vonatkeresztezési hely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 egész napos órás ütem 2013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Szövegdoboz 31"/>
          <p:cNvSpPr/>
          <p:nvPr/>
        </p:nvSpPr>
        <p:spPr>
          <a:xfrm rot="20599800">
            <a:off x="6750720" y="114336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9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8"/>
          <p:cNvSpPr/>
          <p:nvPr/>
        </p:nvSpPr>
        <p:spPr>
          <a:xfrm rot="20599800">
            <a:off x="6695640" y="107316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Kép 1" descr=""/>
          <p:cNvPicPr/>
          <p:nvPr/>
        </p:nvPicPr>
        <p:blipFill>
          <a:blip r:embed="rId9"/>
          <a:stretch/>
        </p:blipFill>
        <p:spPr>
          <a:xfrm>
            <a:off x="1289160" y="3379680"/>
            <a:ext cx="6451560" cy="2641680"/>
          </a:xfrm>
          <a:prstGeom prst="rect">
            <a:avLst/>
          </a:prstGeom>
          <a:ln w="0">
            <a:noFill/>
          </a:ln>
        </p:spPr>
      </p:pic>
      <p:sp>
        <p:nvSpPr>
          <p:cNvPr id="830" name="Szövegdoboz 7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Az órás ütem bevezetésének évében 2012-ről 2013-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2165-9159-4E5A-829D-CEED89546DA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Documents and Settings\foldiak.janos\Dokumentumok\Képek\Viszonylatszám_déli_térkép.png"/>
          <p:cNvPicPr/>
          <p:nvPr/>
        </p:nvPicPr>
        <p:blipFill>
          <a:blip r:embed="rId1"/>
          <a:stretch/>
        </p:blipFill>
        <p:spPr>
          <a:xfrm>
            <a:off x="-11160" y="806400"/>
            <a:ext cx="6205680" cy="527364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2"/>
          <p:cNvSpPr/>
          <p:nvPr/>
        </p:nvSpPr>
        <p:spPr>
          <a:xfrm>
            <a:off x="341280" y="195120"/>
            <a:ext cx="862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iszonylatszámozás pilot projekt (2013. dec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zövegdoboz 11"/>
          <p:cNvSpPr/>
          <p:nvPr/>
        </p:nvSpPr>
        <p:spPr>
          <a:xfrm>
            <a:off x="5724360" y="961920"/>
            <a:ext cx="3419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erősebb integrálása a Budapesti városi közlekedés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önnyebb útvonal tervez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Módsz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Városi jellegű viszonylatjelöl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-Bahn jellegű közl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Jelölési képl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-3-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– megállási r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Z – Zónáz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G – Gyorsít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S – Szemé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3 – útv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 – végállomás kiír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Pilotprojekt terüle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iből kiinduló elővárosi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1, 30a, 40a v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9:13:52Z</dcterms:created>
  <dc:creator>MÁV</dc:creator>
  <dc:description/>
  <dc:language>en-US</dc:language>
  <cp:lastModifiedBy>kormanyos.laszlo</cp:lastModifiedBy>
  <dcterms:modified xsi:type="dcterms:W3CDTF">2014-09-11T04:25:14Z</dcterms:modified>
  <cp:revision>206</cp:revision>
  <dc:subject/>
  <dc:title>Balaton északi part - racionalizálás</dc:title>
</cp:coreProperties>
</file>