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A11-B210-40B8-82B8-792DF613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B9C-AFE9-4F87-9F4F-1B67398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017-1A74-4468-AD51-AA906685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A47-F2ED-4256-BE88-4FDA1782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DE5-CEC8-4524-9AFC-44B603B5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AF2-7FEA-46EF-A0B6-658FFBD2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1F1-B013-4A81-BEF9-096C5393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E98-E1F0-4BB8-94E0-072DCD8B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F09-33E0-482E-BE77-2C258C1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BDF-49A3-4966-8A00-120443D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C76-C0F6-4DBE-983B-6CFFFBAE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F8C-86C0-435E-AB05-14CBAB0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5E56-554C-4163-B301-3E7FF38542B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26028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9. Útügyi Nap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őr, 2014. szeptember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46360" y="2895480"/>
            <a:ext cx="7617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sszú élettartamú útpályaszerkezet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pcsolatos  európai kutatási eredmén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s építési gyakor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r. habil. Gáspár Lász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 professzor, KTI Nonprofit K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3. Az átlagosnál hosszabb élettartamú utak vizsgá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980720"/>
            <a:ext cx="8425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980-as években KÖTUKI: 216 db, min. 13 éves   kopóréteg vizsgálatának néhány eredmény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ött talajú földművön nem leh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agy f = F100/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azdaságosab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őanyag nélküli alap nem rosszabb a kötőanya-gosná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in. 2,5-ös v/D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ax. 3 tf% hézag és 100%-hoz közeli tömörség (felső két aszfaltréte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2006-2012. ELLPAG-projekt: hosszú élettarta-mú burkolatokkal foglalkozó európai munka-csoport (9 ország, közte H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Cél: információgyűjtés, használói útmutatók, útügyi szervezetek seg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lcsoportok: definíció,  új pályaszerkezet, álla-potfelmérés és felújítás, fenntartás (HU), gaz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aságosság, hiányzó ismerete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efiníci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 tartós szerkezet földműve és alapré-tege – forgalom, környezet, öregedés, anya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eszteség, rossz építésminőség miatt – nem hibásodik meg; az esetleges hibák a burkolati rétegre korlátozód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árom vizsgálati fázis: a hajlékony, a félig me-rev és a merev pályaszerkezete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oncepció csak USA-ban és Egyesült Király-ságban. Min. 300 mm-nyi aszfalt (maximált nyúlás alsó szálban). Nagy forgalomnál lehet gazdaságos. Földmű tartós állékonysága elő-feltétel. Különleges építéstechnológia lehet szükséges. Kiváló kivitelezési minősé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ás tervezési módszer és építési eljárá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989000"/>
            <a:ext cx="849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lettartam-költségekben elérhető megtakarí-tás. Pályaszerkezet-szilárdság küszöbértéke.  Máshol több lépcsőben erősítés ilyen céll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ól megépített, vastag aszfaltburkolatú pálya-szerkezet teherbíró földművön: legfeljebb fe- lülről burkolati repedés. Felső réteg periodikus cseréje szükséges. Rendszeres állapotfelvé-tel az optimális beavatkozás tervezéséhez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ltség-haszon elemzés: angol HA modellje (létesítményi és hálózati szint) és OECD PASI modellje (az amerikai SAS-modell adaptáció-ja). Költségek: építés, fenntartás, értékválto-zás, baleseti, idő-, környezeti és forgalom-szervezési költség. (A beavatkozás alatti úthasználói költségeket is számítják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Félig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ellegzetes felépít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00-290 mm-nyi aszfaltrétege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50-300 mm-es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ivétel Franciaorszá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60 mm aszfaltréte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ár 450 mm-nyi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989000"/>
            <a:ext cx="87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étféle stratégia: repedések elkerülése, ill. tűrése (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eflexiós repedés ell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lőrepesztés 3,0-3,5 m-enként (CRAFT, Olivia, Joint actif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AM, esetleg előrepesztéss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yorsan törő emulziós 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vés hőt fejlesztő ceme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stag aszfalt-pályaszerkezetré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20606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ihetetlen” francia tapasztala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190 mm B →   3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00 mm B →   5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10 mm B → 100 é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, ha teherbírásuk nem csök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repedés vagy sűrű keresztrepedés → szerkeze- ti hiba (teherátadás megszűné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UK: 200 mm-nyi aszfalt korlátozza a repedést felülrő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urópai gyakorlat: URC, CRCP, (J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olytonosan vasalt változat: B, F, NL, 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erev burkolat tervezése: tapasztalati ada-tok, laboratóriumi adatokkal alátámaszt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hoz egyenletes és tartós alap. (Földmű kevésbé terhel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Tartalomjegyz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55736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urkolat-élettartam előrebecs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átlagosnál hosszabb élettartalmú uta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LLPAG-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2 Félig merev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3 Merev pályaszerkeze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„örökké tartó” burkol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éhány ajánl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atékony felújítá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j betonréteg (hozzákötött vagy nem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ljes pályaszerkezet-cs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rack and seat” + vasalatlan beton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űrészelt hézagú 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zúzalékrétegen új réteg(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rt beton alapként történő újrahasznosítása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2002-2004. OECD-munkabizottság: hosszú élet-tartamú kopóréteg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öntő: tervezés, anyagok, bedolgoz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zámos változat közül a HDM-4 és az angol mo-dell alkalmazásával választott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poxi-aszfalt és a nagy teljesítményű beton bi- zonyult legígéretesebb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munka II: fázisa: kísérleti szakaszok vizsgál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gyesült Államokban az „örökké tartó” burkolatok elvét az AASHO-útkísérletekre, a „michigan-i” konfe-rencia-sorozatra és a mechanikai-tapasztalati terve-zési eljárásra vezetik vis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ellemző felépít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35-75 mm-es mZMA vagy Superpave kopó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-150 mm-nyi nagy modulusú aszfaltréte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75-100 mm-nyi fáradásnak ellenálló aszfal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ó minőségű alsó alapréteg és földm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rvezési krité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ek alatti vízszintes megnyúl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ükrön fajlagos összenyomó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orlátoz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nkremeneteli hatá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réknyomokban 10 %-nyi  reped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l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fegyelmezett építés, gyakorlott és lelkiismere-tes személyzet, egyértelmű és korszerű szabályo-zás, minden elemre kiterjedő minőségbiztosítá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6. Néhány aján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844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ábbi hazai és külföldi tapasztalatok alapján a hosszú bur-kolat-élettartamhoz szüksé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legendő pénz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on gondolkodó úttulajdon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emzetgazdasági érdekeket tükröző szabályozási rendsz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elkészült és elkötelezett útkezelő, -fennta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zzáértő és lelkiismeretes tervező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jó minőségre törekvő alapanyag-gyá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ra tervező kivitelez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z újdonságokra fogékony „érdekelt fele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zövegdoboz 1"/>
          <p:cNvSpPr/>
          <p:nvPr/>
        </p:nvSpPr>
        <p:spPr>
          <a:xfrm>
            <a:off x="539640" y="270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Köszönöm a szíves figyelmük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télettartam definiálá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odulo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unkcióképessé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eavatkozási hatá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étegek megváltozott funkciój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úlüzemeltetés”, ún. pénzügyi élettar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ályaszerkezet élettartamát befolyásoló tényezők szinergikus hatá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orgalom (járműszám, tengelyterhelés, -elrende-zés, jármű felfüggesztése, szezonális eloszlás, forgalomfejlődés járműkategóriánként, forgalmi sáv szélesség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rnyezet (tervezéskor ismert: talaj, mikroklíma, földrengés-, árvízveszélyesség; tervezéskor nem ismert: egyes éghajlat-változási elem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ervezés (szabályozáson túl, hozzáértő, gondos, víztelenítés!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pítés (felkészült, lelkiismeretes, hosszabb távon gondolkodó, teljesítményi alapú szer-ződé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nntartás (időben, szakszerű, megelőző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lújítás (időben, színvonalas tervezés és végrehajtá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Leromlási folyamat, állapotparaméter, leromlási görbe – hálózatviselkedési modell, beavatkozá-si és figyelmeztető határ, maradékérték, telje-sítményi jelzőszá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73-79. KÖTUKI: 32 szakasz évi kétszeri álla-potvizsgálata (kézi és gépi mérés, szubjektív jellemzés, kopásmérés, várható élettartam-tar-tomány tervezési kategóriánké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I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91 óta 60 szakasz évi egyszeri „monito-rozása”: 14 osztály, 6 állapotparaméter, pontosodó hálózatviselkedési modellek állapotparaméterenként idő és forgalom függvényében, beavatkozás után annak jellemzőit és hatását mérik fel, hasznosí-tás PMS-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talom helye 3" descr="48.CGM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talom helye 3" descr="76.CGM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7:21:54Z</dcterms:created>
  <dc:creator>Keleti Imre</dc:creator>
  <dc:description/>
  <dc:language>en-US</dc:language>
  <cp:lastModifiedBy>Gáspár László, Dr. habil.</cp:lastModifiedBy>
  <dcterms:modified xsi:type="dcterms:W3CDTF">2014-09-12T11:13:29Z</dcterms:modified>
  <cp:revision>50</cp:revision>
  <dc:subject/>
  <dc:title>PowerPoint bemutató</dc:title>
</cp:coreProperties>
</file>