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A5F2-2C13-4F0D-989C-A1E5FAD5E41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AFE9-EE5B-48CC-B4C3-236B789C6B7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7C91-F43C-4F36-B47D-985A33229C2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8133-704E-4178-BA17-1D947FB24385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FFA-5FF7-427D-9F07-2AFF0AB9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F0B-09BF-4C44-987D-E495CE26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61377E-BB21-469A-ACDA-1501F68A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F17227-0FF2-4C70-B411-9AE59F53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0AF81C-2EF3-4D5D-849A-FBB1F3F3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D2F9F2-AD7B-4E15-9F77-DA7E61AB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1037A4-5BAD-42B3-BA67-C26C1A1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8899F6-FF1A-4794-83B9-DBFD07D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B87B74-FFDD-4AB9-A104-29B7D971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2275ED-4F5D-4928-AB8B-85750967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6A91E2-3ECB-4516-9D8D-1DC55300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92BD34-784A-4843-9641-5D77C143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923-B3E7-40C4-B6CB-3A5FD2AC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9485E0-A0F3-497D-9E0D-4A02AC4D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CB619A-03CD-4DDE-BD26-7CA1081F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BC0217-EFF0-49F1-A687-B19789A8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640512-58AC-4501-A45D-5B0E45DC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4BF3B4-019A-4024-A2CE-B3408899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2DD2AD-F4A8-4546-918E-11A5EAF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DEBE61-7786-4880-84B4-3F9B674A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584824-B316-4A81-B26D-85A851DB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FAADDE-9917-44B8-A076-3FBF8034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F52E0C-A7B0-4D02-83AD-7C8993D9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239-38DA-48FE-ABD1-6E57696A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EE52E0-1740-4E63-9CC5-1D04CA06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6221B9-CCDB-4980-A659-DE426F20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82F640-1896-424E-A08E-A5384B0C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6A79D0-5BDF-44B6-9C55-72C093DB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8D116C-E8E7-40F7-8541-E7B603C9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D64D79-7889-48FB-AD7E-207E4735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960FD1-5180-45EB-8A35-346F67A1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24E900-8F2F-41A4-94BB-F39C068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76B5E5-8148-4CD8-BA0A-C8D304E7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813183-948F-4444-9C9F-D6F76C3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AAF0-A6B7-4A80-B2D1-9AB015CD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B87AA0-3D72-4856-9252-6EB4B611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455AEA-37B9-4D76-B7EC-0814C3C8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2F0986-AA66-49EB-9964-B3FE5CE7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A980CE-67D3-4EC3-BE79-BE03342E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D76BC8-0929-44E8-B02D-560C738D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B74D03-8D4D-482D-8514-7ACF4DCC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6692CD-85E7-45C8-A69C-B1969E5D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4F0EED-FC7D-47C7-9614-99DE15D5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31AA26-9D16-4DEB-9B7F-EB3A024D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9EE872-14CA-4EEB-8A37-2EFA269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AFE2-C701-4B38-A668-F9FA43BA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CD303C-850B-4CED-B6AF-D487D8F6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D52065-19F4-4D0E-B396-5B239DC1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E6B3BC-E08E-4397-8121-0F2549D2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379F68-DA05-4985-A3DA-64F43E38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A8D4B4-E969-41D0-86C5-D4D6091D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6B315F-13A7-486C-8229-DC2D0F3F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B20073-5FB5-4AEC-AB5C-9144C93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C74F1C-303E-45A4-9F71-8A392D62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43261D-40F8-4BAF-934C-8C731B6F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E3AC8F-10E9-43F6-AF30-9265E5A1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658A-1293-4F2D-B6ED-6367031B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BE6486-74FB-4BA0-A18B-ECD85617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190CFE-055B-4111-A49B-77BE8A79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219074-4099-4617-862C-9B5FA1BA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13D860-6B25-46FE-B1B4-3A1E7DD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80A273-92E2-4D5F-814E-81F581F8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A716B3-7E6A-4F3F-A62D-93E35BFC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5976AB-EA3C-4476-AB35-E63C5C95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4D8C82-A08E-4A09-B89C-10A5588C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778313-DC59-4A17-B719-6319FBDC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A0E7EF-94C8-472B-8D87-AFAD84A6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984F-E1D9-4272-A591-07149AE7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2711D1-0AD9-4B02-B4F8-D89FC38C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D2AE3A-830F-4D66-B8BD-872E8CC2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8DF524-EDD0-4BD6-9E15-102A9586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116DC0B-A5DF-47D3-A90A-CFBAF0CF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2795B4-F6AD-4A4A-8BF4-838B80BF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596117-FBCC-4D52-A746-68E40DFD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053E36-320B-4A7C-AA29-724383D4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4827FB-A98A-4B2F-B676-6B7CF957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510163-E5DE-47B9-B82B-90C743DB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4EB68B-751B-4D61-92E2-425018E1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7FB9-B144-487C-941D-B0ED8A62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9C106E-C325-4542-9F5F-5A4D6928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BFBFBC-C43A-455D-9860-E5D1319A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D5104A-FD04-4CE0-AC34-8DED5D99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E4355A-579C-4983-ABF9-F474FCA2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86C049-869D-43FA-89C1-380BAEED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43D327-AA62-4A52-8823-055B633B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7291FE-EAD6-4C51-BDEC-F905A18F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0A094F-BD93-4691-BF15-3820DDC6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B7906C-998A-49B4-BD74-55F5A14D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C1BAC3-55B0-4245-80A0-0AA2AA6C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BE22-5DE7-44C1-886D-E95B4492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8BFCA9-A110-44FF-B7B2-0E5FC24D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6A61-8970-4B28-823C-9D316D86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E22-F758-42E2-A9B8-B27D026D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979E-3A7B-49B0-AFFD-CB161EC3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91FD-7547-4B11-9986-FCDBC249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3D56-3901-4745-AE90-7CBCF4F1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0B62-467E-4802-9DA9-202FB83A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9487-2549-47C0-AB59-584EEB20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115-259A-473F-AFEC-CDB85713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7A07C-D70D-41A2-BFBC-97AA15EA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0539F-4AF3-4566-A4B2-15CF8B5D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32B2C-6EED-4D58-B005-4B05C851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318-6239-4586-BF40-0AE6137A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64F99B-F8D7-4C26-A198-C0D7AE6C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D79CC-4074-47DA-BF18-22349E0E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F817A-CB94-4F60-AAA4-867B49CD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E5688-104B-4D79-9AFB-24092A26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488381-444C-4822-BAB4-3E570743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C75E3-EEFD-41BE-BA7E-F80A2D4F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89BD8-479B-4C7F-9BFF-990C4FF6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E0EAE-650F-4E8C-9554-ACF7EE80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19668-B4E4-43FF-8D47-96A514A5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C4B5B-65D3-41A3-ACA4-5D58FAFF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EDD-C45C-442C-8D9E-8A349722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31B28-1DEC-41CA-87CD-394DF2C2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F074C-AE79-4AE1-ADA4-7B7D2D4C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02850-860A-4F7B-818C-D85A8667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37269-6EC5-48D6-99BF-98E5F217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5D7EF-42B2-48AA-A3B7-9B228301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A8014-BE9F-4572-8FA7-62BDF3DE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981FB-4D19-47BE-B125-3526EE85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ED965-F845-4665-A0E5-82BDC77F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FC9B7-DFAF-4357-BD3F-89CC5B75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6EB227-5C68-43AB-BFE4-2DEAA187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E7C-FD14-4669-B847-E04568E5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0E74B-F027-4EA8-B40E-FE6E25DB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D1275-2A78-4D64-AA8E-7AD22D90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05FD0-719C-4E6E-A23E-4905D001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98CF9-CD86-4F57-BE08-0DCAA13B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91BBC2-9803-4BFF-B868-8B9AAE5B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51DA7D-F4E9-42E6-B624-8A3B7517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47EA7-CB3A-41DD-A2B8-05748EF6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0C6F1-2C82-4A9D-9C38-93A13CA3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8CE5C-5DA1-4EF0-91C7-22B7F9C7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05E77-D591-45C8-9E67-5CF5BDFC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100D-3BF6-40C2-9B75-452E2BA5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27E9F-C0DF-42F3-92C9-2AF9EAAE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454CA-ACAF-4605-9E7A-5440A516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04226-9505-484D-8024-95243D6D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CAA93-2055-4BE3-99BA-57180561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317C96-20D8-475D-99D0-5825F548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D53E8-B177-4DA2-8897-B55B28CE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134C6-8A96-4562-A69A-382A3926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565E54-BEB6-4F59-B637-5F9489D6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E744B-28D0-4A84-BB37-5DAB1A3F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1F33BB-C6AC-44AB-BE7E-0FE6CCD9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D33-A522-4080-890B-DB4B17B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4D747-44D5-499C-B114-8C84805F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93F7D-E02F-424D-AF4A-F2FBAAC1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BB05F-3B07-4C3C-992D-D5633C52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9E856-01CC-4D81-9D42-82CEB5DF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A24AF-A5CD-4BFE-AC19-A1D5EBAA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878F3E-0AF4-4C52-B60E-53D3AE6C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E7F40D-D07C-44DD-9476-9E3BF45A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655D72-590F-4DC0-8FF6-9F8AAE3B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7D2051-4ED0-4441-A6A3-0D58512D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70691A-0693-4EF2-B734-45AC8233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171-A810-490E-8F0D-9AC58F9E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94920" y="194760"/>
            <a:ext cx="75438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75D66E-9372-4BF1-B5C1-1A3982D1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EDF0A6-9690-46AF-9A98-84364570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C71ED0-8DC3-434D-B64B-93680CFC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5BFCE7-6F85-4228-9D24-233D9EB5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535200"/>
            <a:ext cx="822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E06199-5E4D-484A-88F3-B5DA3134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05264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535200"/>
            <a:ext cx="4015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83D45F-38D5-41B6-9B03-9A4FA30D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05264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535200"/>
            <a:ext cx="2649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0EEFA1-57D8-4B2A-BAC9-50DE0E81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47B22F-8139-46CF-92BF-8E26703E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FE62FF-6A6C-4E05-BE3B-EC225C74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53CFE0-16C3-449A-BF6D-AD26094E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B19E-F3F3-4E9A-BB16-D2DCDCB919B1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9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AC8B-FABF-4053-A31D-0597EFF88D9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EA70-89D9-40A7-8B80-F1C30BC9123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5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EDC6-E844-416B-A8DF-74B7A75C06E5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8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38DC-B122-4D8E-B362-1FF15CD40F40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73CB-72EF-4C9B-859C-AD2358153503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A542-B841-4404-AB96-5B19575E4200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FC17-6657-4E14-9135-7958AB7B7887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6" descr="also_vonal_ppthez"/>
          <p:cNvPicPr/>
          <p:nvPr/>
        </p:nvPicPr>
        <p:blipFill>
          <a:blip r:embed="rId9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4"/>
          <p:cNvSpPr/>
          <p:nvPr/>
        </p:nvSpPr>
        <p:spPr>
          <a:xfrm>
            <a:off x="1619280" y="573408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Előadó: Kozák Tam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5" descr="mavstart prezent PPT_szurke hatter flekk"/>
          <p:cNvPicPr/>
          <p:nvPr/>
        </p:nvPicPr>
        <p:blipFill>
          <a:blip r:embed="rId2"/>
          <a:stretch/>
        </p:blipFill>
        <p:spPr>
          <a:xfrm>
            <a:off x="639720" y="1486080"/>
            <a:ext cx="8504280" cy="475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uj_designsavos_logo_RGB"/>
          <p:cNvPicPr/>
          <p:nvPr/>
        </p:nvPicPr>
        <p:blipFill>
          <a:blip r:embed="rId3"/>
          <a:stretch/>
        </p:blipFill>
        <p:spPr>
          <a:xfrm>
            <a:off x="1440" y="299880"/>
            <a:ext cx="5362560" cy="681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1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5EAC-A35C-4486-AC1D-04BE966A4C7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4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6262-8DA7-4F0A-9CA0-22D1F18D54A4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7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7C74-C1BD-4A42-BE10-F56B05A4382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0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29A3-76E8-4A24-A92A-C47332A9BC27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3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13BB-55A0-4320-9AE8-50EFD83E41D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41"/>
          <p:cNvSpPr/>
          <p:nvPr/>
        </p:nvSpPr>
        <p:spPr>
          <a:xfrm>
            <a:off x="0" y="765000"/>
            <a:ext cx="8101080" cy="0"/>
          </a:xfrm>
          <a:prstGeom prst="line">
            <a:avLst/>
          </a:prstGeom>
          <a:ln w="12600">
            <a:solidFill>
              <a:srgbClr val="004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46" descr="also_vonal_ppthez"/>
          <p:cNvPicPr/>
          <p:nvPr/>
        </p:nvPicPr>
        <p:blipFill>
          <a:blip r:embed="rId2"/>
          <a:stretch/>
        </p:blipFill>
        <p:spPr>
          <a:xfrm>
            <a:off x="0" y="607680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1598760" indent="-316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1598760" indent="-316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1598760" indent="-316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6"/>
          </p:nvPr>
        </p:nvSpPr>
        <p:spPr>
          <a:xfrm>
            <a:off x="700992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C468-6FDE-48D3-B9AF-554944D6396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8"/>
          <p:cNvSpPr/>
          <p:nvPr/>
        </p:nvSpPr>
        <p:spPr>
          <a:xfrm>
            <a:off x="971640" y="1490760"/>
            <a:ext cx="7921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87"/>
                </a:solidFill>
                <a:latin typeface="Arial"/>
              </a:rPr>
              <a:t>Az elmúlt évek városi-közlekedés fejlesztéseinek tapasztalat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692360" y="3705120"/>
            <a:ext cx="4375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2700360" y="4653000"/>
            <a:ext cx="431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4687"/>
                </a:solidFill>
                <a:latin typeface="Arial"/>
              </a:rPr>
              <a:t>Dr. Kormányos Lászl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687"/>
                </a:solidFill>
                <a:latin typeface="Arial"/>
              </a:rPr>
              <a:t>marketing és fejlesztési vezető, MÁV-START Zr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2" descr="C:\Users\foldiak.janos\Pictures\FLIRT-rákosmente.jpg"/>
          <p:cNvPicPr/>
          <p:nvPr/>
        </p:nvPicPr>
        <p:blipFill>
          <a:blip r:embed="rId1"/>
          <a:srcRect l="0" t="25972" r="0" b="0"/>
          <a:stretch/>
        </p:blipFill>
        <p:spPr>
          <a:xfrm>
            <a:off x="2143080" y="2421000"/>
            <a:ext cx="5453280" cy="20826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2461680" y="5301720"/>
            <a:ext cx="4908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XIV. A Városi közlekedés aktuális kérdé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A Közlekedéstudományi Egyesület Városi Közlekedési Tagozata</a:t>
            </a: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87"/>
                </a:solidFill>
                <a:latin typeface="Arial"/>
              </a:rPr>
              <a:t>Balatonfenyves, 2014. szeptember 1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Freeform 49"/>
          <p:cNvSpPr/>
          <p:nvPr/>
        </p:nvSpPr>
        <p:spPr>
          <a:xfrm>
            <a:off x="4280040" y="3573360"/>
            <a:ext cx="4330440" cy="1800"/>
          </a:xfrm>
          <a:custGeom>
            <a:avLst/>
            <a:gdLst/>
            <a:ahLst/>
            <a:rect l="l" t="t" r="r" b="b"/>
            <a:pathLst>
              <a:path w="11018" h="10000">
                <a:moveTo>
                  <a:pt x="0" y="10000"/>
                </a:moveTo>
                <a:cubicBezTo>
                  <a:pt x="5557" y="6667"/>
                  <a:pt x="5461" y="3333"/>
                  <a:pt x="11018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37"/>
          <p:cNvSpPr/>
          <p:nvPr/>
        </p:nvSpPr>
        <p:spPr>
          <a:xfrm rot="18900000">
            <a:off x="4174920" y="25268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 Box 38"/>
          <p:cNvSpPr/>
          <p:nvPr/>
        </p:nvSpPr>
        <p:spPr>
          <a:xfrm rot="18900000">
            <a:off x="4672800" y="28173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40"/>
          <p:cNvSpPr/>
          <p:nvPr/>
        </p:nvSpPr>
        <p:spPr>
          <a:xfrm rot="18900000">
            <a:off x="6508080" y="2816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43"/>
          <p:cNvSpPr/>
          <p:nvPr/>
        </p:nvSpPr>
        <p:spPr>
          <a:xfrm rot="18900000">
            <a:off x="3601440" y="20142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51"/>
          <p:cNvSpPr/>
          <p:nvPr/>
        </p:nvSpPr>
        <p:spPr>
          <a:xfrm>
            <a:off x="455616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23"/>
          <p:cNvSpPr/>
          <p:nvPr/>
        </p:nvSpPr>
        <p:spPr>
          <a:xfrm>
            <a:off x="491508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 Box 41"/>
          <p:cNvSpPr/>
          <p:nvPr/>
        </p:nvSpPr>
        <p:spPr>
          <a:xfrm rot="18900000">
            <a:off x="5397120" y="2569680"/>
            <a:ext cx="22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ádorker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 Box 41"/>
          <p:cNvSpPr/>
          <p:nvPr/>
        </p:nvSpPr>
        <p:spPr>
          <a:xfrm rot="18900000">
            <a:off x="5594400" y="221292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S3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3"/>
          <p:cNvSpPr/>
          <p:nvPr/>
        </p:nvSpPr>
        <p:spPr>
          <a:xfrm>
            <a:off x="601344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Oval 23"/>
          <p:cNvSpPr/>
          <p:nvPr/>
        </p:nvSpPr>
        <p:spPr>
          <a:xfrm>
            <a:off x="5294160" y="35020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Oval 23"/>
          <p:cNvSpPr/>
          <p:nvPr/>
        </p:nvSpPr>
        <p:spPr>
          <a:xfrm>
            <a:off x="5678640" y="35020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5646600" y="3933720"/>
            <a:ext cx="3318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kiszolgálandó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3"/>
          <p:cNvSpPr/>
          <p:nvPr/>
        </p:nvSpPr>
        <p:spPr>
          <a:xfrm>
            <a:off x="5364000" y="4395960"/>
            <a:ext cx="133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Oval 50"/>
          <p:cNvSpPr/>
          <p:nvPr/>
        </p:nvSpPr>
        <p:spPr>
          <a:xfrm>
            <a:off x="5365800" y="3933720"/>
            <a:ext cx="131760" cy="1429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Oval 24"/>
          <p:cNvSpPr/>
          <p:nvPr/>
        </p:nvSpPr>
        <p:spPr>
          <a:xfrm>
            <a:off x="5365800" y="4095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Oval 50"/>
          <p:cNvSpPr/>
          <p:nvPr/>
        </p:nvSpPr>
        <p:spPr>
          <a:xfrm>
            <a:off x="5364000" y="4259160"/>
            <a:ext cx="1335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50"/>
          <p:cNvSpPr/>
          <p:nvPr/>
        </p:nvSpPr>
        <p:spPr>
          <a:xfrm flipV="1">
            <a:off x="6373800" y="350136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Oval 50"/>
          <p:cNvSpPr/>
          <p:nvPr/>
        </p:nvSpPr>
        <p:spPr>
          <a:xfrm flipV="1">
            <a:off x="6734160" y="3501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 Box 39"/>
          <p:cNvSpPr/>
          <p:nvPr/>
        </p:nvSpPr>
        <p:spPr>
          <a:xfrm rot="18900000">
            <a:off x="4919400" y="2449080"/>
            <a:ext cx="254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 Box 40"/>
          <p:cNvSpPr/>
          <p:nvPr/>
        </p:nvSpPr>
        <p:spPr>
          <a:xfrm rot="18900000">
            <a:off x="6149160" y="2819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7308720" y="319392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50"/>
          <p:cNvSpPr/>
          <p:nvPr/>
        </p:nvSpPr>
        <p:spPr>
          <a:xfrm>
            <a:off x="4203720" y="350208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Rectangle 18"/>
          <p:cNvSpPr/>
          <p:nvPr/>
        </p:nvSpPr>
        <p:spPr>
          <a:xfrm>
            <a:off x="196920" y="925560"/>
            <a:ext cx="372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, egy új székesfehérvári gyorsított személyvonat meghosszabbít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tétény kiszolgálását Székesfehérvár felől ez a viszonylat oldja m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Továbbfejleszt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fokon új megállást kap a vonat 2014 áprili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Minden vonat FLIRT 2014 júniustó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Oval 50"/>
          <p:cNvSpPr/>
          <p:nvPr/>
        </p:nvSpPr>
        <p:spPr>
          <a:xfrm flipV="1">
            <a:off x="7093080" y="350028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 Box 40"/>
          <p:cNvSpPr/>
          <p:nvPr/>
        </p:nvSpPr>
        <p:spPr>
          <a:xfrm rot="18900000">
            <a:off x="6866640" y="2817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Kép 2" descr=""/>
          <p:cNvPicPr/>
          <p:nvPr/>
        </p:nvPicPr>
        <p:blipFill>
          <a:blip r:embed="rId1"/>
          <a:srcRect l="0" t="36337" r="0" b="9157"/>
          <a:stretch/>
        </p:blipFill>
        <p:spPr>
          <a:xfrm>
            <a:off x="2700360" y="4724280"/>
            <a:ext cx="375300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4: Dél-Pest–Dél-Buda óránként: Tapasztal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18"/>
          <p:cNvSpPr/>
          <p:nvPr/>
        </p:nvSpPr>
        <p:spPr>
          <a:xfrm>
            <a:off x="250920" y="925560"/>
            <a:ext cx="42750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Tapasztalat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agy siker, pozitív sajtóvisszhang és utasészrevétel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Negatív visszhang a szerelvényeket illető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ezdetekben alacsony kihasználtsá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Folyamatosan növekvő utasszám, már napi 800 utast szállítu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Politikai megkeresések és utasészrevételek új megállások beiktatásá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Kép 1" descr=""/>
          <p:cNvPicPr/>
          <p:nvPr/>
        </p:nvPicPr>
        <p:blipFill>
          <a:blip r:embed="rId1"/>
          <a:srcRect l="0" t="12020" r="0" b="7028"/>
          <a:stretch/>
        </p:blipFill>
        <p:spPr>
          <a:xfrm>
            <a:off x="455760" y="4076640"/>
            <a:ext cx="4070160" cy="1873440"/>
          </a:xfrm>
          <a:prstGeom prst="rect">
            <a:avLst/>
          </a:prstGeom>
          <a:ln w="0">
            <a:noFill/>
          </a:ln>
        </p:spPr>
      </p:pic>
      <p:pic>
        <p:nvPicPr>
          <p:cNvPr id="867" name="Kép 3" descr=""/>
          <p:cNvPicPr/>
          <p:nvPr/>
        </p:nvPicPr>
        <p:blipFill>
          <a:blip r:embed="rId2"/>
          <a:srcRect l="1513" t="0" r="0" b="0"/>
          <a:stretch/>
        </p:blipFill>
        <p:spPr>
          <a:xfrm>
            <a:off x="4638600" y="4076640"/>
            <a:ext cx="4070520" cy="187344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18"/>
          <p:cNvSpPr/>
          <p:nvPr/>
        </p:nvSpPr>
        <p:spPr>
          <a:xfrm>
            <a:off x="4822920" y="925560"/>
            <a:ext cx="407016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Fejlesztés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zerelvényösszeállítás a kezdetekb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unkanapokon hagyományos szerelvények alkalmaz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LIRT motorvonatok csak hétvégé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június: munkanapokon is FLI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április: új megállás: Buda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2014 december: új megállás: Barosstelep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Freeform 49"/>
          <p:cNvSpPr/>
          <p:nvPr/>
        </p:nvSpPr>
        <p:spPr>
          <a:xfrm>
            <a:off x="3648240" y="3835440"/>
            <a:ext cx="5321160" cy="1440"/>
          </a:xfrm>
          <a:custGeom>
            <a:avLst/>
            <a:gdLst/>
            <a:ahLst/>
            <a:rect l="l" t="t" r="r" b="b"/>
            <a:pathLst>
              <a:path w="13409" h="10000">
                <a:moveTo>
                  <a:pt x="0" y="10000"/>
                </a:moveTo>
                <a:cubicBezTo>
                  <a:pt x="5504" y="6667"/>
                  <a:pt x="7905" y="3333"/>
                  <a:pt x="13409" y="0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0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3059280" y="4797360"/>
            <a:ext cx="3682800" cy="1403280"/>
          </a:xfrm>
          <a:prstGeom prst="rect">
            <a:avLst/>
          </a:prstGeom>
          <a:ln w="0">
            <a:noFill/>
          </a:ln>
        </p:spPr>
      </p:pic>
      <p:sp>
        <p:nvSpPr>
          <p:cNvPr id="871" name="Freeform 49"/>
          <p:cNvSpPr/>
          <p:nvPr/>
        </p:nvSpPr>
        <p:spPr>
          <a:xfrm>
            <a:off x="3686040" y="3683160"/>
            <a:ext cx="4502160" cy="1440"/>
          </a:xfrm>
          <a:custGeom>
            <a:avLst/>
            <a:gdLst/>
            <a:ahLst/>
            <a:rect l="l" t="t" r="r" b="b"/>
            <a:pathLst>
              <a:path w="11454" h="10000">
                <a:moveTo>
                  <a:pt x="0" y="10000"/>
                </a:moveTo>
                <a:cubicBezTo>
                  <a:pt x="5557" y="6667"/>
                  <a:pt x="5897" y="3333"/>
                  <a:pt x="11454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2015: Dél-Pest–Dél-Buda félóránké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 Box 37"/>
          <p:cNvSpPr/>
          <p:nvPr/>
        </p:nvSpPr>
        <p:spPr>
          <a:xfrm rot="18900000">
            <a:off x="3581280" y="2636640"/>
            <a:ext cx="23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 M)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,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 Box 38"/>
          <p:cNvSpPr/>
          <p:nvPr/>
        </p:nvSpPr>
        <p:spPr>
          <a:xfrm rot="18900000">
            <a:off x="4079160" y="29271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 Box 40"/>
          <p:cNvSpPr/>
          <p:nvPr/>
        </p:nvSpPr>
        <p:spPr>
          <a:xfrm rot="18900000">
            <a:off x="6267240" y="309204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 Box 43"/>
          <p:cNvSpPr/>
          <p:nvPr/>
        </p:nvSpPr>
        <p:spPr>
          <a:xfrm rot="18900000">
            <a:off x="3008160" y="2123640"/>
            <a:ext cx="37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1, S25, S50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Z5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51,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200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Oval 51"/>
          <p:cNvSpPr/>
          <p:nvPr/>
        </p:nvSpPr>
        <p:spPr>
          <a:xfrm>
            <a:off x="3962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Oval 23"/>
          <p:cNvSpPr/>
          <p:nvPr/>
        </p:nvSpPr>
        <p:spPr>
          <a:xfrm>
            <a:off x="4321080" y="361152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 Box 41"/>
          <p:cNvSpPr/>
          <p:nvPr/>
        </p:nvSpPr>
        <p:spPr>
          <a:xfrm rot="18900000">
            <a:off x="4803840" y="2679480"/>
            <a:ext cx="222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Nádorkert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8, 41, 47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 Box 41"/>
          <p:cNvSpPr/>
          <p:nvPr/>
        </p:nvSpPr>
        <p:spPr>
          <a:xfrm rot="18900000">
            <a:off x="5000760" y="2322360"/>
            <a:ext cx="31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lenföl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19, 49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M4,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1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3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40, S4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8"/>
          <p:cNvSpPr/>
          <p:nvPr/>
        </p:nvSpPr>
        <p:spPr>
          <a:xfrm>
            <a:off x="3421080" y="692280"/>
            <a:ext cx="56149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S3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és</a:t>
            </a: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vasúti-viszonylatok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23"/>
          <p:cNvSpPr/>
          <p:nvPr/>
        </p:nvSpPr>
        <p:spPr>
          <a:xfrm>
            <a:off x="541980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23"/>
          <p:cNvSpPr/>
          <p:nvPr/>
        </p:nvSpPr>
        <p:spPr>
          <a:xfrm>
            <a:off x="4700520" y="36115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Oval 23"/>
          <p:cNvSpPr/>
          <p:nvPr/>
        </p:nvSpPr>
        <p:spPr>
          <a:xfrm>
            <a:off x="5084640" y="36115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Rectangle 18"/>
          <p:cNvSpPr/>
          <p:nvPr/>
        </p:nvSpPr>
        <p:spPr>
          <a:xfrm>
            <a:off x="3900600" y="4073400"/>
            <a:ext cx="3317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Első fázisban kiszolgált, később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Oval 23"/>
          <p:cNvSpPr/>
          <p:nvPr/>
        </p:nvSpPr>
        <p:spPr>
          <a:xfrm>
            <a:off x="3618000" y="4363920"/>
            <a:ext cx="13320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50"/>
          <p:cNvSpPr/>
          <p:nvPr/>
        </p:nvSpPr>
        <p:spPr>
          <a:xfrm>
            <a:off x="3619440" y="4041720"/>
            <a:ext cx="1317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Oval 24"/>
          <p:cNvSpPr/>
          <p:nvPr/>
        </p:nvSpPr>
        <p:spPr>
          <a:xfrm>
            <a:off x="3619440" y="4205160"/>
            <a:ext cx="1317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50"/>
          <p:cNvSpPr/>
          <p:nvPr/>
        </p:nvSpPr>
        <p:spPr>
          <a:xfrm flipV="1">
            <a:off x="6424560" y="361080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 Box 39"/>
          <p:cNvSpPr/>
          <p:nvPr/>
        </p:nvSpPr>
        <p:spPr>
          <a:xfrm rot="18900000">
            <a:off x="4325400" y="2558520"/>
            <a:ext cx="254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Arial"/>
              </a:rPr>
              <a:t>Közvágóhí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5/S26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 Box 40"/>
          <p:cNvSpPr/>
          <p:nvPr/>
        </p:nvSpPr>
        <p:spPr>
          <a:xfrm rot="18900000">
            <a:off x="5839560" y="292860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dafok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 Box 31"/>
          <p:cNvSpPr/>
          <p:nvPr/>
        </p:nvSpPr>
        <p:spPr>
          <a:xfrm>
            <a:off x="7577280" y="3549600"/>
            <a:ext cx="104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3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Oval 50"/>
          <p:cNvSpPr/>
          <p:nvPr/>
        </p:nvSpPr>
        <p:spPr>
          <a:xfrm>
            <a:off x="3610080" y="361152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Rectangle 18"/>
          <p:cNvSpPr/>
          <p:nvPr/>
        </p:nvSpPr>
        <p:spPr>
          <a:xfrm>
            <a:off x="196920" y="925560"/>
            <a:ext cx="331128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Kelenföld–Kőbánya-Kispest kapcsolat fejlesztése, egy újabb elővárosi viszonylat bevonásáv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Mára teljesült 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30a vonal, és az Érd felső és Tárnok közti összekötő szakasz felújításának befejeződ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alacsony kihasználtságú S30-as viszonylat felváltás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Távolsági csatlakozások tökéletesítése a G43-mal félórás ütem, egy órával csökkenő csatlakozás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ala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zeged–Bé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 Box 40"/>
          <p:cNvSpPr/>
          <p:nvPr/>
        </p:nvSpPr>
        <p:spPr>
          <a:xfrm rot="18900000">
            <a:off x="6547320" y="3066480"/>
            <a:ext cx="11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Oval 50"/>
          <p:cNvSpPr/>
          <p:nvPr/>
        </p:nvSpPr>
        <p:spPr>
          <a:xfrm flipV="1">
            <a:off x="70707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Oval 50"/>
          <p:cNvSpPr/>
          <p:nvPr/>
        </p:nvSpPr>
        <p:spPr>
          <a:xfrm flipV="1">
            <a:off x="6100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Oval 50"/>
          <p:cNvSpPr/>
          <p:nvPr/>
        </p:nvSpPr>
        <p:spPr>
          <a:xfrm flipV="1">
            <a:off x="7434360" y="360936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50"/>
          <p:cNvSpPr/>
          <p:nvPr/>
        </p:nvSpPr>
        <p:spPr>
          <a:xfrm flipV="1">
            <a:off x="772164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Oval 50"/>
          <p:cNvSpPr/>
          <p:nvPr/>
        </p:nvSpPr>
        <p:spPr>
          <a:xfrm>
            <a:off x="36133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Oval 51"/>
          <p:cNvSpPr/>
          <p:nvPr/>
        </p:nvSpPr>
        <p:spPr>
          <a:xfrm>
            <a:off x="3968640" y="3763800"/>
            <a:ext cx="1447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Oval 23"/>
          <p:cNvSpPr/>
          <p:nvPr/>
        </p:nvSpPr>
        <p:spPr>
          <a:xfrm>
            <a:off x="4324320" y="3763800"/>
            <a:ext cx="1429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23"/>
          <p:cNvSpPr/>
          <p:nvPr/>
        </p:nvSpPr>
        <p:spPr>
          <a:xfrm>
            <a:off x="4708440" y="3763800"/>
            <a:ext cx="14292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Oval 23"/>
          <p:cNvSpPr/>
          <p:nvPr/>
        </p:nvSpPr>
        <p:spPr>
          <a:xfrm>
            <a:off x="5086440" y="3763800"/>
            <a:ext cx="144360" cy="14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val 23"/>
          <p:cNvSpPr/>
          <p:nvPr/>
        </p:nvSpPr>
        <p:spPr>
          <a:xfrm>
            <a:off x="541980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50"/>
          <p:cNvSpPr/>
          <p:nvPr/>
        </p:nvSpPr>
        <p:spPr>
          <a:xfrm flipV="1">
            <a:off x="6100920" y="3763800"/>
            <a:ext cx="14436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50"/>
          <p:cNvSpPr/>
          <p:nvPr/>
        </p:nvSpPr>
        <p:spPr>
          <a:xfrm flipV="1">
            <a:off x="5776920" y="3609360"/>
            <a:ext cx="14436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Oval 50"/>
          <p:cNvSpPr/>
          <p:nvPr/>
        </p:nvSpPr>
        <p:spPr>
          <a:xfrm flipV="1">
            <a:off x="6750000" y="3761640"/>
            <a:ext cx="1429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 Box 31"/>
          <p:cNvSpPr/>
          <p:nvPr/>
        </p:nvSpPr>
        <p:spPr>
          <a:xfrm>
            <a:off x="7650000" y="382572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zékesfehér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Oval 50"/>
          <p:cNvSpPr/>
          <p:nvPr/>
        </p:nvSpPr>
        <p:spPr>
          <a:xfrm flipV="1">
            <a:off x="8107200" y="3609360"/>
            <a:ext cx="144720" cy="14436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50"/>
          <p:cNvSpPr/>
          <p:nvPr/>
        </p:nvSpPr>
        <p:spPr>
          <a:xfrm flipV="1">
            <a:off x="8107200" y="3763800"/>
            <a:ext cx="144720" cy="1447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Box 40"/>
          <p:cNvSpPr/>
          <p:nvPr/>
        </p:nvSpPr>
        <p:spPr>
          <a:xfrm rot="18900000">
            <a:off x="6906240" y="3068280"/>
            <a:ext cx="11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 Box 40"/>
          <p:cNvSpPr/>
          <p:nvPr/>
        </p:nvSpPr>
        <p:spPr>
          <a:xfrm rot="18900000">
            <a:off x="5590800" y="2864880"/>
            <a:ext cx="161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ertfalva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8, 41, 4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 Box 40"/>
          <p:cNvSpPr/>
          <p:nvPr/>
        </p:nvSpPr>
        <p:spPr>
          <a:xfrm rot="18900000">
            <a:off x="7597080" y="3160440"/>
            <a:ext cx="83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felső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 Box 40"/>
          <p:cNvSpPr/>
          <p:nvPr/>
        </p:nvSpPr>
        <p:spPr>
          <a:xfrm rot="18900000">
            <a:off x="7874280" y="29185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árnok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 Box 40"/>
          <p:cNvSpPr/>
          <p:nvPr/>
        </p:nvSpPr>
        <p:spPr>
          <a:xfrm rot="18900000">
            <a:off x="7285680" y="3096720"/>
            <a:ext cx="9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Érd alsó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151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87480" y="4613400"/>
            <a:ext cx="2046240" cy="779400"/>
          </a:xfrm>
          <a:prstGeom prst="rect">
            <a:avLst/>
          </a:prstGeom>
          <a:ln w="0">
            <a:noFill/>
          </a:ln>
        </p:spPr>
      </p:pic>
      <p:sp>
        <p:nvSpPr>
          <p:cNvPr id="918" name="Freeform 49"/>
          <p:cNvSpPr/>
          <p:nvPr/>
        </p:nvSpPr>
        <p:spPr>
          <a:xfrm>
            <a:off x="144360" y="5803920"/>
            <a:ext cx="8820360" cy="1440"/>
          </a:xfrm>
          <a:custGeom>
            <a:avLst/>
            <a:gdLst>
              <a:gd name="textAreaLeft" fmla="*/ 0 w 8820360"/>
              <a:gd name="textAreaRight" fmla="*/ 8820720 w 882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1102" h="10000">
                <a:moveTo>
                  <a:pt x="0" y="10000"/>
                </a:moveTo>
                <a:cubicBezTo>
                  <a:pt x="4317" y="6667"/>
                  <a:pt x="6785" y="3333"/>
                  <a:pt x="1110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Észak-Budapest–Dél-Pe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 Box 29"/>
          <p:cNvSpPr/>
          <p:nvPr/>
        </p:nvSpPr>
        <p:spPr>
          <a:xfrm rot="18900000">
            <a:off x="127908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S7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 Box 30"/>
          <p:cNvSpPr/>
          <p:nvPr/>
        </p:nvSpPr>
        <p:spPr>
          <a:xfrm rot="18900000">
            <a:off x="1596960" y="494352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quincum fels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 Box 31"/>
          <p:cNvSpPr/>
          <p:nvPr/>
        </p:nvSpPr>
        <p:spPr>
          <a:xfrm rot="18900000">
            <a:off x="344088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alota – </a:t>
            </a: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7, 7E, 107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 Box 32"/>
          <p:cNvSpPr/>
          <p:nvPr/>
        </p:nvSpPr>
        <p:spPr>
          <a:xfrm rot="18900000">
            <a:off x="3772080" y="497628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ákosszentmihá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Text Box 33"/>
          <p:cNvSpPr/>
          <p:nvPr/>
        </p:nvSpPr>
        <p:spPr>
          <a:xfrm rot="18900000">
            <a:off x="4115160" y="4892400"/>
            <a:ext cx="195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falva – </a:t>
            </a:r>
            <a:r>
              <a:rPr b="1" lang="hu-HU" sz="1000" spc="-1" strike="noStrike">
                <a:solidFill>
                  <a:srgbClr val="00b050"/>
                </a:solidFill>
                <a:latin typeface="Arial"/>
              </a:rPr>
              <a:t>H8, H9, (M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Text Box 36"/>
          <p:cNvSpPr/>
          <p:nvPr/>
        </p:nvSpPr>
        <p:spPr>
          <a:xfrm rot="18900000">
            <a:off x="4322880" y="4527360"/>
            <a:ext cx="29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Éles sarok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28, 37, 62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 Box 37"/>
          <p:cNvSpPr/>
          <p:nvPr/>
        </p:nvSpPr>
        <p:spPr>
          <a:xfrm rot="18900000">
            <a:off x="5114880" y="4741560"/>
            <a:ext cx="23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Népliget (Ecseri út M)  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 Box 39"/>
          <p:cNvSpPr/>
          <p:nvPr/>
        </p:nvSpPr>
        <p:spPr>
          <a:xfrm rot="18900000">
            <a:off x="5935680" y="4760640"/>
            <a:ext cx="23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özvágóhíd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 2, 24,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, H7,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Text Box 40"/>
          <p:cNvSpPr/>
          <p:nvPr/>
        </p:nvSpPr>
        <p:spPr>
          <a:xfrm rot="18900000">
            <a:off x="64339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erzsébet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 Box 41"/>
          <p:cNvSpPr/>
          <p:nvPr/>
        </p:nvSpPr>
        <p:spPr>
          <a:xfrm rot="18900000">
            <a:off x="679536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Text Box 43"/>
          <p:cNvSpPr/>
          <p:nvPr/>
        </p:nvSpPr>
        <p:spPr>
          <a:xfrm rot="18900000">
            <a:off x="4660920" y="451944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Kőbánya felső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37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, S60, G60, Z60,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80, </a:t>
            </a:r>
            <a:r>
              <a:rPr b="1" lang="en-US" sz="1000" spc="-1" strike="noStrike">
                <a:solidFill>
                  <a:srgbClr val="ff9900"/>
                </a:solidFill>
                <a:latin typeface="Arial"/>
              </a:rPr>
              <a:t>Z8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Text Box 45"/>
          <p:cNvSpPr/>
          <p:nvPr/>
        </p:nvSpPr>
        <p:spPr>
          <a:xfrm rot="18900000">
            <a:off x="1999800" y="50464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Újpest – </a:t>
            </a:r>
            <a:r>
              <a:rPr b="1" lang="en-US" sz="1000" spc="-1" strike="noStrike">
                <a:solidFill>
                  <a:srgbClr val="002060"/>
                </a:solidFill>
                <a:latin typeface="Arial"/>
              </a:rPr>
              <a:t>M3,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 Box 46"/>
          <p:cNvSpPr/>
          <p:nvPr/>
        </p:nvSpPr>
        <p:spPr>
          <a:xfrm rot="18900000">
            <a:off x="2358720" y="50468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gyalföld – </a:t>
            </a:r>
            <a:r>
              <a:rPr b="1" lang="en-US" sz="1000" spc="-1" strike="noStrike">
                <a:solidFill>
                  <a:srgbClr val="ffc000"/>
                </a:solidFill>
                <a:latin typeface="Arial"/>
              </a:rPr>
              <a:t>Z72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 Box 47"/>
          <p:cNvSpPr/>
          <p:nvPr/>
        </p:nvSpPr>
        <p:spPr>
          <a:xfrm rot="18900000">
            <a:off x="2630520" y="483372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bfbfbf"/>
                </a:solidFill>
                <a:latin typeface="Arial"/>
              </a:rPr>
              <a:t>Marcheggi híd –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0, </a:t>
            </a:r>
            <a:r>
              <a:rPr b="1" lang="hu-HU" sz="1000" spc="-1" strike="noStrike">
                <a:solidFill>
                  <a:srgbClr val="92d050"/>
                </a:solidFill>
                <a:latin typeface="Arial"/>
              </a:rPr>
              <a:t>G70, </a:t>
            </a:r>
            <a:r>
              <a:rPr b="1" lang="hu-HU" sz="1000" spc="-1" strike="noStrike">
                <a:solidFill>
                  <a:srgbClr val="00b0f0"/>
                </a:solidFill>
                <a:latin typeface="Arial"/>
              </a:rPr>
              <a:t>S7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 Box 48"/>
          <p:cNvSpPr/>
          <p:nvPr/>
        </p:nvSpPr>
        <p:spPr>
          <a:xfrm rot="18900000">
            <a:off x="3080520" y="5047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stújhely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62, 6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Oval 51"/>
          <p:cNvSpPr/>
          <p:nvPr/>
        </p:nvSpPr>
        <p:spPr>
          <a:xfrm>
            <a:off x="550224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Oval 58"/>
          <p:cNvSpPr/>
          <p:nvPr/>
        </p:nvSpPr>
        <p:spPr>
          <a:xfrm>
            <a:off x="514188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Oval 23"/>
          <p:cNvSpPr/>
          <p:nvPr/>
        </p:nvSpPr>
        <p:spPr>
          <a:xfrm>
            <a:off x="334152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Oval 24"/>
          <p:cNvSpPr/>
          <p:nvPr/>
        </p:nvSpPr>
        <p:spPr>
          <a:xfrm>
            <a:off x="2981160" y="57326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Oval 23"/>
          <p:cNvSpPr/>
          <p:nvPr/>
        </p:nvSpPr>
        <p:spPr>
          <a:xfrm>
            <a:off x="3701880" y="5732640"/>
            <a:ext cx="14472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23"/>
          <p:cNvSpPr/>
          <p:nvPr/>
        </p:nvSpPr>
        <p:spPr>
          <a:xfrm>
            <a:off x="4421160" y="573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Oval 23"/>
          <p:cNvSpPr/>
          <p:nvPr/>
        </p:nvSpPr>
        <p:spPr>
          <a:xfrm>
            <a:off x="4781520" y="573264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144360" y="3138480"/>
            <a:ext cx="8820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S26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23"/>
          <p:cNvSpPr/>
          <p:nvPr/>
        </p:nvSpPr>
        <p:spPr>
          <a:xfrm>
            <a:off x="6303960" y="5732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18"/>
          <p:cNvSpPr/>
          <p:nvPr/>
        </p:nvSpPr>
        <p:spPr>
          <a:xfrm>
            <a:off x="820800" y="3789360"/>
            <a:ext cx="2886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Az első ütembe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szűn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Későbbi fázisban megépítendő megál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Oval 23"/>
          <p:cNvSpPr/>
          <p:nvPr/>
        </p:nvSpPr>
        <p:spPr>
          <a:xfrm>
            <a:off x="539640" y="424332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50"/>
          <p:cNvSpPr/>
          <p:nvPr/>
        </p:nvSpPr>
        <p:spPr>
          <a:xfrm>
            <a:off x="539640" y="3933720"/>
            <a:ext cx="144720" cy="142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Oval 24"/>
          <p:cNvSpPr/>
          <p:nvPr/>
        </p:nvSpPr>
        <p:spPr>
          <a:xfrm>
            <a:off x="539640" y="4091040"/>
            <a:ext cx="14472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Oval 50"/>
          <p:cNvSpPr/>
          <p:nvPr/>
        </p:nvSpPr>
        <p:spPr>
          <a:xfrm>
            <a:off x="539640" y="378936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Oval 50"/>
          <p:cNvSpPr/>
          <p:nvPr/>
        </p:nvSpPr>
        <p:spPr>
          <a:xfrm flipV="1">
            <a:off x="668340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50"/>
          <p:cNvSpPr/>
          <p:nvPr/>
        </p:nvSpPr>
        <p:spPr>
          <a:xfrm flipV="1">
            <a:off x="7043760" y="57319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Oval 50"/>
          <p:cNvSpPr/>
          <p:nvPr/>
        </p:nvSpPr>
        <p:spPr>
          <a:xfrm flipV="1">
            <a:off x="2629080" y="5731920"/>
            <a:ext cx="1425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50"/>
          <p:cNvSpPr/>
          <p:nvPr/>
        </p:nvSpPr>
        <p:spPr>
          <a:xfrm flipV="1">
            <a:off x="226836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Oval 50"/>
          <p:cNvSpPr/>
          <p:nvPr/>
        </p:nvSpPr>
        <p:spPr>
          <a:xfrm flipV="1">
            <a:off x="190800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Oval 50"/>
          <p:cNvSpPr/>
          <p:nvPr/>
        </p:nvSpPr>
        <p:spPr>
          <a:xfrm flipV="1">
            <a:off x="1547640" y="573192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Oval 50"/>
          <p:cNvSpPr/>
          <p:nvPr/>
        </p:nvSpPr>
        <p:spPr>
          <a:xfrm flipV="1">
            <a:off x="4068720" y="573012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 Box 31"/>
          <p:cNvSpPr/>
          <p:nvPr/>
        </p:nvSpPr>
        <p:spPr>
          <a:xfrm>
            <a:off x="7313760" y="5578560"/>
            <a:ext cx="14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unszentmiklós-Ta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324000" y="54198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 Box 31"/>
          <p:cNvSpPr/>
          <p:nvPr/>
        </p:nvSpPr>
        <p:spPr>
          <a:xfrm>
            <a:off x="7866000" y="542448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ectangle 18"/>
          <p:cNvSpPr/>
          <p:nvPr/>
        </p:nvSpPr>
        <p:spPr>
          <a:xfrm>
            <a:off x="611280" y="1141560"/>
            <a:ext cx="71485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Átlós „munkáskörúti” városi-vasúti viszonylat, a 2-es vonal piliscsabai betétjáratainak és a 150-es vonal kunszetmiklós-tassi személyvonatainak összekötésé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Négy új megállóhely (Pestújhely, Újpalota, Rákosfalva és Közvágóhíd) megépít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Marcheggi híd és a 2-es vonal villamosí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udapest-Nyugati–Rákospalota-Újpest szakasz átépítése* alatt alternatív útirány az esztergomi vonatoknak. (Nyugati pályaudvar  és csatlakozó vonalszakaszai 1/a ü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Rectangle 18"/>
          <p:cNvSpPr/>
          <p:nvPr/>
        </p:nvSpPr>
        <p:spPr>
          <a:xfrm flipV="1" rot="10800000">
            <a:off x="2279160" y="5950080"/>
            <a:ext cx="4884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yugati pályaudvar és csatlakozó vonalszakaszai 1/a ütem várható kezdés 2015-b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zövegdoboz 31"/>
          <p:cNvSpPr/>
          <p:nvPr/>
        </p:nvSpPr>
        <p:spPr>
          <a:xfrm rot="21397200">
            <a:off x="6593760" y="1413000"/>
            <a:ext cx="2297160" cy="733320"/>
          </a:xfrm>
          <a:prstGeom prst="rect">
            <a:avLst/>
          </a:prstGeom>
          <a:noFill/>
          <a:ln cap="rnd" w="19080">
            <a:solidFill>
              <a:srgbClr val="ad5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sak megállóhely építéssel megvalósíthat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AutoShape 18"/>
          <p:cNvSpPr/>
          <p:nvPr/>
        </p:nvSpPr>
        <p:spPr>
          <a:xfrm rot="21397200">
            <a:off x="6516720" y="1484280"/>
            <a:ext cx="2433600" cy="63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 Box 43"/>
          <p:cNvSpPr/>
          <p:nvPr/>
        </p:nvSpPr>
        <p:spPr>
          <a:xfrm rot="18900000">
            <a:off x="5429160" y="4518000"/>
            <a:ext cx="300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c00000"/>
                </a:solidFill>
                <a:latin typeface="Arial"/>
              </a:rPr>
              <a:t>Ferencváro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,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92d050"/>
                </a:solidFill>
                <a:latin typeface="Arial"/>
              </a:rPr>
              <a:t>G4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Oval 58"/>
          <p:cNvSpPr/>
          <p:nvPr/>
        </p:nvSpPr>
        <p:spPr>
          <a:xfrm>
            <a:off x="5910120" y="573084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Freeform 49"/>
          <p:cNvSpPr/>
          <p:nvPr/>
        </p:nvSpPr>
        <p:spPr>
          <a:xfrm>
            <a:off x="2476440" y="6164280"/>
            <a:ext cx="4029120" cy="14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10000" y="0"/>
                </a:lnTo>
              </a:path>
            </a:pathLst>
          </a:custGeom>
          <a:noFill/>
          <a:ln w="76320">
            <a:solidFill>
              <a:srgbClr val="0070c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Középtáv: Pilisvörösvár–Margit híd(–Batthyány tér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 Box 29"/>
          <p:cNvSpPr/>
          <p:nvPr/>
        </p:nvSpPr>
        <p:spPr>
          <a:xfrm rot="18900000">
            <a:off x="367344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Óbuda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 Box 30"/>
          <p:cNvSpPr/>
          <p:nvPr/>
        </p:nvSpPr>
        <p:spPr>
          <a:xfrm rot="18900000">
            <a:off x="3990960" y="5303880"/>
            <a:ext cx="18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szásdűlő – </a:t>
            </a: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H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 Box 31"/>
          <p:cNvSpPr/>
          <p:nvPr/>
        </p:nvSpPr>
        <p:spPr>
          <a:xfrm rot="18900000">
            <a:off x="5440320" y="5302080"/>
            <a:ext cx="18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épvölgy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 Box 32"/>
          <p:cNvSpPr/>
          <p:nvPr/>
        </p:nvSpPr>
        <p:spPr>
          <a:xfrm rot="18900000">
            <a:off x="5678640" y="500508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git híd, Budai hídfő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4, 6, 19, 41, 6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 Box 45"/>
          <p:cNvSpPr/>
          <p:nvPr/>
        </p:nvSpPr>
        <p:spPr>
          <a:xfrm rot="18900000">
            <a:off x="439416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atorigát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 Box 46"/>
          <p:cNvSpPr/>
          <p:nvPr/>
        </p:nvSpPr>
        <p:spPr>
          <a:xfrm rot="18900000">
            <a:off x="4734720" y="5365800"/>
            <a:ext cx="16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zentlélek tér – 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 Box 48"/>
          <p:cNvSpPr/>
          <p:nvPr/>
        </p:nvSpPr>
        <p:spPr>
          <a:xfrm rot="18900000">
            <a:off x="5125320" y="54082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ímár ut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Rectangle 18"/>
          <p:cNvSpPr/>
          <p:nvPr/>
        </p:nvSpPr>
        <p:spPr>
          <a:xfrm>
            <a:off x="1258920" y="3868560"/>
            <a:ext cx="6913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S73</a:t>
            </a:r>
            <a:r>
              <a:rPr b="1" lang="en-US" sz="1200" spc="-1" strike="noStrike">
                <a:solidFill>
                  <a:srgbClr val="004687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árosi vasúti viszonylat kötöttpályás városi és elővárosi, valamint főbb autóbusz kapcsolata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Rectangle 18"/>
          <p:cNvSpPr/>
          <p:nvPr/>
        </p:nvSpPr>
        <p:spPr>
          <a:xfrm>
            <a:off x="1973160" y="4581360"/>
            <a:ext cx="28861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Arial"/>
              </a:rPr>
              <a:t>Létező megállóhely vagy állom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Oval 50"/>
          <p:cNvSpPr/>
          <p:nvPr/>
        </p:nvSpPr>
        <p:spPr>
          <a:xfrm>
            <a:off x="1692360" y="4581360"/>
            <a:ext cx="144360" cy="14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Oval 50"/>
          <p:cNvSpPr/>
          <p:nvPr/>
        </p:nvSpPr>
        <p:spPr>
          <a:xfrm flipV="1">
            <a:off x="502128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Oval 50"/>
          <p:cNvSpPr/>
          <p:nvPr/>
        </p:nvSpPr>
        <p:spPr>
          <a:xfrm flipV="1">
            <a:off x="466236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Oval 50"/>
          <p:cNvSpPr/>
          <p:nvPr/>
        </p:nvSpPr>
        <p:spPr>
          <a:xfrm flipV="1">
            <a:off x="430200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Oval 50"/>
          <p:cNvSpPr/>
          <p:nvPr/>
        </p:nvSpPr>
        <p:spPr>
          <a:xfrm flipV="1">
            <a:off x="394164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 Box 31"/>
          <p:cNvSpPr/>
          <p:nvPr/>
        </p:nvSpPr>
        <p:spPr>
          <a:xfrm>
            <a:off x="2655720" y="577836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S7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lisvörösv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18"/>
          <p:cNvSpPr/>
          <p:nvPr/>
        </p:nvSpPr>
        <p:spPr>
          <a:xfrm>
            <a:off x="431640" y="1197000"/>
            <a:ext cx="4176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MÁV-START viszonylat HÉV-vonal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Feltétel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ngyalföld és Pilisvörösvár között a pálya átad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KK-val való megegyezés az üzemeltetés és az értékesítés feltételeirő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Batthyány téri továbbvezetés feltételeinek tisztáz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Arial"/>
              </a:rPr>
              <a:t>Sziner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z egyvágányú Újpesti vasúti híd  alacsonyabb kapacit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Pilis térségéből Budára utazók igényeinek jobb kiszolgálá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Oval 50"/>
          <p:cNvSpPr/>
          <p:nvPr/>
        </p:nvSpPr>
        <p:spPr>
          <a:xfrm flipV="1">
            <a:off x="575136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Oval 50"/>
          <p:cNvSpPr/>
          <p:nvPr/>
        </p:nvSpPr>
        <p:spPr>
          <a:xfrm flipV="1">
            <a:off x="5392800" y="60922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 Box 29"/>
          <p:cNvSpPr/>
          <p:nvPr/>
        </p:nvSpPr>
        <p:spPr>
          <a:xfrm rot="18900000">
            <a:off x="3313080" y="54068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anyvölgy – </a:t>
            </a:r>
            <a:r>
              <a:rPr b="1" lang="en-US" sz="1000" spc="-1" strike="noStrike">
                <a:solidFill>
                  <a:srgbClr val="00b0f0"/>
                </a:solidFill>
                <a:latin typeface="Arial"/>
              </a:rPr>
              <a:t>S2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50"/>
          <p:cNvSpPr/>
          <p:nvPr/>
        </p:nvSpPr>
        <p:spPr>
          <a:xfrm flipV="1">
            <a:off x="3581280" y="6092280"/>
            <a:ext cx="1447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C:\Documents and Settings\foldiak.janos\Dokumentumok\Képek\106.jpg"/>
          <p:cNvPicPr/>
          <p:nvPr/>
        </p:nvPicPr>
        <p:blipFill>
          <a:blip r:embed="rId1"/>
          <a:stretch/>
        </p:blipFill>
        <p:spPr>
          <a:xfrm>
            <a:off x="4643280" y="1341360"/>
            <a:ext cx="3851280" cy="20163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45"/>
          <p:cNvSpPr/>
          <p:nvPr/>
        </p:nvSpPr>
        <p:spPr>
          <a:xfrm rot="18900000">
            <a:off x="6176880" y="5279760"/>
            <a:ext cx="187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thyány tér –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M2,</a:t>
            </a: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 19, 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Egyenes összekötő 2"/>
          <p:cNvSpPr/>
          <p:nvPr/>
        </p:nvSpPr>
        <p:spPr>
          <a:xfrm>
            <a:off x="6184800" y="6164280"/>
            <a:ext cx="38592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Oval 50"/>
          <p:cNvSpPr/>
          <p:nvPr/>
        </p:nvSpPr>
        <p:spPr>
          <a:xfrm flipV="1">
            <a:off x="6113520" y="6090480"/>
            <a:ext cx="14292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Oval 50"/>
          <p:cNvSpPr/>
          <p:nvPr/>
        </p:nvSpPr>
        <p:spPr>
          <a:xfrm flipV="1">
            <a:off x="6497640" y="6092280"/>
            <a:ext cx="144360" cy="14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zövegdoboz 31"/>
          <p:cNvSpPr/>
          <p:nvPr/>
        </p:nvSpPr>
        <p:spPr>
          <a:xfrm rot="20464800">
            <a:off x="739080" y="5087880"/>
            <a:ext cx="1746360" cy="52020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Feltételek teljesíthető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AutoShape 18"/>
          <p:cNvSpPr/>
          <p:nvPr/>
        </p:nvSpPr>
        <p:spPr>
          <a:xfrm rot="20464800">
            <a:off x="663120" y="5022360"/>
            <a:ext cx="1906560" cy="635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A681-C73B-4513-931A-4A83580477D7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18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6" name="Group 1"/>
          <p:cNvGrpSpPr/>
          <p:nvPr/>
        </p:nvGrpSpPr>
        <p:grpSpPr>
          <a:xfrm>
            <a:off x="766800" y="765000"/>
            <a:ext cx="7692840" cy="5400720"/>
            <a:chOff x="766800" y="765000"/>
            <a:chExt cx="7692840" cy="5400720"/>
          </a:xfrm>
        </p:grpSpPr>
        <p:sp>
          <p:nvSpPr>
            <p:cNvPr id="997" name="AutoShape 181"/>
            <p:cNvSpPr/>
            <p:nvPr/>
          </p:nvSpPr>
          <p:spPr>
            <a:xfrm>
              <a:off x="766800" y="765000"/>
              <a:ext cx="769284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Freeform 180"/>
            <p:cNvSpPr/>
            <p:nvPr/>
          </p:nvSpPr>
          <p:spPr>
            <a:xfrm>
              <a:off x="2338920" y="887040"/>
              <a:ext cx="1938240" cy="1461600"/>
            </a:xfrm>
            <a:custGeom>
              <a:avLst/>
              <a:gdLst>
                <a:gd name="textAreaLeft" fmla="*/ 0 w 1938240"/>
                <a:gd name="textAreaRight" fmla="*/ 1938600 w 1938240"/>
                <a:gd name="textAreaTop" fmla="*/ 0 h 1461600"/>
                <a:gd name="textAreaBottom" fmla="*/ 1461960 h 1461600"/>
              </a:gdLst>
              <a:ahLst/>
              <a:rect l="textAreaLeft" t="textAreaTop" r="textAreaRight" b="textAreaBottom"/>
              <a:pathLst>
                <a:path w="1453" h="1194">
                  <a:moveTo>
                    <a:pt x="0" y="0"/>
                  </a:moveTo>
                  <a:cubicBezTo>
                    <a:pt x="89" y="52"/>
                    <a:pt x="399" y="242"/>
                    <a:pt x="542" y="309"/>
                  </a:cubicBezTo>
                  <a:cubicBezTo>
                    <a:pt x="685" y="376"/>
                    <a:pt x="747" y="359"/>
                    <a:pt x="860" y="400"/>
                  </a:cubicBezTo>
                  <a:cubicBezTo>
                    <a:pt x="973" y="441"/>
                    <a:pt x="1137" y="507"/>
                    <a:pt x="1220" y="556"/>
                  </a:cubicBezTo>
                  <a:cubicBezTo>
                    <a:pt x="1303" y="605"/>
                    <a:pt x="1322" y="642"/>
                    <a:pt x="1360" y="692"/>
                  </a:cubicBezTo>
                  <a:cubicBezTo>
                    <a:pt x="1398" y="742"/>
                    <a:pt x="1453" y="772"/>
                    <a:pt x="1448" y="856"/>
                  </a:cubicBezTo>
                  <a:cubicBezTo>
                    <a:pt x="1443" y="940"/>
                    <a:pt x="1356" y="1124"/>
                    <a:pt x="1332" y="11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Freeform 179"/>
            <p:cNvSpPr/>
            <p:nvPr/>
          </p:nvSpPr>
          <p:spPr>
            <a:xfrm>
              <a:off x="3546360" y="2369880"/>
              <a:ext cx="586080" cy="39384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439" h="322">
                  <a:moveTo>
                    <a:pt x="0" y="322"/>
                  </a:moveTo>
                  <a:cubicBezTo>
                    <a:pt x="73" y="268"/>
                    <a:pt x="348" y="67"/>
                    <a:pt x="439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178"/>
            <p:cNvSpPr/>
            <p:nvPr/>
          </p:nvSpPr>
          <p:spPr>
            <a:xfrm>
              <a:off x="4179960" y="1430640"/>
              <a:ext cx="360360" cy="939240"/>
            </a:xfrm>
            <a:custGeom>
              <a:avLst/>
              <a:gdLst>
                <a:gd name="textAreaLeft" fmla="*/ 0 w 360360"/>
                <a:gd name="textAreaRight" fmla="*/ 360360 w 36036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372" h="1068">
                  <a:moveTo>
                    <a:pt x="0" y="1068"/>
                  </a:moveTo>
                  <a:cubicBezTo>
                    <a:pt x="19" y="1022"/>
                    <a:pt x="81" y="882"/>
                    <a:pt x="115" y="800"/>
                  </a:cubicBezTo>
                  <a:cubicBezTo>
                    <a:pt x="149" y="718"/>
                    <a:pt x="170" y="672"/>
                    <a:pt x="206" y="574"/>
                  </a:cubicBezTo>
                  <a:cubicBezTo>
                    <a:pt x="242" y="476"/>
                    <a:pt x="302" y="306"/>
                    <a:pt x="330" y="210"/>
                  </a:cubicBezTo>
                  <a:cubicBezTo>
                    <a:pt x="358" y="114"/>
                    <a:pt x="363" y="44"/>
                    <a:pt x="372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177"/>
            <p:cNvSpPr/>
            <p:nvPr/>
          </p:nvSpPr>
          <p:spPr>
            <a:xfrm>
              <a:off x="3588120" y="2547360"/>
              <a:ext cx="1674720" cy="140868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1256" h="1151">
                  <a:moveTo>
                    <a:pt x="0" y="215"/>
                  </a:moveTo>
                  <a:cubicBezTo>
                    <a:pt x="37" y="189"/>
                    <a:pt x="164" y="92"/>
                    <a:pt x="220" y="59"/>
                  </a:cubicBezTo>
                  <a:cubicBezTo>
                    <a:pt x="276" y="26"/>
                    <a:pt x="302" y="20"/>
                    <a:pt x="336" y="15"/>
                  </a:cubicBezTo>
                  <a:cubicBezTo>
                    <a:pt x="370" y="10"/>
                    <a:pt x="387" y="0"/>
                    <a:pt x="424" y="27"/>
                  </a:cubicBezTo>
                  <a:cubicBezTo>
                    <a:pt x="461" y="54"/>
                    <a:pt x="499" y="114"/>
                    <a:pt x="559" y="177"/>
                  </a:cubicBezTo>
                  <a:cubicBezTo>
                    <a:pt x="619" y="240"/>
                    <a:pt x="741" y="351"/>
                    <a:pt x="786" y="404"/>
                  </a:cubicBezTo>
                  <a:cubicBezTo>
                    <a:pt x="831" y="457"/>
                    <a:pt x="808" y="435"/>
                    <a:pt x="831" y="495"/>
                  </a:cubicBezTo>
                  <a:cubicBezTo>
                    <a:pt x="854" y="555"/>
                    <a:pt x="882" y="678"/>
                    <a:pt x="922" y="767"/>
                  </a:cubicBezTo>
                  <a:cubicBezTo>
                    <a:pt x="962" y="856"/>
                    <a:pt x="1016" y="967"/>
                    <a:pt x="1072" y="1031"/>
                  </a:cubicBezTo>
                  <a:cubicBezTo>
                    <a:pt x="1128" y="1095"/>
                    <a:pt x="1218" y="1126"/>
                    <a:pt x="1256" y="115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176"/>
            <p:cNvSpPr/>
            <p:nvPr/>
          </p:nvSpPr>
          <p:spPr>
            <a:xfrm>
              <a:off x="5241960" y="3970440"/>
              <a:ext cx="1635120" cy="9766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76680"/>
                <a:gd name="textAreaBottom" fmla="*/ 977040 h 976680"/>
              </a:gdLst>
              <a:ahLst/>
              <a:rect l="textAreaLeft" t="textAreaTop" r="textAreaRight" b="textAreaBottom"/>
              <a:pathLst>
                <a:path w="1226" h="798">
                  <a:moveTo>
                    <a:pt x="0" y="0"/>
                  </a:moveTo>
                  <a:cubicBezTo>
                    <a:pt x="69" y="32"/>
                    <a:pt x="295" y="146"/>
                    <a:pt x="408" y="193"/>
                  </a:cubicBezTo>
                  <a:cubicBezTo>
                    <a:pt x="521" y="240"/>
                    <a:pt x="597" y="239"/>
                    <a:pt x="680" y="284"/>
                  </a:cubicBezTo>
                  <a:cubicBezTo>
                    <a:pt x="763" y="329"/>
                    <a:pt x="816" y="380"/>
                    <a:pt x="907" y="466"/>
                  </a:cubicBezTo>
                  <a:cubicBezTo>
                    <a:pt x="998" y="552"/>
                    <a:pt x="1160" y="729"/>
                    <a:pt x="1226" y="79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175"/>
            <p:cNvSpPr/>
            <p:nvPr/>
          </p:nvSpPr>
          <p:spPr>
            <a:xfrm>
              <a:off x="4132440" y="3846240"/>
              <a:ext cx="1082880" cy="163440"/>
            </a:xfrm>
            <a:custGeom>
              <a:avLst/>
              <a:gdLst>
                <a:gd name="textAreaLeft" fmla="*/ 0 w 1082880"/>
                <a:gd name="textAreaRight" fmla="*/ 1083240 w 10828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12" h="134">
                  <a:moveTo>
                    <a:pt x="0" y="42"/>
                  </a:moveTo>
                  <a:cubicBezTo>
                    <a:pt x="29" y="36"/>
                    <a:pt x="122" y="12"/>
                    <a:pt x="174" y="6"/>
                  </a:cubicBezTo>
                  <a:cubicBezTo>
                    <a:pt x="226" y="0"/>
                    <a:pt x="260" y="2"/>
                    <a:pt x="312" y="6"/>
                  </a:cubicBezTo>
                  <a:cubicBezTo>
                    <a:pt x="364" y="10"/>
                    <a:pt x="403" y="9"/>
                    <a:pt x="486" y="30"/>
                  </a:cubicBezTo>
                  <a:cubicBezTo>
                    <a:pt x="569" y="51"/>
                    <a:pt x="744" y="112"/>
                    <a:pt x="812" y="13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Freeform 174"/>
            <p:cNvSpPr/>
            <p:nvPr/>
          </p:nvSpPr>
          <p:spPr>
            <a:xfrm>
              <a:off x="3978360" y="3930480"/>
              <a:ext cx="841680" cy="1831320"/>
            </a:xfrm>
            <a:custGeom>
              <a:avLst/>
              <a:gdLst>
                <a:gd name="textAreaLeft" fmla="*/ 0 w 841680"/>
                <a:gd name="textAreaRight" fmla="*/ 842040 w 84168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631" h="1497">
                  <a:moveTo>
                    <a:pt x="85" y="0"/>
                  </a:moveTo>
                  <a:cubicBezTo>
                    <a:pt x="75" y="5"/>
                    <a:pt x="40" y="20"/>
                    <a:pt x="27" y="33"/>
                  </a:cubicBezTo>
                  <a:cubicBezTo>
                    <a:pt x="14" y="46"/>
                    <a:pt x="10" y="58"/>
                    <a:pt x="7" y="77"/>
                  </a:cubicBezTo>
                  <a:cubicBezTo>
                    <a:pt x="4" y="96"/>
                    <a:pt x="0" y="106"/>
                    <a:pt x="7" y="145"/>
                  </a:cubicBezTo>
                  <a:cubicBezTo>
                    <a:pt x="14" y="184"/>
                    <a:pt x="28" y="231"/>
                    <a:pt x="51" y="313"/>
                  </a:cubicBezTo>
                  <a:cubicBezTo>
                    <a:pt x="74" y="395"/>
                    <a:pt x="96" y="508"/>
                    <a:pt x="147" y="637"/>
                  </a:cubicBezTo>
                  <a:cubicBezTo>
                    <a:pt x="198" y="766"/>
                    <a:pt x="276" y="945"/>
                    <a:pt x="357" y="1088"/>
                  </a:cubicBezTo>
                  <a:cubicBezTo>
                    <a:pt x="438" y="1231"/>
                    <a:pt x="574" y="1412"/>
                    <a:pt x="631" y="149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Oval 173"/>
            <p:cNvSpPr/>
            <p:nvPr/>
          </p:nvSpPr>
          <p:spPr>
            <a:xfrm>
              <a:off x="4636440" y="553932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Oval 172"/>
            <p:cNvSpPr/>
            <p:nvPr/>
          </p:nvSpPr>
          <p:spPr>
            <a:xfrm>
              <a:off x="4118760" y="467316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Oval 171"/>
            <p:cNvSpPr/>
            <p:nvPr/>
          </p:nvSpPr>
          <p:spPr>
            <a:xfrm>
              <a:off x="3998520" y="4306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Oval 170"/>
            <p:cNvSpPr/>
            <p:nvPr/>
          </p:nvSpPr>
          <p:spPr>
            <a:xfrm>
              <a:off x="6669360" y="47516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Oval 169"/>
            <p:cNvSpPr/>
            <p:nvPr/>
          </p:nvSpPr>
          <p:spPr>
            <a:xfrm>
              <a:off x="6365520" y="446760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Oval 168"/>
            <p:cNvSpPr/>
            <p:nvPr/>
          </p:nvSpPr>
          <p:spPr>
            <a:xfrm>
              <a:off x="5757480" y="41644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167"/>
            <p:cNvSpPr/>
            <p:nvPr/>
          </p:nvSpPr>
          <p:spPr>
            <a:xfrm>
              <a:off x="5167080" y="4020120"/>
              <a:ext cx="902160" cy="167580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1675800"/>
                <a:gd name="textAreaBottom" fmla="*/ 1676160 h 1675800"/>
              </a:gdLst>
              <a:ahLst/>
              <a:rect l="textAreaLeft" t="textAreaTop" r="textAreaRight" b="textAreaBottom"/>
              <a:pathLst>
                <a:path w="676" h="1370">
                  <a:moveTo>
                    <a:pt x="40" y="0"/>
                  </a:moveTo>
                  <a:cubicBezTo>
                    <a:pt x="60" y="14"/>
                    <a:pt x="134" y="46"/>
                    <a:pt x="160" y="88"/>
                  </a:cubicBezTo>
                  <a:cubicBezTo>
                    <a:pt x="186" y="130"/>
                    <a:pt x="209" y="161"/>
                    <a:pt x="196" y="252"/>
                  </a:cubicBezTo>
                  <a:cubicBezTo>
                    <a:pt x="183" y="343"/>
                    <a:pt x="0" y="450"/>
                    <a:pt x="80" y="636"/>
                  </a:cubicBezTo>
                  <a:cubicBezTo>
                    <a:pt x="160" y="822"/>
                    <a:pt x="552" y="1217"/>
                    <a:pt x="676" y="137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Oval 166"/>
            <p:cNvSpPr/>
            <p:nvPr/>
          </p:nvSpPr>
          <p:spPr>
            <a:xfrm>
              <a:off x="5122080" y="3885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Oval 165"/>
            <p:cNvSpPr/>
            <p:nvPr/>
          </p:nvSpPr>
          <p:spPr>
            <a:xfrm>
              <a:off x="5308920" y="43596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Oval 164"/>
            <p:cNvSpPr/>
            <p:nvPr/>
          </p:nvSpPr>
          <p:spPr>
            <a:xfrm>
              <a:off x="5639760" y="526032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Oval 163"/>
            <p:cNvSpPr/>
            <p:nvPr/>
          </p:nvSpPr>
          <p:spPr>
            <a:xfrm>
              <a:off x="5884560" y="55202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162"/>
            <p:cNvSpPr/>
            <p:nvPr/>
          </p:nvSpPr>
          <p:spPr>
            <a:xfrm>
              <a:off x="4147920" y="3349080"/>
              <a:ext cx="837720" cy="50436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628" h="412">
                  <a:moveTo>
                    <a:pt x="0" y="412"/>
                  </a:moveTo>
                  <a:cubicBezTo>
                    <a:pt x="48" y="390"/>
                    <a:pt x="223" y="326"/>
                    <a:pt x="288" y="280"/>
                  </a:cubicBezTo>
                  <a:cubicBezTo>
                    <a:pt x="353" y="234"/>
                    <a:pt x="364" y="174"/>
                    <a:pt x="390" y="136"/>
                  </a:cubicBezTo>
                  <a:cubicBezTo>
                    <a:pt x="416" y="98"/>
                    <a:pt x="406" y="75"/>
                    <a:pt x="446" y="52"/>
                  </a:cubicBezTo>
                  <a:cubicBezTo>
                    <a:pt x="486" y="29"/>
                    <a:pt x="555" y="14"/>
                    <a:pt x="62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161"/>
            <p:cNvSpPr/>
            <p:nvPr/>
          </p:nvSpPr>
          <p:spPr>
            <a:xfrm>
              <a:off x="4028400" y="3124440"/>
              <a:ext cx="571680" cy="6753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429" h="551">
                  <a:moveTo>
                    <a:pt x="66" y="551"/>
                  </a:moveTo>
                  <a:cubicBezTo>
                    <a:pt x="105" y="534"/>
                    <a:pt x="246" y="481"/>
                    <a:pt x="300" y="451"/>
                  </a:cubicBezTo>
                  <a:cubicBezTo>
                    <a:pt x="354" y="421"/>
                    <a:pt x="369" y="401"/>
                    <a:pt x="390" y="373"/>
                  </a:cubicBezTo>
                  <a:cubicBezTo>
                    <a:pt x="411" y="345"/>
                    <a:pt x="423" y="314"/>
                    <a:pt x="426" y="283"/>
                  </a:cubicBezTo>
                  <a:cubicBezTo>
                    <a:pt x="429" y="252"/>
                    <a:pt x="425" y="220"/>
                    <a:pt x="408" y="187"/>
                  </a:cubicBezTo>
                  <a:cubicBezTo>
                    <a:pt x="391" y="154"/>
                    <a:pt x="364" y="112"/>
                    <a:pt x="326" y="83"/>
                  </a:cubicBezTo>
                  <a:cubicBezTo>
                    <a:pt x="288" y="54"/>
                    <a:pt x="234" y="26"/>
                    <a:pt x="180" y="13"/>
                  </a:cubicBezTo>
                  <a:cubicBezTo>
                    <a:pt x="126" y="0"/>
                    <a:pt x="37" y="8"/>
                    <a:pt x="0" y="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Text Box 160"/>
            <p:cNvSpPr/>
            <p:nvPr/>
          </p:nvSpPr>
          <p:spPr>
            <a:xfrm>
              <a:off x="5397840" y="4800240"/>
              <a:ext cx="947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Bivalyré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9" name="Oval 159"/>
            <p:cNvSpPr/>
            <p:nvPr/>
          </p:nvSpPr>
          <p:spPr>
            <a:xfrm>
              <a:off x="4887360" y="3661920"/>
              <a:ext cx="12060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0" name="Freeform 158"/>
            <p:cNvSpPr/>
            <p:nvPr/>
          </p:nvSpPr>
          <p:spPr>
            <a:xfrm>
              <a:off x="4043880" y="3054240"/>
              <a:ext cx="904680" cy="28008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678" h="229">
                  <a:moveTo>
                    <a:pt x="0" y="5"/>
                  </a:moveTo>
                  <a:cubicBezTo>
                    <a:pt x="24" y="5"/>
                    <a:pt x="96" y="0"/>
                    <a:pt x="138" y="5"/>
                  </a:cubicBezTo>
                  <a:cubicBezTo>
                    <a:pt x="180" y="10"/>
                    <a:pt x="217" y="20"/>
                    <a:pt x="252" y="35"/>
                  </a:cubicBezTo>
                  <a:cubicBezTo>
                    <a:pt x="287" y="50"/>
                    <a:pt x="320" y="75"/>
                    <a:pt x="346" y="97"/>
                  </a:cubicBezTo>
                  <a:cubicBezTo>
                    <a:pt x="372" y="119"/>
                    <a:pt x="387" y="144"/>
                    <a:pt x="410" y="165"/>
                  </a:cubicBezTo>
                  <a:cubicBezTo>
                    <a:pt x="433" y="186"/>
                    <a:pt x="450" y="213"/>
                    <a:pt x="482" y="221"/>
                  </a:cubicBezTo>
                  <a:cubicBezTo>
                    <a:pt x="514" y="229"/>
                    <a:pt x="569" y="218"/>
                    <a:pt x="602" y="213"/>
                  </a:cubicBezTo>
                  <a:cubicBezTo>
                    <a:pt x="635" y="208"/>
                    <a:pt x="662" y="197"/>
                    <a:pt x="678" y="19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Freeform 157"/>
            <p:cNvSpPr/>
            <p:nvPr/>
          </p:nvSpPr>
          <p:spPr>
            <a:xfrm>
              <a:off x="4985640" y="3320280"/>
              <a:ext cx="774000" cy="7740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80" h="63">
                  <a:moveTo>
                    <a:pt x="0" y="23"/>
                  </a:moveTo>
                  <a:cubicBezTo>
                    <a:pt x="26" y="18"/>
                    <a:pt x="53" y="14"/>
                    <a:pt x="88" y="11"/>
                  </a:cubicBezTo>
                  <a:cubicBezTo>
                    <a:pt x="123" y="8"/>
                    <a:pt x="171" y="8"/>
                    <a:pt x="212" y="7"/>
                  </a:cubicBezTo>
                  <a:cubicBezTo>
                    <a:pt x="253" y="6"/>
                    <a:pt x="281" y="0"/>
                    <a:pt x="332" y="7"/>
                  </a:cubicBezTo>
                  <a:cubicBezTo>
                    <a:pt x="383" y="14"/>
                    <a:pt x="475" y="38"/>
                    <a:pt x="516" y="47"/>
                  </a:cubicBezTo>
                  <a:cubicBezTo>
                    <a:pt x="557" y="56"/>
                    <a:pt x="568" y="59"/>
                    <a:pt x="580" y="63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156"/>
            <p:cNvSpPr/>
            <p:nvPr/>
          </p:nvSpPr>
          <p:spPr>
            <a:xfrm>
              <a:off x="4518000" y="1364760"/>
              <a:ext cx="932040" cy="191556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0 h 1915560"/>
                <a:gd name="textAreaBottom" fmla="*/ 1915920 h 1915560"/>
              </a:gdLst>
              <a:ahLst/>
              <a:rect l="textAreaLeft" t="textAreaTop" r="textAreaRight" b="textAreaBottom"/>
              <a:pathLst>
                <a:path w="699" h="1566">
                  <a:moveTo>
                    <a:pt x="335" y="1566"/>
                  </a:moveTo>
                  <a:cubicBezTo>
                    <a:pt x="366" y="1563"/>
                    <a:pt x="398" y="1560"/>
                    <a:pt x="439" y="1558"/>
                  </a:cubicBezTo>
                  <a:cubicBezTo>
                    <a:pt x="480" y="1556"/>
                    <a:pt x="543" y="1555"/>
                    <a:pt x="579" y="1554"/>
                  </a:cubicBezTo>
                  <a:cubicBezTo>
                    <a:pt x="615" y="1553"/>
                    <a:pt x="635" y="1565"/>
                    <a:pt x="655" y="1554"/>
                  </a:cubicBezTo>
                  <a:cubicBezTo>
                    <a:pt x="675" y="1543"/>
                    <a:pt x="699" y="1545"/>
                    <a:pt x="699" y="1486"/>
                  </a:cubicBezTo>
                  <a:cubicBezTo>
                    <a:pt x="699" y="1427"/>
                    <a:pt x="683" y="1291"/>
                    <a:pt x="655" y="1198"/>
                  </a:cubicBezTo>
                  <a:cubicBezTo>
                    <a:pt x="627" y="1105"/>
                    <a:pt x="578" y="999"/>
                    <a:pt x="531" y="930"/>
                  </a:cubicBezTo>
                  <a:cubicBezTo>
                    <a:pt x="484" y="861"/>
                    <a:pt x="427" y="826"/>
                    <a:pt x="371" y="786"/>
                  </a:cubicBezTo>
                  <a:cubicBezTo>
                    <a:pt x="315" y="746"/>
                    <a:pt x="250" y="727"/>
                    <a:pt x="195" y="690"/>
                  </a:cubicBezTo>
                  <a:cubicBezTo>
                    <a:pt x="140" y="653"/>
                    <a:pt x="75" y="611"/>
                    <a:pt x="43" y="566"/>
                  </a:cubicBezTo>
                  <a:cubicBezTo>
                    <a:pt x="11" y="521"/>
                    <a:pt x="6" y="468"/>
                    <a:pt x="3" y="422"/>
                  </a:cubicBezTo>
                  <a:cubicBezTo>
                    <a:pt x="0" y="376"/>
                    <a:pt x="4" y="358"/>
                    <a:pt x="23" y="288"/>
                  </a:cubicBezTo>
                  <a:cubicBezTo>
                    <a:pt x="42" y="218"/>
                    <a:pt x="99" y="60"/>
                    <a:pt x="119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155"/>
            <p:cNvSpPr/>
            <p:nvPr/>
          </p:nvSpPr>
          <p:spPr>
            <a:xfrm>
              <a:off x="5576760" y="3308760"/>
              <a:ext cx="2140920" cy="867240"/>
            </a:xfrm>
            <a:custGeom>
              <a:avLst/>
              <a:gdLst>
                <a:gd name="textAreaLeft" fmla="*/ 0 w 2140920"/>
                <a:gd name="textAreaRight" fmla="*/ 2141280 w 2140920"/>
                <a:gd name="textAreaTop" fmla="*/ 0 h 867240"/>
                <a:gd name="textAreaBottom" fmla="*/ 867600 h 867240"/>
              </a:gdLst>
              <a:ahLst/>
              <a:rect l="textAreaLeft" t="textAreaTop" r="textAreaRight" b="textAreaBottom"/>
              <a:pathLst>
                <a:path w="1605" h="709">
                  <a:moveTo>
                    <a:pt x="137" y="81"/>
                  </a:moveTo>
                  <a:cubicBezTo>
                    <a:pt x="155" y="84"/>
                    <a:pt x="0" y="0"/>
                    <a:pt x="245" y="105"/>
                  </a:cubicBezTo>
                  <a:cubicBezTo>
                    <a:pt x="490" y="210"/>
                    <a:pt x="1322" y="583"/>
                    <a:pt x="1605" y="7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154"/>
            <p:cNvSpPr/>
            <p:nvPr/>
          </p:nvSpPr>
          <p:spPr>
            <a:xfrm>
              <a:off x="5792040" y="3344040"/>
              <a:ext cx="1990080" cy="120240"/>
            </a:xfrm>
            <a:custGeom>
              <a:avLst/>
              <a:gdLst>
                <a:gd name="textAreaLeft" fmla="*/ 0 w 1990080"/>
                <a:gd name="textAreaRight" fmla="*/ 1990440 w 199008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492" h="99">
                  <a:moveTo>
                    <a:pt x="0" y="0"/>
                  </a:moveTo>
                  <a:cubicBezTo>
                    <a:pt x="42" y="16"/>
                    <a:pt x="85" y="33"/>
                    <a:pt x="196" y="48"/>
                  </a:cubicBezTo>
                  <a:cubicBezTo>
                    <a:pt x="307" y="63"/>
                    <a:pt x="478" y="85"/>
                    <a:pt x="664" y="92"/>
                  </a:cubicBezTo>
                  <a:cubicBezTo>
                    <a:pt x="850" y="99"/>
                    <a:pt x="1174" y="93"/>
                    <a:pt x="1312" y="92"/>
                  </a:cubicBezTo>
                  <a:cubicBezTo>
                    <a:pt x="1450" y="91"/>
                    <a:pt x="1455" y="87"/>
                    <a:pt x="1492" y="8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Oval 153"/>
            <p:cNvSpPr/>
            <p:nvPr/>
          </p:nvSpPr>
          <p:spPr>
            <a:xfrm>
              <a:off x="5655600" y="327312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Oval 152"/>
            <p:cNvSpPr/>
            <p:nvPr/>
          </p:nvSpPr>
          <p:spPr>
            <a:xfrm>
              <a:off x="6717960" y="339588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Oval 151"/>
            <p:cNvSpPr/>
            <p:nvPr/>
          </p:nvSpPr>
          <p:spPr>
            <a:xfrm>
              <a:off x="6856560" y="379224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Text Box 150"/>
            <p:cNvSpPr/>
            <p:nvPr/>
          </p:nvSpPr>
          <p:spPr>
            <a:xfrm>
              <a:off x="5092920" y="3309840"/>
              <a:ext cx="764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Éles sar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Text Box 149"/>
            <p:cNvSpPr/>
            <p:nvPr/>
          </p:nvSpPr>
          <p:spPr>
            <a:xfrm>
              <a:off x="5954040" y="3088800"/>
              <a:ext cx="82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széli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Text Box 148"/>
            <p:cNvSpPr/>
            <p:nvPr/>
          </p:nvSpPr>
          <p:spPr>
            <a:xfrm flipV="1" rot="10800000">
              <a:off x="6312600" y="3151440"/>
              <a:ext cx="846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keresztú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Text Box 147"/>
            <p:cNvSpPr/>
            <p:nvPr/>
          </p:nvSpPr>
          <p:spPr>
            <a:xfrm>
              <a:off x="6545160" y="3579840"/>
              <a:ext cx="907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kadémia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Oval 146"/>
            <p:cNvSpPr/>
            <p:nvPr/>
          </p:nvSpPr>
          <p:spPr>
            <a:xfrm>
              <a:off x="7160400" y="340020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Oval 145"/>
            <p:cNvSpPr/>
            <p:nvPr/>
          </p:nvSpPr>
          <p:spPr>
            <a:xfrm>
              <a:off x="7560360" y="341064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Oval 144"/>
            <p:cNvSpPr/>
            <p:nvPr/>
          </p:nvSpPr>
          <p:spPr>
            <a:xfrm>
              <a:off x="7480440" y="4046760"/>
              <a:ext cx="12096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Text Box 143"/>
            <p:cNvSpPr/>
            <p:nvPr/>
          </p:nvSpPr>
          <p:spPr>
            <a:xfrm>
              <a:off x="5024160" y="765000"/>
              <a:ext cx="100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alotaújmajo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6" name="Text Box 142"/>
            <p:cNvSpPr/>
            <p:nvPr/>
          </p:nvSpPr>
          <p:spPr>
            <a:xfrm>
              <a:off x="5262120" y="2426760"/>
              <a:ext cx="999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szentmihá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4420440" y="17244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Oval 140"/>
            <p:cNvSpPr/>
            <p:nvPr/>
          </p:nvSpPr>
          <p:spPr>
            <a:xfrm>
              <a:off x="4063320" y="163836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Oval 139"/>
            <p:cNvSpPr/>
            <p:nvPr/>
          </p:nvSpPr>
          <p:spPr>
            <a:xfrm>
              <a:off x="3881880" y="1511280"/>
              <a:ext cx="12060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Oval 138"/>
            <p:cNvSpPr/>
            <p:nvPr/>
          </p:nvSpPr>
          <p:spPr>
            <a:xfrm>
              <a:off x="2926080" y="11707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Oval 137"/>
            <p:cNvSpPr/>
            <p:nvPr/>
          </p:nvSpPr>
          <p:spPr>
            <a:xfrm>
              <a:off x="2585160" y="9950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Text Box 136"/>
            <p:cNvSpPr/>
            <p:nvPr/>
          </p:nvSpPr>
          <p:spPr>
            <a:xfrm>
              <a:off x="2664720" y="840960"/>
              <a:ext cx="731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Aranyvöl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Text Box 135"/>
            <p:cNvSpPr/>
            <p:nvPr/>
          </p:nvSpPr>
          <p:spPr>
            <a:xfrm>
              <a:off x="3575880" y="1252080"/>
              <a:ext cx="638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ómaipa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Text Box 134"/>
            <p:cNvSpPr/>
            <p:nvPr/>
          </p:nvSpPr>
          <p:spPr>
            <a:xfrm>
              <a:off x="4814640" y="2071080"/>
              <a:ext cx="683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Pestúj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Text Box 133"/>
            <p:cNvSpPr/>
            <p:nvPr/>
          </p:nvSpPr>
          <p:spPr>
            <a:xfrm>
              <a:off x="5500800" y="2906280"/>
              <a:ext cx="676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Felsőrákos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Text Box 132"/>
            <p:cNvSpPr/>
            <p:nvPr/>
          </p:nvSpPr>
          <p:spPr>
            <a:xfrm>
              <a:off x="3227040" y="2336760"/>
              <a:ext cx="765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őport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Oval 131"/>
            <p:cNvSpPr/>
            <p:nvPr/>
          </p:nvSpPr>
          <p:spPr>
            <a:xfrm>
              <a:off x="4006800" y="2260440"/>
              <a:ext cx="217440" cy="188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Oval 130"/>
            <p:cNvSpPr/>
            <p:nvPr/>
          </p:nvSpPr>
          <p:spPr>
            <a:xfrm>
              <a:off x="3238200" y="126936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Text Box 129"/>
            <p:cNvSpPr/>
            <p:nvPr/>
          </p:nvSpPr>
          <p:spPr>
            <a:xfrm>
              <a:off x="2038320" y="921600"/>
              <a:ext cx="419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Ürö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Text Box 128"/>
            <p:cNvSpPr/>
            <p:nvPr/>
          </p:nvSpPr>
          <p:spPr>
            <a:xfrm>
              <a:off x="2900160" y="988920"/>
              <a:ext cx="482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Óbud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Text Box 127"/>
            <p:cNvSpPr/>
            <p:nvPr/>
          </p:nvSpPr>
          <p:spPr>
            <a:xfrm>
              <a:off x="3218040" y="1125000"/>
              <a:ext cx="893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uincum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Text Box 126"/>
            <p:cNvSpPr/>
            <p:nvPr/>
          </p:nvSpPr>
          <p:spPr>
            <a:xfrm>
              <a:off x="3865680" y="1346400"/>
              <a:ext cx="49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 Box 125"/>
            <p:cNvSpPr/>
            <p:nvPr/>
          </p:nvSpPr>
          <p:spPr>
            <a:xfrm>
              <a:off x="3493800" y="168048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gyal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 Box 124"/>
            <p:cNvSpPr/>
            <p:nvPr/>
          </p:nvSpPr>
          <p:spPr>
            <a:xfrm>
              <a:off x="3406680" y="1920960"/>
              <a:ext cx="915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asútmúzeum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Oval 123"/>
            <p:cNvSpPr/>
            <p:nvPr/>
          </p:nvSpPr>
          <p:spPr>
            <a:xfrm>
              <a:off x="4177800" y="19447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 Box 122"/>
            <p:cNvSpPr/>
            <p:nvPr/>
          </p:nvSpPr>
          <p:spPr>
            <a:xfrm>
              <a:off x="5411520" y="2628720"/>
              <a:ext cx="989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Rákos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 Box 121"/>
            <p:cNvSpPr/>
            <p:nvPr/>
          </p:nvSpPr>
          <p:spPr>
            <a:xfrm>
              <a:off x="4547880" y="170784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tvántel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Text Box 120"/>
            <p:cNvSpPr/>
            <p:nvPr/>
          </p:nvSpPr>
          <p:spPr>
            <a:xfrm>
              <a:off x="4732560" y="1333800"/>
              <a:ext cx="12027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Új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 Box 119"/>
            <p:cNvSpPr/>
            <p:nvPr/>
          </p:nvSpPr>
          <p:spPr>
            <a:xfrm>
              <a:off x="4871880" y="966600"/>
              <a:ext cx="1201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palota-Kert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 Box 118"/>
            <p:cNvSpPr/>
            <p:nvPr/>
          </p:nvSpPr>
          <p:spPr>
            <a:xfrm>
              <a:off x="3252600" y="221904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rendez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Text Box 117"/>
            <p:cNvSpPr/>
            <p:nvPr/>
          </p:nvSpPr>
          <p:spPr>
            <a:xfrm>
              <a:off x="2581200" y="2591640"/>
              <a:ext cx="966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Nyuga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Text Box 116"/>
            <p:cNvSpPr/>
            <p:nvPr/>
          </p:nvSpPr>
          <p:spPr>
            <a:xfrm>
              <a:off x="3082680" y="2977920"/>
              <a:ext cx="868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Kelet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Oval 115"/>
            <p:cNvSpPr/>
            <p:nvPr/>
          </p:nvSpPr>
          <p:spPr>
            <a:xfrm>
              <a:off x="3441240" y="2685960"/>
              <a:ext cx="21672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Oval 114"/>
            <p:cNvSpPr/>
            <p:nvPr/>
          </p:nvSpPr>
          <p:spPr>
            <a:xfrm>
              <a:off x="3873600" y="2991960"/>
              <a:ext cx="21672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Oval 113"/>
            <p:cNvSpPr/>
            <p:nvPr/>
          </p:nvSpPr>
          <p:spPr>
            <a:xfrm>
              <a:off x="4940640" y="3184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Oval 112"/>
            <p:cNvSpPr/>
            <p:nvPr/>
          </p:nvSpPr>
          <p:spPr>
            <a:xfrm>
              <a:off x="4313880" y="274716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Text Box 111"/>
            <p:cNvSpPr/>
            <p:nvPr/>
          </p:nvSpPr>
          <p:spPr>
            <a:xfrm>
              <a:off x="4363920" y="2616120"/>
              <a:ext cx="450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gl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Text Box 110"/>
            <p:cNvSpPr/>
            <p:nvPr/>
          </p:nvSpPr>
          <p:spPr>
            <a:xfrm>
              <a:off x="3841200" y="3259080"/>
              <a:ext cx="740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erepes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Text Box 109"/>
            <p:cNvSpPr/>
            <p:nvPr/>
          </p:nvSpPr>
          <p:spPr>
            <a:xfrm>
              <a:off x="4603320" y="2903040"/>
              <a:ext cx="678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Törökő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Text Box 108"/>
            <p:cNvSpPr/>
            <p:nvPr/>
          </p:nvSpPr>
          <p:spPr>
            <a:xfrm>
              <a:off x="4942800" y="360504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alsó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Box 107"/>
            <p:cNvSpPr/>
            <p:nvPr/>
          </p:nvSpPr>
          <p:spPr>
            <a:xfrm>
              <a:off x="5276880" y="3757320"/>
              <a:ext cx="882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-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Text Box 106"/>
            <p:cNvSpPr/>
            <p:nvPr/>
          </p:nvSpPr>
          <p:spPr>
            <a:xfrm>
              <a:off x="5637240" y="311616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 Box 105"/>
            <p:cNvSpPr/>
            <p:nvPr/>
          </p:nvSpPr>
          <p:spPr>
            <a:xfrm>
              <a:off x="6621120" y="3466800"/>
              <a:ext cx="70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 Box 104"/>
            <p:cNvSpPr/>
            <p:nvPr/>
          </p:nvSpPr>
          <p:spPr>
            <a:xfrm>
              <a:off x="6953040" y="3247920"/>
              <a:ext cx="1274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-Új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Text Box 103"/>
            <p:cNvSpPr/>
            <p:nvPr/>
          </p:nvSpPr>
          <p:spPr>
            <a:xfrm flipV="1" rot="10800000">
              <a:off x="7276680" y="3432600"/>
              <a:ext cx="94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csab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Text Box 102"/>
            <p:cNvSpPr/>
            <p:nvPr/>
          </p:nvSpPr>
          <p:spPr>
            <a:xfrm>
              <a:off x="6394320" y="3871440"/>
              <a:ext cx="669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Text Box 101"/>
            <p:cNvSpPr/>
            <p:nvPr/>
          </p:nvSpPr>
          <p:spPr>
            <a:xfrm>
              <a:off x="7228800" y="4143600"/>
              <a:ext cx="664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ákos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Text Box 100"/>
            <p:cNvSpPr/>
            <p:nvPr/>
          </p:nvSpPr>
          <p:spPr>
            <a:xfrm>
              <a:off x="5742000" y="4016520"/>
              <a:ext cx="81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lőrinc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Text Box 99"/>
            <p:cNvSpPr/>
            <p:nvPr/>
          </p:nvSpPr>
          <p:spPr>
            <a:xfrm>
              <a:off x="6429240" y="431964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emere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Text Box 98"/>
            <p:cNvSpPr/>
            <p:nvPr/>
          </p:nvSpPr>
          <p:spPr>
            <a:xfrm>
              <a:off x="6813720" y="4657680"/>
              <a:ext cx="662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iheg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Text Box 97"/>
            <p:cNvSpPr/>
            <p:nvPr/>
          </p:nvSpPr>
          <p:spPr>
            <a:xfrm>
              <a:off x="4849200" y="4349880"/>
              <a:ext cx="663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ispes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Box 96"/>
            <p:cNvSpPr/>
            <p:nvPr/>
          </p:nvSpPr>
          <p:spPr>
            <a:xfrm>
              <a:off x="5751720" y="519084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Text Box 95"/>
            <p:cNvSpPr/>
            <p:nvPr/>
          </p:nvSpPr>
          <p:spPr>
            <a:xfrm>
              <a:off x="6050160" y="546912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szentimr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Text Box 94"/>
            <p:cNvSpPr/>
            <p:nvPr/>
          </p:nvSpPr>
          <p:spPr>
            <a:xfrm>
              <a:off x="4790520" y="5484600"/>
              <a:ext cx="611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Text Box 93"/>
            <p:cNvSpPr/>
            <p:nvPr/>
          </p:nvSpPr>
          <p:spPr>
            <a:xfrm>
              <a:off x="4268520" y="4641480"/>
              <a:ext cx="1053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sterzséb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Text Box 92"/>
            <p:cNvSpPr/>
            <p:nvPr/>
          </p:nvSpPr>
          <p:spPr>
            <a:xfrm>
              <a:off x="4077000" y="4157640"/>
              <a:ext cx="753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roksári ú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Text Box 91"/>
            <p:cNvSpPr/>
            <p:nvPr/>
          </p:nvSpPr>
          <p:spPr>
            <a:xfrm>
              <a:off x="3998520" y="3933720"/>
              <a:ext cx="707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özvágó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Text Box 90"/>
            <p:cNvSpPr/>
            <p:nvPr/>
          </p:nvSpPr>
          <p:spPr>
            <a:xfrm>
              <a:off x="4421160" y="3692520"/>
              <a:ext cx="565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ép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Text Box 89"/>
            <p:cNvSpPr/>
            <p:nvPr/>
          </p:nvSpPr>
          <p:spPr>
            <a:xfrm>
              <a:off x="3328560" y="3917880"/>
              <a:ext cx="620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Nádorker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88"/>
            <p:cNvSpPr/>
            <p:nvPr/>
          </p:nvSpPr>
          <p:spPr>
            <a:xfrm>
              <a:off x="2867040" y="3825720"/>
              <a:ext cx="1259280" cy="86400"/>
            </a:xfrm>
            <a:custGeom>
              <a:avLst/>
              <a:gdLst>
                <a:gd name="textAreaLeft" fmla="*/ 0 w 1259280"/>
                <a:gd name="textAreaRight" fmla="*/ 1259640 w 12592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944" h="71">
                  <a:moveTo>
                    <a:pt x="944" y="11"/>
                  </a:moveTo>
                  <a:cubicBezTo>
                    <a:pt x="796" y="11"/>
                    <a:pt x="649" y="12"/>
                    <a:pt x="544" y="11"/>
                  </a:cubicBezTo>
                  <a:cubicBezTo>
                    <a:pt x="439" y="10"/>
                    <a:pt x="379" y="4"/>
                    <a:pt x="312" y="3"/>
                  </a:cubicBezTo>
                  <a:cubicBezTo>
                    <a:pt x="245" y="2"/>
                    <a:pt x="187" y="0"/>
                    <a:pt x="140" y="3"/>
                  </a:cubicBezTo>
                  <a:cubicBezTo>
                    <a:pt x="93" y="6"/>
                    <a:pt x="51" y="8"/>
                    <a:pt x="28" y="19"/>
                  </a:cubicBezTo>
                  <a:cubicBezTo>
                    <a:pt x="5" y="30"/>
                    <a:pt x="2" y="50"/>
                    <a:pt x="0" y="71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87"/>
            <p:cNvSpPr/>
            <p:nvPr/>
          </p:nvSpPr>
          <p:spPr>
            <a:xfrm>
              <a:off x="2809080" y="3104280"/>
              <a:ext cx="122400" cy="7927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92720"/>
                <a:gd name="textAreaBottom" fmla="*/ 793080 h 792720"/>
              </a:gdLst>
              <a:ahLst/>
              <a:rect l="textAreaLeft" t="textAreaTop" r="textAreaRight" b="textAreaBottom"/>
              <a:pathLst>
                <a:path w="92" h="648">
                  <a:moveTo>
                    <a:pt x="92" y="0"/>
                  </a:moveTo>
                  <a:cubicBezTo>
                    <a:pt x="92" y="0"/>
                    <a:pt x="46" y="324"/>
                    <a:pt x="0" y="64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86"/>
            <p:cNvSpPr/>
            <p:nvPr/>
          </p:nvSpPr>
          <p:spPr>
            <a:xfrm>
              <a:off x="1274760" y="3921840"/>
              <a:ext cx="1962360" cy="2057040"/>
            </a:xfrm>
            <a:custGeom>
              <a:avLst/>
              <a:gdLst>
                <a:gd name="textAreaLeft" fmla="*/ 0 w 1962360"/>
                <a:gd name="textAreaRight" fmla="*/ 1962720 w 196236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471" h="1681">
                  <a:moveTo>
                    <a:pt x="1194" y="0"/>
                  </a:moveTo>
                  <a:cubicBezTo>
                    <a:pt x="1184" y="71"/>
                    <a:pt x="1175" y="143"/>
                    <a:pt x="1202" y="236"/>
                  </a:cubicBezTo>
                  <a:cubicBezTo>
                    <a:pt x="1229" y="329"/>
                    <a:pt x="1321" y="478"/>
                    <a:pt x="1354" y="556"/>
                  </a:cubicBezTo>
                  <a:cubicBezTo>
                    <a:pt x="1387" y="634"/>
                    <a:pt x="1388" y="653"/>
                    <a:pt x="1402" y="704"/>
                  </a:cubicBezTo>
                  <a:cubicBezTo>
                    <a:pt x="1416" y="755"/>
                    <a:pt x="1438" y="828"/>
                    <a:pt x="1438" y="864"/>
                  </a:cubicBezTo>
                  <a:cubicBezTo>
                    <a:pt x="1438" y="900"/>
                    <a:pt x="1471" y="1022"/>
                    <a:pt x="1350" y="1136"/>
                  </a:cubicBezTo>
                  <a:cubicBezTo>
                    <a:pt x="1229" y="1250"/>
                    <a:pt x="908" y="1461"/>
                    <a:pt x="710" y="1548"/>
                  </a:cubicBezTo>
                  <a:cubicBezTo>
                    <a:pt x="512" y="1635"/>
                    <a:pt x="280" y="1639"/>
                    <a:pt x="162" y="1660"/>
                  </a:cubicBezTo>
                  <a:cubicBezTo>
                    <a:pt x="44" y="1681"/>
                    <a:pt x="34" y="1670"/>
                    <a:pt x="0" y="1672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85"/>
            <p:cNvSpPr/>
            <p:nvPr/>
          </p:nvSpPr>
          <p:spPr>
            <a:xfrm>
              <a:off x="1578600" y="3931200"/>
              <a:ext cx="1546200" cy="17064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706400"/>
                <a:gd name="textAreaBottom" fmla="*/ 1706760 h 1706400"/>
              </a:gdLst>
              <a:ahLst/>
              <a:rect l="textAreaLeft" t="textAreaTop" r="textAreaRight" b="textAreaBottom"/>
              <a:pathLst>
                <a:path w="1159" h="1394">
                  <a:moveTo>
                    <a:pt x="926" y="0"/>
                  </a:moveTo>
                  <a:cubicBezTo>
                    <a:pt x="923" y="8"/>
                    <a:pt x="908" y="19"/>
                    <a:pt x="906" y="50"/>
                  </a:cubicBezTo>
                  <a:cubicBezTo>
                    <a:pt x="904" y="81"/>
                    <a:pt x="909" y="147"/>
                    <a:pt x="914" y="188"/>
                  </a:cubicBezTo>
                  <a:cubicBezTo>
                    <a:pt x="919" y="229"/>
                    <a:pt x="913" y="233"/>
                    <a:pt x="938" y="296"/>
                  </a:cubicBezTo>
                  <a:cubicBezTo>
                    <a:pt x="963" y="359"/>
                    <a:pt x="1033" y="493"/>
                    <a:pt x="1062" y="564"/>
                  </a:cubicBezTo>
                  <a:cubicBezTo>
                    <a:pt x="1091" y="635"/>
                    <a:pt x="1097" y="680"/>
                    <a:pt x="1110" y="724"/>
                  </a:cubicBezTo>
                  <a:cubicBezTo>
                    <a:pt x="1123" y="768"/>
                    <a:pt x="1136" y="795"/>
                    <a:pt x="1142" y="828"/>
                  </a:cubicBezTo>
                  <a:cubicBezTo>
                    <a:pt x="1148" y="861"/>
                    <a:pt x="1159" y="879"/>
                    <a:pt x="1146" y="920"/>
                  </a:cubicBezTo>
                  <a:cubicBezTo>
                    <a:pt x="1133" y="961"/>
                    <a:pt x="1095" y="1035"/>
                    <a:pt x="1062" y="1072"/>
                  </a:cubicBezTo>
                  <a:cubicBezTo>
                    <a:pt x="1029" y="1109"/>
                    <a:pt x="1015" y="1102"/>
                    <a:pt x="950" y="1144"/>
                  </a:cubicBezTo>
                  <a:cubicBezTo>
                    <a:pt x="885" y="1186"/>
                    <a:pt x="742" y="1286"/>
                    <a:pt x="670" y="1324"/>
                  </a:cubicBezTo>
                  <a:cubicBezTo>
                    <a:pt x="598" y="1362"/>
                    <a:pt x="630" y="1360"/>
                    <a:pt x="518" y="1372"/>
                  </a:cubicBezTo>
                  <a:cubicBezTo>
                    <a:pt x="406" y="1384"/>
                    <a:pt x="108" y="1390"/>
                    <a:pt x="0" y="139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84"/>
            <p:cNvSpPr/>
            <p:nvPr/>
          </p:nvSpPr>
          <p:spPr>
            <a:xfrm>
              <a:off x="4065480" y="376992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Oval 83"/>
            <p:cNvSpPr/>
            <p:nvPr/>
          </p:nvSpPr>
          <p:spPr>
            <a:xfrm>
              <a:off x="3052080" y="4585320"/>
              <a:ext cx="12096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Oval 82"/>
            <p:cNvSpPr/>
            <p:nvPr/>
          </p:nvSpPr>
          <p:spPr>
            <a:xfrm>
              <a:off x="2768760" y="527004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81"/>
            <p:cNvSpPr/>
            <p:nvPr/>
          </p:nvSpPr>
          <p:spPr>
            <a:xfrm>
              <a:off x="6765480" y="163692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Oval 80"/>
            <p:cNvSpPr/>
            <p:nvPr/>
          </p:nvSpPr>
          <p:spPr>
            <a:xfrm>
              <a:off x="2459160" y="546084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Oval 79"/>
            <p:cNvSpPr/>
            <p:nvPr/>
          </p:nvSpPr>
          <p:spPr>
            <a:xfrm>
              <a:off x="2091600" y="5563800"/>
              <a:ext cx="12096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Oval 78"/>
            <p:cNvSpPr/>
            <p:nvPr/>
          </p:nvSpPr>
          <p:spPr>
            <a:xfrm>
              <a:off x="1744920" y="5568840"/>
              <a:ext cx="12060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Oval 77"/>
            <p:cNvSpPr/>
            <p:nvPr/>
          </p:nvSpPr>
          <p:spPr>
            <a:xfrm>
              <a:off x="4685760" y="3427560"/>
              <a:ext cx="120960" cy="11160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Oval 76"/>
            <p:cNvSpPr/>
            <p:nvPr/>
          </p:nvSpPr>
          <p:spPr>
            <a:xfrm>
              <a:off x="1429560" y="5906880"/>
              <a:ext cx="121680" cy="110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Oval 75"/>
            <p:cNvSpPr/>
            <p:nvPr/>
          </p:nvSpPr>
          <p:spPr>
            <a:xfrm>
              <a:off x="2811600" y="2969640"/>
              <a:ext cx="217440" cy="1897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Text Box 74"/>
            <p:cNvSpPr/>
            <p:nvPr/>
          </p:nvSpPr>
          <p:spPr>
            <a:xfrm>
              <a:off x="1963440" y="2933640"/>
              <a:ext cx="898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pest-Déli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Text Box 73"/>
            <p:cNvSpPr/>
            <p:nvPr/>
          </p:nvSpPr>
          <p:spPr>
            <a:xfrm>
              <a:off x="2117160" y="3814560"/>
              <a:ext cx="649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elenföl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Text Box 72"/>
            <p:cNvSpPr/>
            <p:nvPr/>
          </p:nvSpPr>
          <p:spPr>
            <a:xfrm>
              <a:off x="3174480" y="4548240"/>
              <a:ext cx="648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bertfalv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 Box 71"/>
            <p:cNvSpPr/>
            <p:nvPr/>
          </p:nvSpPr>
          <p:spPr>
            <a:xfrm>
              <a:off x="3227040" y="4897440"/>
              <a:ext cx="515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fo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Text Box 70"/>
            <p:cNvSpPr/>
            <p:nvPr/>
          </p:nvSpPr>
          <p:spPr>
            <a:xfrm>
              <a:off x="2603520" y="5078520"/>
              <a:ext cx="493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Box 69"/>
            <p:cNvSpPr/>
            <p:nvPr/>
          </p:nvSpPr>
          <p:spPr>
            <a:xfrm>
              <a:off x="2043360" y="5048280"/>
              <a:ext cx="648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udatétén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Text Box 68"/>
            <p:cNvSpPr/>
            <p:nvPr/>
          </p:nvSpPr>
          <p:spPr>
            <a:xfrm>
              <a:off x="1674720" y="5176800"/>
              <a:ext cx="755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rosstelep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Box 67"/>
            <p:cNvSpPr/>
            <p:nvPr/>
          </p:nvSpPr>
          <p:spPr>
            <a:xfrm>
              <a:off x="910800" y="5430600"/>
              <a:ext cx="952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gytétény-Diós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Box 66"/>
            <p:cNvSpPr/>
            <p:nvPr/>
          </p:nvSpPr>
          <p:spPr>
            <a:xfrm>
              <a:off x="4830840" y="3427560"/>
              <a:ext cx="732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yárdűl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 Box 65"/>
            <p:cNvSpPr/>
            <p:nvPr/>
          </p:nvSpPr>
          <p:spPr>
            <a:xfrm>
              <a:off x="996480" y="5983200"/>
              <a:ext cx="75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étény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Text Box 64"/>
            <p:cNvSpPr/>
            <p:nvPr/>
          </p:nvSpPr>
          <p:spPr>
            <a:xfrm>
              <a:off x="2446200" y="5699160"/>
              <a:ext cx="771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astélypar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Line 63"/>
            <p:cNvSpPr/>
            <p:nvPr/>
          </p:nvSpPr>
          <p:spPr>
            <a:xfrm>
              <a:off x="2526120" y="524340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Line 62"/>
            <p:cNvSpPr/>
            <p:nvPr/>
          </p:nvSpPr>
          <p:spPr>
            <a:xfrm>
              <a:off x="2152800" y="5340960"/>
              <a:ext cx="0" cy="21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Text Box 61"/>
            <p:cNvSpPr/>
            <p:nvPr/>
          </p:nvSpPr>
          <p:spPr>
            <a:xfrm>
              <a:off x="2984400" y="3585960"/>
              <a:ext cx="741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Lágymány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Text Box 60"/>
            <p:cNvSpPr/>
            <p:nvPr/>
          </p:nvSpPr>
          <p:spPr>
            <a:xfrm>
              <a:off x="1968120" y="3973320"/>
              <a:ext cx="645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Kőérberek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Line 59"/>
            <p:cNvSpPr/>
            <p:nvPr/>
          </p:nvSpPr>
          <p:spPr>
            <a:xfrm flipV="1">
              <a:off x="4748400" y="3365640"/>
              <a:ext cx="5292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58"/>
            <p:cNvSpPr/>
            <p:nvPr/>
          </p:nvSpPr>
          <p:spPr>
            <a:xfrm flipV="1">
              <a:off x="4761360" y="3412440"/>
              <a:ext cx="5364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57"/>
            <p:cNvSpPr/>
            <p:nvPr/>
          </p:nvSpPr>
          <p:spPr>
            <a:xfrm flipV="1">
              <a:off x="4722120" y="3300480"/>
              <a:ext cx="554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Line 56"/>
            <p:cNvSpPr/>
            <p:nvPr/>
          </p:nvSpPr>
          <p:spPr>
            <a:xfrm flipV="1">
              <a:off x="4734720" y="3346920"/>
              <a:ext cx="5616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Box 55"/>
            <p:cNvSpPr/>
            <p:nvPr/>
          </p:nvSpPr>
          <p:spPr>
            <a:xfrm>
              <a:off x="3622680" y="3591000"/>
              <a:ext cx="73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rencváros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Box 54"/>
            <p:cNvSpPr/>
            <p:nvPr/>
          </p:nvSpPr>
          <p:spPr>
            <a:xfrm>
              <a:off x="4668840" y="3052800"/>
              <a:ext cx="779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őbánya felső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53"/>
            <p:cNvSpPr/>
            <p:nvPr/>
          </p:nvSpPr>
          <p:spPr>
            <a:xfrm>
              <a:off x="4676760" y="909000"/>
              <a:ext cx="263520" cy="4330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98" h="354">
                  <a:moveTo>
                    <a:pt x="0" y="354"/>
                  </a:moveTo>
                  <a:cubicBezTo>
                    <a:pt x="5" y="341"/>
                    <a:pt x="9" y="316"/>
                    <a:pt x="30" y="276"/>
                  </a:cubicBezTo>
                  <a:cubicBezTo>
                    <a:pt x="51" y="236"/>
                    <a:pt x="98" y="160"/>
                    <a:pt x="126" y="114"/>
                  </a:cubicBezTo>
                  <a:cubicBezTo>
                    <a:pt x="154" y="68"/>
                    <a:pt x="186" y="19"/>
                    <a:pt x="198" y="0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Oval 52"/>
            <p:cNvSpPr/>
            <p:nvPr/>
          </p:nvSpPr>
          <p:spPr>
            <a:xfrm>
              <a:off x="4540320" y="1297440"/>
              <a:ext cx="216720" cy="190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Oval 51"/>
            <p:cNvSpPr/>
            <p:nvPr/>
          </p:nvSpPr>
          <p:spPr>
            <a:xfrm>
              <a:off x="4769640" y="99720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Text Box 50"/>
            <p:cNvSpPr/>
            <p:nvPr/>
          </p:nvSpPr>
          <p:spPr>
            <a:xfrm flipH="1">
              <a:off x="5164920" y="2207880"/>
              <a:ext cx="1294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Újpalota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Box 49"/>
            <p:cNvSpPr/>
            <p:nvPr/>
          </p:nvSpPr>
          <p:spPr>
            <a:xfrm>
              <a:off x="4492080" y="1900080"/>
              <a:ext cx="892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Marcheggi híd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48"/>
            <p:cNvSpPr/>
            <p:nvPr/>
          </p:nvSpPr>
          <p:spPr>
            <a:xfrm>
              <a:off x="2619720" y="3926880"/>
              <a:ext cx="183960" cy="1537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38" h="126">
                  <a:moveTo>
                    <a:pt x="138" y="0"/>
                  </a:moveTo>
                  <a:cubicBezTo>
                    <a:pt x="81" y="51"/>
                    <a:pt x="25" y="103"/>
                    <a:pt x="0" y="126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Oval 47"/>
            <p:cNvSpPr/>
            <p:nvPr/>
          </p:nvSpPr>
          <p:spPr>
            <a:xfrm>
              <a:off x="2720520" y="3831480"/>
              <a:ext cx="217440" cy="1893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Oval 46"/>
            <p:cNvSpPr/>
            <p:nvPr/>
          </p:nvSpPr>
          <p:spPr>
            <a:xfrm>
              <a:off x="4642200" y="2118240"/>
              <a:ext cx="12096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Oval 45"/>
            <p:cNvSpPr/>
            <p:nvPr/>
          </p:nvSpPr>
          <p:spPr>
            <a:xfrm>
              <a:off x="3115440" y="4837320"/>
              <a:ext cx="121680" cy="110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>
              <a:off x="6034680" y="3330000"/>
              <a:ext cx="120600" cy="11016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Oval 43"/>
            <p:cNvSpPr/>
            <p:nvPr/>
          </p:nvSpPr>
          <p:spPr>
            <a:xfrm>
              <a:off x="4102560" y="2556360"/>
              <a:ext cx="12168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Oval 42"/>
            <p:cNvSpPr/>
            <p:nvPr/>
          </p:nvSpPr>
          <p:spPr>
            <a:xfrm>
              <a:off x="3900240" y="242172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Oval 41"/>
            <p:cNvSpPr/>
            <p:nvPr/>
          </p:nvSpPr>
          <p:spPr>
            <a:xfrm>
              <a:off x="6354720" y="36014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Oval 40"/>
            <p:cNvSpPr/>
            <p:nvPr/>
          </p:nvSpPr>
          <p:spPr>
            <a:xfrm>
              <a:off x="4369680" y="3799800"/>
              <a:ext cx="12132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Oval 39"/>
            <p:cNvSpPr/>
            <p:nvPr/>
          </p:nvSpPr>
          <p:spPr>
            <a:xfrm>
              <a:off x="4487400" y="322416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Oval 38"/>
            <p:cNvSpPr/>
            <p:nvPr/>
          </p:nvSpPr>
          <p:spPr>
            <a:xfrm>
              <a:off x="5284800" y="3251520"/>
              <a:ext cx="12060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Oval 37"/>
            <p:cNvSpPr/>
            <p:nvPr/>
          </p:nvSpPr>
          <p:spPr>
            <a:xfrm>
              <a:off x="4305960" y="182484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Oval 36"/>
            <p:cNvSpPr/>
            <p:nvPr/>
          </p:nvSpPr>
          <p:spPr>
            <a:xfrm>
              <a:off x="3137400" y="377748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Oval 35"/>
            <p:cNvSpPr/>
            <p:nvPr/>
          </p:nvSpPr>
          <p:spPr>
            <a:xfrm>
              <a:off x="3435840" y="379440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Oval 34"/>
            <p:cNvSpPr/>
            <p:nvPr/>
          </p:nvSpPr>
          <p:spPr>
            <a:xfrm>
              <a:off x="3918960" y="381132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Oval 33"/>
            <p:cNvSpPr/>
            <p:nvPr/>
          </p:nvSpPr>
          <p:spPr>
            <a:xfrm>
              <a:off x="2509920" y="406152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Oval 32"/>
            <p:cNvSpPr/>
            <p:nvPr/>
          </p:nvSpPr>
          <p:spPr>
            <a:xfrm>
              <a:off x="5314680" y="2761920"/>
              <a:ext cx="12060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Oval 31"/>
            <p:cNvSpPr/>
            <p:nvPr/>
          </p:nvSpPr>
          <p:spPr>
            <a:xfrm>
              <a:off x="4919400" y="845640"/>
              <a:ext cx="12060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Oval 30"/>
            <p:cNvSpPr/>
            <p:nvPr/>
          </p:nvSpPr>
          <p:spPr>
            <a:xfrm>
              <a:off x="3547800" y="1378800"/>
              <a:ext cx="121680" cy="11124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Oval 29"/>
            <p:cNvSpPr/>
            <p:nvPr/>
          </p:nvSpPr>
          <p:spPr>
            <a:xfrm>
              <a:off x="4337280" y="3689640"/>
              <a:ext cx="12168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Oval 28"/>
            <p:cNvSpPr/>
            <p:nvPr/>
          </p:nvSpPr>
          <p:spPr>
            <a:xfrm>
              <a:off x="2269800" y="83088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Oval 27"/>
            <p:cNvSpPr/>
            <p:nvPr/>
          </p:nvSpPr>
          <p:spPr>
            <a:xfrm>
              <a:off x="5258160" y="4834440"/>
              <a:ext cx="12096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Oval 26"/>
            <p:cNvSpPr/>
            <p:nvPr/>
          </p:nvSpPr>
          <p:spPr>
            <a:xfrm>
              <a:off x="3030120" y="4847040"/>
              <a:ext cx="121680" cy="110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Oval 25"/>
            <p:cNvSpPr/>
            <p:nvPr/>
          </p:nvSpPr>
          <p:spPr>
            <a:xfrm>
              <a:off x="6363000" y="3373560"/>
              <a:ext cx="120960" cy="11052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Oval 24"/>
            <p:cNvSpPr/>
            <p:nvPr/>
          </p:nvSpPr>
          <p:spPr>
            <a:xfrm>
              <a:off x="5190480" y="2500200"/>
              <a:ext cx="120600" cy="1105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Oval 23"/>
            <p:cNvSpPr/>
            <p:nvPr/>
          </p:nvSpPr>
          <p:spPr>
            <a:xfrm>
              <a:off x="4569480" y="299196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Oval 22"/>
            <p:cNvSpPr/>
            <p:nvPr/>
          </p:nvSpPr>
          <p:spPr>
            <a:xfrm>
              <a:off x="4302720" y="1954080"/>
              <a:ext cx="121320" cy="11160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Oval 21"/>
            <p:cNvSpPr/>
            <p:nvPr/>
          </p:nvSpPr>
          <p:spPr>
            <a:xfrm>
              <a:off x="4905720" y="2257560"/>
              <a:ext cx="121680" cy="111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Oval 20"/>
            <p:cNvSpPr/>
            <p:nvPr/>
          </p:nvSpPr>
          <p:spPr>
            <a:xfrm>
              <a:off x="2955960" y="4609440"/>
              <a:ext cx="12096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Text Box 19"/>
            <p:cNvSpPr/>
            <p:nvPr/>
          </p:nvSpPr>
          <p:spPr>
            <a:xfrm>
              <a:off x="4071960" y="2435040"/>
              <a:ext cx="650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9900"/>
                  </a:solidFill>
                  <a:latin typeface="Arial"/>
                  <a:ea typeface="Times New Roman"/>
                </a:rPr>
                <a:t>Városliget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Line 18"/>
            <p:cNvSpPr/>
            <p:nvPr/>
          </p:nvSpPr>
          <p:spPr>
            <a:xfrm flipH="1" flipV="1">
              <a:off x="4396320" y="1892880"/>
              <a:ext cx="216000" cy="2426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Line 17"/>
            <p:cNvSpPr/>
            <p:nvPr/>
          </p:nvSpPr>
          <p:spPr>
            <a:xfrm flipH="1" flipV="1">
              <a:off x="4172040" y="1709640"/>
              <a:ext cx="128160" cy="8784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16"/>
            <p:cNvSpPr/>
            <p:nvPr/>
          </p:nvSpPr>
          <p:spPr>
            <a:xfrm>
              <a:off x="4057560" y="2436480"/>
              <a:ext cx="114120" cy="11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6" h="90">
                  <a:moveTo>
                    <a:pt x="2" y="0"/>
                  </a:moveTo>
                  <a:cubicBezTo>
                    <a:pt x="1" y="25"/>
                    <a:pt x="0" y="51"/>
                    <a:pt x="14" y="66"/>
                  </a:cubicBezTo>
                  <a:cubicBezTo>
                    <a:pt x="28" y="81"/>
                    <a:pt x="79" y="87"/>
                    <a:pt x="86" y="9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15"/>
            <p:cNvSpPr/>
            <p:nvPr/>
          </p:nvSpPr>
          <p:spPr>
            <a:xfrm>
              <a:off x="4700160" y="3082320"/>
              <a:ext cx="248040" cy="1767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222" h="144">
                  <a:moveTo>
                    <a:pt x="0" y="0"/>
                  </a:moveTo>
                  <a:cubicBezTo>
                    <a:pt x="8" y="48"/>
                    <a:pt x="17" y="96"/>
                    <a:pt x="54" y="120"/>
                  </a:cubicBezTo>
                  <a:cubicBezTo>
                    <a:pt x="91" y="144"/>
                    <a:pt x="193" y="140"/>
                    <a:pt x="222" y="14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14"/>
            <p:cNvSpPr/>
            <p:nvPr/>
          </p:nvSpPr>
          <p:spPr>
            <a:xfrm>
              <a:off x="5411520" y="3161520"/>
              <a:ext cx="191520" cy="2563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44" h="210">
                  <a:moveTo>
                    <a:pt x="0" y="0"/>
                  </a:moveTo>
                  <a:cubicBezTo>
                    <a:pt x="6" y="68"/>
                    <a:pt x="12" y="136"/>
                    <a:pt x="30" y="168"/>
                  </a:cubicBezTo>
                  <a:cubicBezTo>
                    <a:pt x="48" y="200"/>
                    <a:pt x="89" y="185"/>
                    <a:pt x="108" y="192"/>
                  </a:cubicBezTo>
                  <a:cubicBezTo>
                    <a:pt x="127" y="199"/>
                    <a:pt x="138" y="207"/>
                    <a:pt x="144" y="21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13"/>
            <p:cNvSpPr/>
            <p:nvPr/>
          </p:nvSpPr>
          <p:spPr>
            <a:xfrm>
              <a:off x="4220280" y="2108160"/>
              <a:ext cx="407880" cy="2253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06" h="184">
                  <a:moveTo>
                    <a:pt x="306" y="46"/>
                  </a:moveTo>
                  <a:cubicBezTo>
                    <a:pt x="248" y="23"/>
                    <a:pt x="190" y="0"/>
                    <a:pt x="156" y="4"/>
                  </a:cubicBezTo>
                  <a:cubicBezTo>
                    <a:pt x="122" y="8"/>
                    <a:pt x="128" y="40"/>
                    <a:pt x="102" y="70"/>
                  </a:cubicBezTo>
                  <a:cubicBezTo>
                    <a:pt x="76" y="100"/>
                    <a:pt x="17" y="165"/>
                    <a:pt x="0" y="184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Line 12"/>
            <p:cNvSpPr/>
            <p:nvPr/>
          </p:nvSpPr>
          <p:spPr>
            <a:xfrm flipH="1">
              <a:off x="2442960" y="4161240"/>
              <a:ext cx="72360" cy="73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Line 11"/>
            <p:cNvSpPr/>
            <p:nvPr/>
          </p:nvSpPr>
          <p:spPr>
            <a:xfrm>
              <a:off x="2120400" y="796680"/>
              <a:ext cx="144000" cy="58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Line 10"/>
            <p:cNvSpPr/>
            <p:nvPr/>
          </p:nvSpPr>
          <p:spPr>
            <a:xfrm flipH="1">
              <a:off x="5028120" y="806400"/>
              <a:ext cx="72360" cy="51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Text Box 9"/>
            <p:cNvSpPr/>
            <p:nvPr/>
          </p:nvSpPr>
          <p:spPr>
            <a:xfrm>
              <a:off x="7017120" y="1633320"/>
              <a:ext cx="1129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glévő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Oval 8"/>
            <p:cNvSpPr/>
            <p:nvPr/>
          </p:nvSpPr>
          <p:spPr>
            <a:xfrm>
              <a:off x="6822720" y="191628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Oval 7"/>
            <p:cNvSpPr/>
            <p:nvPr/>
          </p:nvSpPr>
          <p:spPr>
            <a:xfrm>
              <a:off x="4049280" y="2580840"/>
              <a:ext cx="12168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Text Box 6"/>
            <p:cNvSpPr/>
            <p:nvPr/>
          </p:nvSpPr>
          <p:spPr>
            <a:xfrm>
              <a:off x="7013880" y="1889280"/>
              <a:ext cx="1163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rvezett megállóhely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örvasúti S-Bahn 2014-2020 között megvalósuló ütemének feltétele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Oval 5"/>
            <p:cNvSpPr/>
            <p:nvPr/>
          </p:nvSpPr>
          <p:spPr>
            <a:xfrm>
              <a:off x="5411520" y="3028320"/>
              <a:ext cx="120600" cy="110880"/>
            </a:xfrm>
            <a:prstGeom prst="ellipse">
              <a:avLst/>
            </a:prstGeom>
            <a:solidFill>
              <a:srgbClr val="99cc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Oval 4"/>
            <p:cNvSpPr/>
            <p:nvPr/>
          </p:nvSpPr>
          <p:spPr>
            <a:xfrm>
              <a:off x="2338920" y="5695920"/>
              <a:ext cx="121680" cy="1116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Oval 3"/>
            <p:cNvSpPr/>
            <p:nvPr/>
          </p:nvSpPr>
          <p:spPr>
            <a:xfrm>
              <a:off x="3953520" y="392472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Oval 2"/>
            <p:cNvSpPr/>
            <p:nvPr/>
          </p:nvSpPr>
          <p:spPr>
            <a:xfrm>
              <a:off x="6834600" y="2130840"/>
              <a:ext cx="121680" cy="110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7" name="Rectangle 18"/>
          <p:cNvSpPr/>
          <p:nvPr/>
        </p:nvSpPr>
        <p:spPr>
          <a:xfrm>
            <a:off x="395280" y="195120"/>
            <a:ext cx="842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Hosszútáv: Városi vasúti hálózat Budap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23920" y="4292640"/>
            <a:ext cx="7524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4687"/>
                </a:solidFill>
                <a:latin typeface="Arial"/>
              </a:rPr>
              <a:t>Köszönöm a figyelmet!</a:t>
            </a:r>
            <a:endParaRPr b="1" lang="en-US" sz="5000" spc="-1" strike="noStrike">
              <a:solidFill>
                <a:srgbClr val="004687"/>
              </a:solidFill>
              <a:latin typeface="Arial"/>
            </a:endParaRPr>
          </a:p>
        </p:txBody>
      </p:sp>
      <p:pic>
        <p:nvPicPr>
          <p:cNvPr id="1179" name="Picture 2" descr="C:\Documents and Settings\foldiak.janos\Dokumentumok\Képek\flirt_1k.jpg"/>
          <p:cNvPicPr/>
          <p:nvPr/>
        </p:nvPicPr>
        <p:blipFill>
          <a:blip r:embed="rId1"/>
          <a:stretch/>
        </p:blipFill>
        <p:spPr>
          <a:xfrm>
            <a:off x="1865160" y="1700280"/>
            <a:ext cx="6091560" cy="232236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2340000" y="53481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kormanyos.laszlo@mav-start.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A vasút szerepe a városi közlekedésben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920" y="980640"/>
            <a:ext cx="446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aponta 146 ezer utas a fejpályaudvarokon, amely komoly városi közlekedési kihívá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Fejpályudvarok elhelyezkedése kiválló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hálózat az egész várost átszöv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vasút városi-közlekedési szerepe csak kiegészítő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izonyos viszonylatokon a vasút menetidő-előnye tetemes, ez a leggyorsabb városi közlekedési mó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z elővárosi hálózaton dinamikusan növekszik az utasszá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 jelenlegi szerepénél lényegesen nagyobb a potenciá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7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18C6-4BDA-42FB-997C-C92EA6FF5E77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" descr="C:\Users\foldiak.janos\Pictures\Keleti.jpg"/>
          <p:cNvPicPr/>
          <p:nvPr/>
        </p:nvPicPr>
        <p:blipFill>
          <a:blip r:embed="rId9"/>
          <a:stretch/>
        </p:blipFill>
        <p:spPr>
          <a:xfrm>
            <a:off x="4716360" y="981000"/>
            <a:ext cx="3794400" cy="2519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" descr="C:\Users\foldiak.janos\Pictures\Nyugati.jpg"/>
          <p:cNvPicPr/>
          <p:nvPr/>
        </p:nvPicPr>
        <p:blipFill>
          <a:blip r:embed="rId10"/>
          <a:stretch/>
        </p:blipFill>
        <p:spPr>
          <a:xfrm>
            <a:off x="4716360" y="3637080"/>
            <a:ext cx="37944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Nyuga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66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5FC-7850-4758-88E1-47E3E14B0FF8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33"/>
          <p:cNvSpPr/>
          <p:nvPr/>
        </p:nvSpPr>
        <p:spPr>
          <a:xfrm>
            <a:off x="4687920" y="2019240"/>
            <a:ext cx="3332160" cy="1800"/>
          </a:xfrm>
          <a:custGeom>
            <a:avLst/>
            <a:gdLst/>
            <a:ahLst/>
            <a:rect l="l" t="t" r="r" b="b"/>
            <a:pathLst>
              <a:path w="9459" h="10000">
                <a:moveTo>
                  <a:pt x="0" y="10000"/>
                </a:moveTo>
                <a:cubicBezTo>
                  <a:pt x="6946" y="6667"/>
                  <a:pt x="2513" y="3333"/>
                  <a:pt x="9459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4"/>
          <p:cNvSpPr/>
          <p:nvPr/>
        </p:nvSpPr>
        <p:spPr>
          <a:xfrm>
            <a:off x="4689360" y="2868480"/>
            <a:ext cx="3915000" cy="239760"/>
          </a:xfrm>
          <a:custGeom>
            <a:avLst/>
            <a:gdLst/>
            <a:ahLst/>
            <a:rect l="l" t="t" r="r" b="b"/>
            <a:pathLst>
              <a:path w="14445" h="10940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94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14"/>
          <p:cNvSpPr/>
          <p:nvPr/>
        </p:nvSpPr>
        <p:spPr>
          <a:xfrm rot="18900000">
            <a:off x="5121360" y="121572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rendez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18"/>
          <p:cNvSpPr/>
          <p:nvPr/>
        </p:nvSpPr>
        <p:spPr>
          <a:xfrm rot="18900000">
            <a:off x="7253280" y="363168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zemere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19"/>
          <p:cNvSpPr/>
          <p:nvPr/>
        </p:nvSpPr>
        <p:spPr>
          <a:xfrm rot="18900000">
            <a:off x="5653800" y="422748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29"/>
          <p:cNvSpPr/>
          <p:nvPr/>
        </p:nvSpPr>
        <p:spPr>
          <a:xfrm rot="18900000">
            <a:off x="7138080" y="1486800"/>
            <a:ext cx="91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Istvántele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30"/>
          <p:cNvSpPr/>
          <p:nvPr/>
        </p:nvSpPr>
        <p:spPr>
          <a:xfrm rot="18900000">
            <a:off x="7328880" y="1270080"/>
            <a:ext cx="152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32"/>
          <p:cNvSpPr/>
          <p:nvPr/>
        </p:nvSpPr>
        <p:spPr>
          <a:xfrm rot="18900000">
            <a:off x="6832440" y="3705120"/>
            <a:ext cx="12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lőrin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19"/>
          <p:cNvSpPr/>
          <p:nvPr/>
        </p:nvSpPr>
        <p:spPr>
          <a:xfrm rot="18900000">
            <a:off x="5869080" y="404172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4683240" y="183348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0-G7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19"/>
          <p:cNvSpPr/>
          <p:nvPr/>
        </p:nvSpPr>
        <p:spPr>
          <a:xfrm>
            <a:off x="4672080" y="2484360"/>
            <a:ext cx="923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, I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4764240" y="225432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4764240" y="2685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Z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4"/>
          <p:cNvSpPr/>
          <p:nvPr/>
        </p:nvSpPr>
        <p:spPr>
          <a:xfrm>
            <a:off x="4676760" y="2666880"/>
            <a:ext cx="3929040" cy="214560"/>
          </a:xfrm>
          <a:custGeom>
            <a:avLst/>
            <a:gdLst/>
            <a:ahLst/>
            <a:rect l="l" t="t" r="r" b="b"/>
            <a:pathLst>
              <a:path w="45585" h="10000">
                <a:moveTo>
                  <a:pt x="0" y="0"/>
                </a:moveTo>
                <a:lnTo>
                  <a:pt x="5675" y="0"/>
                </a:lnTo>
                <a:cubicBezTo>
                  <a:pt x="6451" y="3333"/>
                  <a:pt x="7331" y="6667"/>
                  <a:pt x="8104" y="10000"/>
                </a:cubicBezTo>
                <a:lnTo>
                  <a:pt x="-19951" y="9999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18"/>
          <p:cNvSpPr/>
          <p:nvPr/>
        </p:nvSpPr>
        <p:spPr>
          <a:xfrm rot="18900000">
            <a:off x="7545240" y="3609720"/>
            <a:ext cx="93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i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19"/>
          <p:cNvSpPr/>
          <p:nvPr/>
        </p:nvSpPr>
        <p:spPr>
          <a:xfrm rot="18900000">
            <a:off x="4881600" y="3899880"/>
            <a:ext cx="114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19"/>
          <p:cNvSpPr/>
          <p:nvPr/>
        </p:nvSpPr>
        <p:spPr>
          <a:xfrm rot="18900000">
            <a:off x="5115600" y="3671280"/>
            <a:ext cx="54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Zugl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19"/>
          <p:cNvSpPr/>
          <p:nvPr/>
        </p:nvSpPr>
        <p:spPr>
          <a:xfrm rot="18900000">
            <a:off x="6059880" y="4168440"/>
            <a:ext cx="129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szentim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13"/>
          <p:cNvSpPr/>
          <p:nvPr/>
        </p:nvSpPr>
        <p:spPr>
          <a:xfrm rot="18900000">
            <a:off x="4356000" y="1139400"/>
            <a:ext cx="127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Nyuga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reeform 4"/>
          <p:cNvSpPr/>
          <p:nvPr/>
        </p:nvSpPr>
        <p:spPr>
          <a:xfrm>
            <a:off x="4656240" y="1514520"/>
            <a:ext cx="2838240" cy="304920"/>
          </a:xfrm>
          <a:custGeom>
            <a:avLst/>
            <a:gdLst/>
            <a:ahLst/>
            <a:rect l="l" t="t" r="r" b="b"/>
            <a:pathLst>
              <a:path w="18460" h="12328">
                <a:moveTo>
                  <a:pt x="0" y="12310"/>
                </a:moveTo>
                <a:cubicBezTo>
                  <a:pt x="1023" y="12374"/>
                  <a:pt x="4310" y="12244"/>
                  <a:pt x="5333" y="12308"/>
                </a:cubicBezTo>
                <a:lnTo>
                  <a:pt x="7285" y="195"/>
                </a:lnTo>
                <a:lnTo>
                  <a:pt x="18460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19"/>
          <p:cNvSpPr/>
          <p:nvPr/>
        </p:nvSpPr>
        <p:spPr>
          <a:xfrm>
            <a:off x="4764240" y="162396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5888160" y="1444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29"/>
          <p:cNvSpPr/>
          <p:nvPr/>
        </p:nvSpPr>
        <p:spPr>
          <a:xfrm rot="18900000">
            <a:off x="5721480" y="984240"/>
            <a:ext cx="92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ngyal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 Box 18"/>
          <p:cNvSpPr/>
          <p:nvPr/>
        </p:nvSpPr>
        <p:spPr>
          <a:xfrm rot="18900000">
            <a:off x="5005440" y="3960720"/>
            <a:ext cx="13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68184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10"/>
          <p:cNvSpPr/>
          <p:nvPr/>
        </p:nvSpPr>
        <p:spPr>
          <a:xfrm>
            <a:off x="619452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 Box 29"/>
          <p:cNvSpPr/>
          <p:nvPr/>
        </p:nvSpPr>
        <p:spPr>
          <a:xfrm rot="18900000">
            <a:off x="6026400" y="9997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Új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 Box 31"/>
          <p:cNvSpPr/>
          <p:nvPr/>
        </p:nvSpPr>
        <p:spPr>
          <a:xfrm rot="18900000">
            <a:off x="6661440" y="100260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Óbud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10"/>
          <p:cNvSpPr/>
          <p:nvPr/>
        </p:nvSpPr>
        <p:spPr>
          <a:xfrm>
            <a:off x="651996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29"/>
          <p:cNvSpPr/>
          <p:nvPr/>
        </p:nvSpPr>
        <p:spPr>
          <a:xfrm rot="18900000">
            <a:off x="6355080" y="1012320"/>
            <a:ext cx="9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quinc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8"/>
          <p:cNvSpPr/>
          <p:nvPr/>
        </p:nvSpPr>
        <p:spPr>
          <a:xfrm>
            <a:off x="7099200" y="14461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31"/>
          <p:cNvSpPr/>
          <p:nvPr/>
        </p:nvSpPr>
        <p:spPr>
          <a:xfrm rot="18900000">
            <a:off x="6995160" y="112824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Ürö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reeform 33"/>
          <p:cNvSpPr/>
          <p:nvPr/>
        </p:nvSpPr>
        <p:spPr>
          <a:xfrm>
            <a:off x="4667400" y="2225520"/>
            <a:ext cx="3695400" cy="233640"/>
          </a:xfrm>
          <a:custGeom>
            <a:avLst/>
            <a:gdLst/>
            <a:ahLst/>
            <a:rect l="l" t="t" r="r" b="b"/>
            <a:pathLst>
              <a:path w="10144" h="10110">
                <a:moveTo>
                  <a:pt x="0" y="173"/>
                </a:moveTo>
                <a:lnTo>
                  <a:pt x="8580" y="0"/>
                </a:lnTo>
                <a:cubicBezTo>
                  <a:pt x="8781" y="3299"/>
                  <a:pt x="9007" y="6803"/>
                  <a:pt x="9208" y="10102"/>
                </a:cubicBezTo>
                <a:cubicBezTo>
                  <a:pt x="9391" y="10154"/>
                  <a:pt x="10062" y="9948"/>
                  <a:pt x="10144" y="1000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Oval 8"/>
          <p:cNvSpPr/>
          <p:nvPr/>
        </p:nvSpPr>
        <p:spPr>
          <a:xfrm>
            <a:off x="7291440" y="1949400"/>
            <a:ext cx="127080" cy="39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reeform 33"/>
          <p:cNvSpPr/>
          <p:nvPr/>
        </p:nvSpPr>
        <p:spPr>
          <a:xfrm>
            <a:off x="4681440" y="2430360"/>
            <a:ext cx="3684600" cy="230400"/>
          </a:xfrm>
          <a:custGeom>
            <a:avLst/>
            <a:gdLst/>
            <a:ahLst/>
            <a:rect l="l" t="t" r="r" b="b"/>
            <a:pathLst>
              <a:path w="10000" h="10211">
                <a:moveTo>
                  <a:pt x="0" y="388"/>
                </a:moveTo>
                <a:lnTo>
                  <a:pt x="8313" y="0"/>
                </a:lnTo>
                <a:cubicBezTo>
                  <a:pt x="8511" y="3368"/>
                  <a:pt x="8735" y="6736"/>
                  <a:pt x="8933" y="10105"/>
                </a:cubicBezTo>
                <a:cubicBezTo>
                  <a:pt x="9113" y="10158"/>
                  <a:pt x="9919" y="10158"/>
                  <a:pt x="10000" y="10211"/>
                </a:cubicBez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49"/>
          <p:cNvSpPr/>
          <p:nvPr/>
        </p:nvSpPr>
        <p:spPr>
          <a:xfrm>
            <a:off x="5280120" y="1709640"/>
            <a:ext cx="162000" cy="63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4764240" y="2031840"/>
            <a:ext cx="4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7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4"/>
          <p:cNvSpPr/>
          <p:nvPr/>
        </p:nvSpPr>
        <p:spPr>
          <a:xfrm>
            <a:off x="7550280" y="1903320"/>
            <a:ext cx="166680" cy="65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9"/>
          <p:cNvSpPr/>
          <p:nvPr/>
        </p:nvSpPr>
        <p:spPr>
          <a:xfrm rot="18900000">
            <a:off x="7786800" y="1682640"/>
            <a:ext cx="15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palota-Kert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8074080" y="23875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reeform 4"/>
          <p:cNvSpPr/>
          <p:nvPr/>
        </p:nvSpPr>
        <p:spPr>
          <a:xfrm>
            <a:off x="4689360" y="3301920"/>
            <a:ext cx="2651400" cy="434880"/>
          </a:xfrm>
          <a:custGeom>
            <a:avLst/>
            <a:gdLst/>
            <a:ahLst/>
            <a:rect l="l" t="t" r="r" b="b"/>
            <a:pathLst>
              <a:path w="9780" h="1985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5760" y="10650"/>
                </a:lnTo>
                <a:cubicBezTo>
                  <a:pt x="6017" y="13766"/>
                  <a:pt x="6248" y="16666"/>
                  <a:pt x="6505" y="19782"/>
                </a:cubicBezTo>
                <a:lnTo>
                  <a:pt x="9780" y="1985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Freeform 4"/>
          <p:cNvSpPr/>
          <p:nvPr/>
        </p:nvSpPr>
        <p:spPr>
          <a:xfrm>
            <a:off x="4689360" y="3073320"/>
            <a:ext cx="3915000" cy="235080"/>
          </a:xfrm>
          <a:custGeom>
            <a:avLst/>
            <a:gdLst/>
            <a:ahLst/>
            <a:rect l="l" t="t" r="r" b="b"/>
            <a:pathLst>
              <a:path w="14445" h="10723">
                <a:moveTo>
                  <a:pt x="0" y="0"/>
                </a:moveTo>
                <a:lnTo>
                  <a:pt x="1567" y="0"/>
                </a:lnTo>
                <a:cubicBezTo>
                  <a:pt x="1853" y="3550"/>
                  <a:pt x="2140" y="7101"/>
                  <a:pt x="2426" y="10651"/>
                </a:cubicBezTo>
                <a:lnTo>
                  <a:pt x="14445" y="10723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40864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1"/>
          <p:cNvSpPr/>
          <p:nvPr/>
        </p:nvSpPr>
        <p:spPr>
          <a:xfrm>
            <a:off x="5697360" y="3013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1"/>
          <p:cNvSpPr/>
          <p:nvPr/>
        </p:nvSpPr>
        <p:spPr>
          <a:xfrm>
            <a:off x="5967360" y="2795760"/>
            <a:ext cx="162000" cy="80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Oval 9"/>
          <p:cNvSpPr/>
          <p:nvPr/>
        </p:nvSpPr>
        <p:spPr>
          <a:xfrm>
            <a:off x="6526080" y="366876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val 9"/>
          <p:cNvSpPr/>
          <p:nvPr/>
        </p:nvSpPr>
        <p:spPr>
          <a:xfrm>
            <a:off x="6778800" y="3673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val 9"/>
          <p:cNvSpPr/>
          <p:nvPr/>
        </p:nvSpPr>
        <p:spPr>
          <a:xfrm>
            <a:off x="7029360" y="3673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771696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7966080" y="3241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Oval 11"/>
          <p:cNvSpPr/>
          <p:nvPr/>
        </p:nvSpPr>
        <p:spPr>
          <a:xfrm>
            <a:off x="8182080" y="2797200"/>
            <a:ext cx="1620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48"/>
          <p:cNvSpPr/>
          <p:nvPr/>
        </p:nvSpPr>
        <p:spPr>
          <a:xfrm>
            <a:off x="4600440" y="1709640"/>
            <a:ext cx="16200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19"/>
          <p:cNvSpPr/>
          <p:nvPr/>
        </p:nvSpPr>
        <p:spPr>
          <a:xfrm>
            <a:off x="4764240" y="28814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5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4762440" y="311616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artalom helye 2"/>
          <p:cNvSpPr/>
          <p:nvPr/>
        </p:nvSpPr>
        <p:spPr>
          <a:xfrm>
            <a:off x="179280" y="836640"/>
            <a:ext cx="4421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-Pest, Pestszentimre, Pestszentlőrinc, Kisp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Pestszentlőrinc, Ferihegy, Pestszentimre és a belváros között a vasút adja a leggyorsabb kapcsolat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Jelentős harántirányú szerep Kőbánya-Kispest, Kőbánya alsó és Zugló közö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őbánya és a belváros kapcsolatában fejlődési lehetősé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Újpest, Rákospal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megállók nem ideális elhelyezkedése miatt a vasút szerepe a potenciálhoz képest gye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Aquincum, Óbu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pest és Aquincum között hídpótl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Nyugati utasforgalma napi 66 ezer fő*, ebből elővárosi utas 35 e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Nyugati elővárosi utasszámában 6%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347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zövegdoboz 66"/>
          <p:cNvSpPr/>
          <p:nvPr/>
        </p:nvSpPr>
        <p:spPr>
          <a:xfrm>
            <a:off x="2268360" y="5805360"/>
            <a:ext cx="458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**2010 és 2013 között Budapest bérlethez csatlakozójegyet vett utasok száma (A 2013-ban kizárt esztergomi vonal kivételéve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Freeform 33"/>
          <p:cNvSpPr/>
          <p:nvPr/>
        </p:nvSpPr>
        <p:spPr>
          <a:xfrm>
            <a:off x="5435640" y="3292560"/>
            <a:ext cx="1857240" cy="1440"/>
          </a:xfrm>
          <a:custGeom>
            <a:avLst/>
            <a:gdLst/>
            <a:ahLst/>
            <a:rect l="l" t="t" r="r" b="b"/>
            <a:pathLst>
              <a:path w="12663" h="10000">
                <a:moveTo>
                  <a:pt x="0" y="10000"/>
                </a:moveTo>
                <a:cubicBezTo>
                  <a:pt x="16691" y="6667"/>
                  <a:pt x="-4028" y="3333"/>
                  <a:pt x="12663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Kelet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052640"/>
            <a:ext cx="43308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-Pest, Rákosment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Rákosmente és a belváros között a vasút adja a leggyorsabb kapcsolato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ráhordás javult, de még mindig nem ide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Jelentős szerep a Rákosmente és Kőbánya közöt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Soroksár, Pesterzséb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A vasút szerepe városi közlekedésben margináli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ti utasforgalma napi 45 ezer fő,* ebből elővárosi utas 18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Keleti elővárosi utasszámában 8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131400" indent="-6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1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0DF0-4054-4450-8CDB-D367B9A8FB8B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33"/>
          <p:cNvSpPr/>
          <p:nvPr/>
        </p:nvSpPr>
        <p:spPr>
          <a:xfrm>
            <a:off x="5502240" y="1812960"/>
            <a:ext cx="3105360" cy="216000"/>
          </a:xfrm>
          <a:custGeom>
            <a:avLst/>
            <a:gdLst/>
            <a:ahLst/>
            <a:rect l="l" t="t" r="r" b="b"/>
            <a:pathLst>
              <a:path w="8445" h="10036">
                <a:moveTo>
                  <a:pt x="0" y="10036"/>
                </a:moveTo>
                <a:lnTo>
                  <a:pt x="2989" y="9778"/>
                </a:lnTo>
                <a:cubicBezTo>
                  <a:pt x="3179" y="6531"/>
                  <a:pt x="3368" y="3283"/>
                  <a:pt x="3558" y="36"/>
                </a:cubicBezTo>
                <a:lnTo>
                  <a:pt x="8445" y="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Rectangle 45"/>
          <p:cNvSpPr/>
          <p:nvPr/>
        </p:nvSpPr>
        <p:spPr>
          <a:xfrm>
            <a:off x="6807240" y="2233440"/>
            <a:ext cx="27144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Oval 7"/>
          <p:cNvSpPr/>
          <p:nvPr/>
        </p:nvSpPr>
        <p:spPr>
          <a:xfrm>
            <a:off x="7734240" y="17384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Oval 8"/>
          <p:cNvSpPr/>
          <p:nvPr/>
        </p:nvSpPr>
        <p:spPr>
          <a:xfrm>
            <a:off x="7445520" y="1738440"/>
            <a:ext cx="10764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 rot="18900000">
            <a:off x="7459560" y="1026720"/>
            <a:ext cx="166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-Új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18"/>
          <p:cNvSpPr/>
          <p:nvPr/>
        </p:nvSpPr>
        <p:spPr>
          <a:xfrm rot="18900000">
            <a:off x="6450840" y="354600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19"/>
          <p:cNvSpPr/>
          <p:nvPr/>
        </p:nvSpPr>
        <p:spPr>
          <a:xfrm rot="18900000">
            <a:off x="7368480" y="314460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ke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30"/>
          <p:cNvSpPr/>
          <p:nvPr/>
        </p:nvSpPr>
        <p:spPr>
          <a:xfrm rot="18900000">
            <a:off x="7860960" y="128376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csab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32"/>
          <p:cNvSpPr/>
          <p:nvPr/>
        </p:nvSpPr>
        <p:spPr>
          <a:xfrm rot="18900000">
            <a:off x="7274160" y="1275480"/>
            <a:ext cx="9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33"/>
          <p:cNvSpPr/>
          <p:nvPr/>
        </p:nvSpPr>
        <p:spPr>
          <a:xfrm>
            <a:off x="5513400" y="2220840"/>
            <a:ext cx="3100320" cy="190440"/>
          </a:xfrm>
          <a:custGeom>
            <a:avLst/>
            <a:gdLst/>
            <a:ahLst/>
            <a:rect l="l" t="t" r="r" b="b"/>
            <a:pathLst>
              <a:path w="10062" h="10000">
                <a:moveTo>
                  <a:pt x="0" y="93"/>
                </a:moveTo>
                <a:lnTo>
                  <a:pt x="3534" y="0"/>
                </a:lnTo>
                <a:lnTo>
                  <a:pt x="4185" y="9990"/>
                </a:lnTo>
                <a:lnTo>
                  <a:pt x="10062" y="10000"/>
                </a:lnTo>
              </a:path>
            </a:pathLst>
          </a:custGeom>
          <a:noFill/>
          <a:ln w="76320">
            <a:solidFill>
              <a:srgbClr val="ffc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19"/>
          <p:cNvSpPr/>
          <p:nvPr/>
        </p:nvSpPr>
        <p:spPr>
          <a:xfrm rot="18900000">
            <a:off x="5460840" y="35892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2"/>
          <p:cNvSpPr/>
          <p:nvPr/>
        </p:nvSpPr>
        <p:spPr>
          <a:xfrm>
            <a:off x="543564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5589720" y="18414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8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9"/>
          <p:cNvSpPr/>
          <p:nvPr/>
        </p:nvSpPr>
        <p:spPr>
          <a:xfrm>
            <a:off x="5589720" y="2033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9"/>
          <p:cNvSpPr/>
          <p:nvPr/>
        </p:nvSpPr>
        <p:spPr>
          <a:xfrm>
            <a:off x="8021520" y="173664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18"/>
          <p:cNvSpPr/>
          <p:nvPr/>
        </p:nvSpPr>
        <p:spPr>
          <a:xfrm rot="18900000">
            <a:off x="5910120" y="3644280"/>
            <a:ext cx="10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Pesterzséb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18"/>
          <p:cNvSpPr/>
          <p:nvPr/>
        </p:nvSpPr>
        <p:spPr>
          <a:xfrm rot="18900000">
            <a:off x="5744880" y="358920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oroksári ú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9"/>
          <p:cNvSpPr/>
          <p:nvPr/>
        </p:nvSpPr>
        <p:spPr>
          <a:xfrm>
            <a:off x="6408720" y="322092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19"/>
          <p:cNvSpPr/>
          <p:nvPr/>
        </p:nvSpPr>
        <p:spPr>
          <a:xfrm rot="18900000">
            <a:off x="7108920" y="3133800"/>
            <a:ext cx="90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he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19"/>
          <p:cNvSpPr/>
          <p:nvPr/>
        </p:nvSpPr>
        <p:spPr>
          <a:xfrm rot="18900000">
            <a:off x="4455720" y="369216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13"/>
          <p:cNvSpPr/>
          <p:nvPr/>
        </p:nvSpPr>
        <p:spPr>
          <a:xfrm rot="18900000">
            <a:off x="5238720" y="1382400"/>
            <a:ext cx="12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Kelet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19"/>
          <p:cNvSpPr/>
          <p:nvPr/>
        </p:nvSpPr>
        <p:spPr>
          <a:xfrm>
            <a:off x="5581800" y="31068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2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33"/>
          <p:cNvSpPr/>
          <p:nvPr/>
        </p:nvSpPr>
        <p:spPr>
          <a:xfrm>
            <a:off x="5508720" y="2438280"/>
            <a:ext cx="3100320" cy="190800"/>
          </a:xfrm>
          <a:custGeom>
            <a:avLst/>
            <a:gdLst/>
            <a:ahLst/>
            <a:rect l="l" t="t" r="r" b="b"/>
            <a:pathLst>
              <a:path w="9924" h="10000">
                <a:moveTo>
                  <a:pt x="0" y="94"/>
                </a:moveTo>
                <a:lnTo>
                  <a:pt x="3486" y="0"/>
                </a:lnTo>
                <a:cubicBezTo>
                  <a:pt x="3700" y="2664"/>
                  <a:pt x="3914" y="7326"/>
                  <a:pt x="4128" y="9989"/>
                </a:cubicBezTo>
                <a:lnTo>
                  <a:pt x="9924" y="10000"/>
                </a:lnTo>
              </a:path>
            </a:pathLst>
          </a:custGeom>
          <a:noFill/>
          <a:ln w="76320">
            <a:solidFill>
              <a:srgbClr val="92d05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33"/>
          <p:cNvSpPr/>
          <p:nvPr/>
        </p:nvSpPr>
        <p:spPr>
          <a:xfrm>
            <a:off x="5508720" y="2654280"/>
            <a:ext cx="3105000" cy="190440"/>
          </a:xfrm>
          <a:custGeom>
            <a:avLst/>
            <a:gdLst/>
            <a:ahLst/>
            <a:rect l="l" t="t" r="r" b="b"/>
            <a:pathLst>
              <a:path w="10046" h="10000">
                <a:moveTo>
                  <a:pt x="0" y="94"/>
                </a:moveTo>
                <a:lnTo>
                  <a:pt x="3524" y="0"/>
                </a:lnTo>
                <a:cubicBezTo>
                  <a:pt x="3740" y="2664"/>
                  <a:pt x="3956" y="7326"/>
                  <a:pt x="4172" y="9989"/>
                </a:cubicBezTo>
                <a:lnTo>
                  <a:pt x="10046" y="10000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49"/>
          <p:cNvSpPr/>
          <p:nvPr/>
        </p:nvSpPr>
        <p:spPr>
          <a:xfrm>
            <a:off x="609912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49"/>
          <p:cNvSpPr/>
          <p:nvPr/>
        </p:nvSpPr>
        <p:spPr>
          <a:xfrm>
            <a:off x="6388200" y="1951200"/>
            <a:ext cx="12852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7743960" y="2563920"/>
            <a:ext cx="98280" cy="357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Oval 8"/>
          <p:cNvSpPr/>
          <p:nvPr/>
        </p:nvSpPr>
        <p:spPr>
          <a:xfrm>
            <a:off x="8021520" y="2776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5580000" y="22496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19"/>
          <p:cNvSpPr/>
          <p:nvPr/>
        </p:nvSpPr>
        <p:spPr>
          <a:xfrm>
            <a:off x="5580000" y="246528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6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Oval 12"/>
          <p:cNvSpPr/>
          <p:nvPr/>
        </p:nvSpPr>
        <p:spPr>
          <a:xfrm>
            <a:off x="6985080" y="322272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>
            <a:off x="5499000" y="2870280"/>
            <a:ext cx="1790640" cy="195120"/>
          </a:xfrm>
          <a:custGeom>
            <a:avLst/>
            <a:gdLst/>
            <a:ahLst/>
            <a:rect l="l" t="t" r="r" b="b"/>
            <a:pathLst>
              <a:path w="4960" h="11712">
                <a:moveTo>
                  <a:pt x="0" y="107"/>
                </a:moveTo>
                <a:lnTo>
                  <a:pt x="1203" y="0"/>
                </a:lnTo>
                <a:cubicBezTo>
                  <a:pt x="1388" y="3900"/>
                  <a:pt x="1554" y="7800"/>
                  <a:pt x="1739" y="11700"/>
                </a:cubicBezTo>
                <a:lnTo>
                  <a:pt x="4960" y="11712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12"/>
          <p:cNvSpPr/>
          <p:nvPr/>
        </p:nvSpPr>
        <p:spPr>
          <a:xfrm>
            <a:off x="6119640" y="2992320"/>
            <a:ext cx="9540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6696000" y="2992320"/>
            <a:ext cx="111240" cy="37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Oval 49"/>
          <p:cNvSpPr/>
          <p:nvPr/>
        </p:nvSpPr>
        <p:spPr>
          <a:xfrm>
            <a:off x="5435640" y="1952640"/>
            <a:ext cx="128520" cy="96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2"/>
          <p:cNvSpPr/>
          <p:nvPr/>
        </p:nvSpPr>
        <p:spPr>
          <a:xfrm rot="18900000">
            <a:off x="5905440" y="1396800"/>
            <a:ext cx="11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2"/>
          <p:cNvSpPr/>
          <p:nvPr/>
        </p:nvSpPr>
        <p:spPr>
          <a:xfrm rot="18900000">
            <a:off x="6282000" y="1598040"/>
            <a:ext cx="61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Rák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9"/>
          <p:cNvSpPr/>
          <p:nvPr/>
        </p:nvSpPr>
        <p:spPr>
          <a:xfrm>
            <a:off x="5407200" y="268920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sebe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zövegdoboz 7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Freeform 33"/>
          <p:cNvSpPr/>
          <p:nvPr/>
        </p:nvSpPr>
        <p:spPr>
          <a:xfrm>
            <a:off x="5267160" y="22780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asútvonalak városi szerepe - Déli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763" name="Freeform 4"/>
          <p:cNvSpPr/>
          <p:nvPr/>
        </p:nvSpPr>
        <p:spPr>
          <a:xfrm>
            <a:off x="5195880" y="2948040"/>
            <a:ext cx="3772080" cy="449280"/>
          </a:xfrm>
          <a:custGeom>
            <a:avLst/>
            <a:gdLst/>
            <a:ahLst/>
            <a:rect l="l" t="t" r="r" b="b"/>
            <a:pathLst>
              <a:path w="13918" h="20504">
                <a:moveTo>
                  <a:pt x="0" y="0"/>
                </a:moveTo>
                <a:lnTo>
                  <a:pt x="1549" y="217"/>
                </a:lnTo>
                <a:cubicBezTo>
                  <a:pt x="1835" y="3767"/>
                  <a:pt x="2122" y="7318"/>
                  <a:pt x="2408" y="10868"/>
                </a:cubicBezTo>
                <a:lnTo>
                  <a:pt x="5724" y="10650"/>
                </a:lnTo>
                <a:cubicBezTo>
                  <a:pt x="6023" y="13766"/>
                  <a:pt x="6233" y="17100"/>
                  <a:pt x="6532" y="20216"/>
                </a:cubicBezTo>
                <a:cubicBezTo>
                  <a:pt x="11126" y="20312"/>
                  <a:pt x="9324" y="20408"/>
                  <a:pt x="13918" y="20504"/>
                </a:cubicBez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44"/>
          <p:cNvSpPr/>
          <p:nvPr/>
        </p:nvSpPr>
        <p:spPr>
          <a:xfrm>
            <a:off x="6634080" y="2162160"/>
            <a:ext cx="166680" cy="11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Rectangle 45"/>
          <p:cNvSpPr/>
          <p:nvPr/>
        </p:nvSpPr>
        <p:spPr>
          <a:xfrm>
            <a:off x="6572160" y="2381400"/>
            <a:ext cx="27144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reeform 4"/>
          <p:cNvSpPr/>
          <p:nvPr/>
        </p:nvSpPr>
        <p:spPr>
          <a:xfrm>
            <a:off x="5240160" y="2928960"/>
            <a:ext cx="3710160" cy="252360"/>
          </a:xfrm>
          <a:custGeom>
            <a:avLst/>
            <a:gdLst/>
            <a:ahLst/>
            <a:rect l="l" t="t" r="r" b="b"/>
            <a:pathLst>
              <a:path w="13690" h="11523">
                <a:moveTo>
                  <a:pt x="0" y="11088"/>
                </a:moveTo>
                <a:cubicBezTo>
                  <a:pt x="580" y="11160"/>
                  <a:pt x="775" y="11232"/>
                  <a:pt x="1355" y="11304"/>
                </a:cubicBezTo>
                <a:cubicBezTo>
                  <a:pt x="1648" y="7609"/>
                  <a:pt x="1958" y="3914"/>
                  <a:pt x="2251" y="219"/>
                </a:cubicBezTo>
                <a:lnTo>
                  <a:pt x="5671" y="0"/>
                </a:lnTo>
                <a:cubicBezTo>
                  <a:pt x="5904" y="3333"/>
                  <a:pt x="6350" y="8189"/>
                  <a:pt x="6584" y="11523"/>
                </a:cubicBezTo>
                <a:lnTo>
                  <a:pt x="11967" y="11305"/>
                </a:lnTo>
                <a:cubicBezTo>
                  <a:pt x="12214" y="7971"/>
                  <a:pt x="12548" y="3986"/>
                  <a:pt x="12795" y="653"/>
                </a:cubicBezTo>
                <a:lnTo>
                  <a:pt x="13690" y="725"/>
                </a:lnTo>
              </a:path>
            </a:pathLst>
          </a:custGeom>
          <a:noFill/>
          <a:ln w="76320">
            <a:solidFill>
              <a:srgbClr val="99cc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Oval 7"/>
          <p:cNvSpPr/>
          <p:nvPr/>
        </p:nvSpPr>
        <p:spPr>
          <a:xfrm>
            <a:off x="79740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Oval 8"/>
          <p:cNvSpPr/>
          <p:nvPr/>
        </p:nvSpPr>
        <p:spPr>
          <a:xfrm>
            <a:off x="696420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Oval 9"/>
          <p:cNvSpPr/>
          <p:nvPr/>
        </p:nvSpPr>
        <p:spPr>
          <a:xfrm>
            <a:off x="802008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Oval 10"/>
          <p:cNvSpPr/>
          <p:nvPr/>
        </p:nvSpPr>
        <p:spPr>
          <a:xfrm>
            <a:off x="6340320" y="220824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Oval 12"/>
          <p:cNvSpPr/>
          <p:nvPr/>
        </p:nvSpPr>
        <p:spPr>
          <a:xfrm>
            <a:off x="747864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14"/>
          <p:cNvSpPr/>
          <p:nvPr/>
        </p:nvSpPr>
        <p:spPr>
          <a:xfrm rot="18900000">
            <a:off x="5751720" y="158688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elenfö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15"/>
          <p:cNvSpPr/>
          <p:nvPr/>
        </p:nvSpPr>
        <p:spPr>
          <a:xfrm rot="18900000">
            <a:off x="8184240" y="1799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als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18"/>
          <p:cNvSpPr/>
          <p:nvPr/>
        </p:nvSpPr>
        <p:spPr>
          <a:xfrm rot="18900000">
            <a:off x="7772400" y="36410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-fels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19"/>
          <p:cNvSpPr/>
          <p:nvPr/>
        </p:nvSpPr>
        <p:spPr>
          <a:xfrm rot="18900000">
            <a:off x="6577200" y="3693600"/>
            <a:ext cx="93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tétén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29"/>
          <p:cNvSpPr/>
          <p:nvPr/>
        </p:nvSpPr>
        <p:spPr>
          <a:xfrm rot="18900000">
            <a:off x="6175800" y="1745640"/>
            <a:ext cx="91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lbertfal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30"/>
          <p:cNvSpPr/>
          <p:nvPr/>
        </p:nvSpPr>
        <p:spPr>
          <a:xfrm rot="18900000">
            <a:off x="6522120" y="179028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31"/>
          <p:cNvSpPr/>
          <p:nvPr/>
        </p:nvSpPr>
        <p:spPr>
          <a:xfrm rot="18900000">
            <a:off x="6807600" y="1745640"/>
            <a:ext cx="90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astélypar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32"/>
          <p:cNvSpPr/>
          <p:nvPr/>
        </p:nvSpPr>
        <p:spPr>
          <a:xfrm rot="18900000">
            <a:off x="7803000" y="1728000"/>
            <a:ext cx="95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Tétény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33"/>
          <p:cNvSpPr/>
          <p:nvPr/>
        </p:nvSpPr>
        <p:spPr>
          <a:xfrm>
            <a:off x="5257800" y="2479680"/>
            <a:ext cx="3695760" cy="1440"/>
          </a:xfrm>
          <a:custGeom>
            <a:avLst/>
            <a:gdLst/>
            <a:ahLst/>
            <a:rect l="l" t="t" r="r" b="b"/>
            <a:pathLst>
              <a:path w="5032" h="10000">
                <a:moveTo>
                  <a:pt x="0" y="10000"/>
                </a:moveTo>
                <a:cubicBezTo>
                  <a:pt x="3333" y="6667"/>
                  <a:pt x="1699" y="3333"/>
                  <a:pt x="5032" y="0"/>
                </a:cubicBezTo>
              </a:path>
            </a:pathLst>
          </a:custGeom>
          <a:noFill/>
          <a:ln w="76320">
            <a:solidFill>
              <a:srgbClr val="ff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46"/>
          <p:cNvSpPr/>
          <p:nvPr/>
        </p:nvSpPr>
        <p:spPr>
          <a:xfrm>
            <a:off x="7732800" y="2712960"/>
            <a:ext cx="1150920" cy="18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704" h="1">
                <a:moveTo>
                  <a:pt x="0" y="1"/>
                </a:moveTo>
                <a:lnTo>
                  <a:pt x="470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2"/>
          <p:cNvSpPr/>
          <p:nvPr/>
        </p:nvSpPr>
        <p:spPr>
          <a:xfrm>
            <a:off x="5473800" y="30891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19"/>
          <p:cNvSpPr/>
          <p:nvPr/>
        </p:nvSpPr>
        <p:spPr>
          <a:xfrm rot="18900000">
            <a:off x="4818240" y="347328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Ferencv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12"/>
          <p:cNvSpPr/>
          <p:nvPr/>
        </p:nvSpPr>
        <p:spPr>
          <a:xfrm>
            <a:off x="5159520" y="3089160"/>
            <a:ext cx="10764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5354640" y="209232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5354640" y="22860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ffc000"/>
                </a:solidFill>
                <a:latin typeface="Arial Black"/>
              </a:rPr>
              <a:t>Z3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 Box 19"/>
          <p:cNvSpPr/>
          <p:nvPr/>
        </p:nvSpPr>
        <p:spPr>
          <a:xfrm>
            <a:off x="5159520" y="251136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700" spc="-1" strike="noStrike">
                <a:solidFill>
                  <a:srgbClr val="ff0000"/>
                </a:solidFill>
                <a:latin typeface="Arial Black"/>
              </a:rPr>
              <a:t>gyorsvona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9"/>
          <p:cNvSpPr/>
          <p:nvPr/>
        </p:nvSpPr>
        <p:spPr>
          <a:xfrm>
            <a:off x="6157800" y="273384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92d050"/>
                </a:solidFill>
                <a:latin typeface="Arial Black"/>
              </a:rPr>
              <a:t>G4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8290080" y="3081240"/>
            <a:ext cx="161640" cy="3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11"/>
          <p:cNvSpPr/>
          <p:nvPr/>
        </p:nvSpPr>
        <p:spPr>
          <a:xfrm>
            <a:off x="7209000" y="3089160"/>
            <a:ext cx="161640" cy="38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19"/>
          <p:cNvSpPr/>
          <p:nvPr/>
        </p:nvSpPr>
        <p:spPr>
          <a:xfrm>
            <a:off x="5148360" y="2755800"/>
            <a:ext cx="73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40-S4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9"/>
          <p:cNvSpPr/>
          <p:nvPr/>
        </p:nvSpPr>
        <p:spPr>
          <a:xfrm>
            <a:off x="7767720" y="332280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4"/>
          <p:cNvSpPr/>
          <p:nvPr/>
        </p:nvSpPr>
        <p:spPr>
          <a:xfrm>
            <a:off x="5256360" y="2714760"/>
            <a:ext cx="3705120" cy="214200"/>
          </a:xfrm>
          <a:custGeom>
            <a:avLst/>
            <a:gdLst/>
            <a:ahLst/>
            <a:rect l="l" t="t" r="r" b="b"/>
            <a:pathLst>
              <a:path w="13769" h="10000">
                <a:moveTo>
                  <a:pt x="0" y="0"/>
                </a:moveTo>
                <a:lnTo>
                  <a:pt x="10455" y="0"/>
                </a:lnTo>
                <a:cubicBezTo>
                  <a:pt x="10703" y="3333"/>
                  <a:pt x="10985" y="6667"/>
                  <a:pt x="11233" y="10000"/>
                </a:cubicBezTo>
                <a:lnTo>
                  <a:pt x="11840" y="10000"/>
                </a:lnTo>
                <a:cubicBezTo>
                  <a:pt x="12088" y="6593"/>
                  <a:pt x="12389" y="3407"/>
                  <a:pt x="12637" y="0"/>
                </a:cubicBezTo>
                <a:lnTo>
                  <a:pt x="13769" y="7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36"/>
          <p:cNvSpPr/>
          <p:nvPr/>
        </p:nvSpPr>
        <p:spPr>
          <a:xfrm>
            <a:off x="8290080" y="2178000"/>
            <a:ext cx="161640" cy="690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18"/>
          <p:cNvSpPr/>
          <p:nvPr/>
        </p:nvSpPr>
        <p:spPr>
          <a:xfrm rot="18900000">
            <a:off x="7491960" y="363492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Érdlig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 Box 18"/>
          <p:cNvSpPr/>
          <p:nvPr/>
        </p:nvSpPr>
        <p:spPr>
          <a:xfrm rot="18900000">
            <a:off x="6818040" y="368928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arosstel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Oval 9"/>
          <p:cNvSpPr/>
          <p:nvPr/>
        </p:nvSpPr>
        <p:spPr>
          <a:xfrm>
            <a:off x="6912000" y="3317760"/>
            <a:ext cx="10800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 Box 19"/>
          <p:cNvSpPr/>
          <p:nvPr/>
        </p:nvSpPr>
        <p:spPr>
          <a:xfrm rot="18900000">
            <a:off x="6477480" y="3475800"/>
            <a:ext cx="56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Hár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19"/>
          <p:cNvSpPr/>
          <p:nvPr/>
        </p:nvSpPr>
        <p:spPr>
          <a:xfrm rot="18900000">
            <a:off x="6026400" y="341064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fo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19"/>
          <p:cNvSpPr/>
          <p:nvPr/>
        </p:nvSpPr>
        <p:spPr>
          <a:xfrm rot="18900000">
            <a:off x="4180680" y="3610080"/>
            <a:ext cx="12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Kőbánya-Kisp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 Box 13"/>
          <p:cNvSpPr/>
          <p:nvPr/>
        </p:nvSpPr>
        <p:spPr>
          <a:xfrm rot="18900000">
            <a:off x="4970880" y="1471320"/>
            <a:ext cx="10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pest-Dél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4"/>
          <p:cNvSpPr/>
          <p:nvPr/>
        </p:nvSpPr>
        <p:spPr>
          <a:xfrm>
            <a:off x="5235480" y="1392120"/>
            <a:ext cx="1917720" cy="700200"/>
          </a:xfrm>
          <a:custGeom>
            <a:avLst/>
            <a:gdLst/>
            <a:ahLst/>
            <a:rect l="l" t="t" r="r" b="b"/>
            <a:pathLst>
              <a:path w="12479" h="28269">
                <a:moveTo>
                  <a:pt x="0" y="28078"/>
                </a:moveTo>
                <a:cubicBezTo>
                  <a:pt x="1023" y="28142"/>
                  <a:pt x="4341" y="28205"/>
                  <a:pt x="5364" y="28269"/>
                </a:cubicBezTo>
                <a:cubicBezTo>
                  <a:pt x="5881" y="25000"/>
                  <a:pt x="9402" y="3268"/>
                  <a:pt x="9919" y="0"/>
                </a:cubicBezTo>
                <a:lnTo>
                  <a:pt x="12479" y="189"/>
                </a:lnTo>
              </a:path>
            </a:pathLst>
          </a:custGeom>
          <a:noFill/>
          <a:ln w="76320">
            <a:solidFill>
              <a:srgbClr val="00b0f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48"/>
          <p:cNvSpPr/>
          <p:nvPr/>
        </p:nvSpPr>
        <p:spPr>
          <a:xfrm>
            <a:off x="5133960" y="1968480"/>
            <a:ext cx="16200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Oval 49"/>
          <p:cNvSpPr/>
          <p:nvPr/>
        </p:nvSpPr>
        <p:spPr>
          <a:xfrm>
            <a:off x="5864400" y="1968480"/>
            <a:ext cx="161640" cy="10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19"/>
          <p:cNvSpPr/>
          <p:nvPr/>
        </p:nvSpPr>
        <p:spPr>
          <a:xfrm>
            <a:off x="5354640" y="1897200"/>
            <a:ext cx="43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800" spc="-1" strike="noStrike">
                <a:solidFill>
                  <a:srgbClr val="00b0f0"/>
                </a:solidFill>
                <a:latin typeface="Arial Black"/>
              </a:rPr>
              <a:t>S1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Oval 10"/>
          <p:cNvSpPr/>
          <p:nvPr/>
        </p:nvSpPr>
        <p:spPr>
          <a:xfrm>
            <a:off x="6811920" y="1309680"/>
            <a:ext cx="10800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9"/>
          <p:cNvSpPr/>
          <p:nvPr/>
        </p:nvSpPr>
        <p:spPr>
          <a:xfrm rot="18900000">
            <a:off x="6674400" y="909360"/>
            <a:ext cx="7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Budaö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18"/>
          <p:cNvSpPr/>
          <p:nvPr/>
        </p:nvSpPr>
        <p:spPr>
          <a:xfrm rot="18900000">
            <a:off x="6770520" y="3830400"/>
            <a:ext cx="132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agytétény-Diós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79280" y="907560"/>
            <a:ext cx="4608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-442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Budafok, Nagytétén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Nagytétény és a belváros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ejlődési lehetőség, a vasút szerepe a potenciálhoz képest gyeng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Dél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észak-déli városi kapcsolatot lát 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Kelenföld–Kőbánya-Kispes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-Pest és Dél-Buda között a vasút adja a leggyorsabb kapcsolat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Fél évvel az indulás után napi 800 uta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Déli utasforgalma napi 33 ezer fő*, ebből elővárosi utas 21 ez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Évi átlagos utasszámnövekedés a Déli elővárosi utasszámában 7%**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640" indent="-4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44280" indent="-4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Szövegdoboz 70"/>
          <p:cNvSpPr/>
          <p:nvPr/>
        </p:nvSpPr>
        <p:spPr>
          <a:xfrm>
            <a:off x="2268360" y="5934240"/>
            <a:ext cx="458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2013-as a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2010 és 2013 között Budapest bérlethez csatlakozójegyet vett utasok szám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4920" y="19476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árosi, elővárosi menetrendi struktúrák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6840" y="1052640"/>
            <a:ext cx="447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Ütemes menetrendek alkalmaz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dőbeli kínálatnövelés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rugalmasság biztosítás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egalább óránkénti közlekedés minden vonalon egész nap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élóránkénti közlekedés a belső gyűrűbe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idő csökkentés menetrendi eszközökkel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Zónázó 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yorsított személyvonatok indítás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ávolsági vonatok bevonása az elővárosi kiszolgálásb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78240" indent="-34056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Kínálati menetrend alapján meghatározott infrastruktúraigények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Dia számának helye 3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6AE8-81DF-4336-891E-CD3FFDB053A5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Picture 3" descr=""/>
          <p:cNvPicPr/>
          <p:nvPr/>
        </p:nvPicPr>
        <p:blipFill>
          <a:blip r:embed="rId11"/>
          <a:stretch/>
        </p:blipFill>
        <p:spPr>
          <a:xfrm>
            <a:off x="5148360" y="1093680"/>
            <a:ext cx="3441600" cy="2952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2" descr="C:\Users\foldiak.janos\Pictures\zonazo_Zónázó képeslap 1 oldal 09 okt kicsi.jpg"/>
          <p:cNvPicPr/>
          <p:nvPr/>
        </p:nvPicPr>
        <p:blipFill>
          <a:blip r:embed="rId12"/>
          <a:stretch/>
        </p:blipFill>
        <p:spPr>
          <a:xfrm>
            <a:off x="5160960" y="4046400"/>
            <a:ext cx="34545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C:\Users\foldiak.janos\Documents\Menetrend\30a_40a_végleges.png"/>
          <p:cNvPicPr/>
          <p:nvPr/>
        </p:nvPicPr>
        <p:blipFill>
          <a:blip r:embed="rId1"/>
          <a:stretch/>
        </p:blipFill>
        <p:spPr>
          <a:xfrm>
            <a:off x="149400" y="3780000"/>
            <a:ext cx="6843600" cy="2313000"/>
          </a:xfrm>
          <a:prstGeom prst="rect">
            <a:avLst/>
          </a:prstGeom>
          <a:ln w="0">
            <a:noFill/>
          </a:ln>
        </p:spPr>
      </p:pic>
      <p:pic>
        <p:nvPicPr>
          <p:cNvPr id="817" name="Kép 1" descr=""/>
          <p:cNvPicPr/>
          <p:nvPr/>
        </p:nvPicPr>
        <p:blipFill>
          <a:blip r:embed="rId2"/>
          <a:stretch/>
        </p:blipFill>
        <p:spPr>
          <a:xfrm>
            <a:off x="7051680" y="4033800"/>
            <a:ext cx="1677960" cy="1555920"/>
          </a:xfrm>
          <a:prstGeom prst="rect">
            <a:avLst/>
          </a:prstGeom>
          <a:ln w="0">
            <a:noFill/>
          </a:ln>
        </p:spPr>
      </p:pic>
      <p:pic>
        <p:nvPicPr>
          <p:cNvPr id="818" name="Kép 1" descr=""/>
          <p:cNvPicPr/>
          <p:nvPr/>
        </p:nvPicPr>
        <p:blipFill>
          <a:blip r:embed="rId3"/>
          <a:stretch/>
        </p:blipFill>
        <p:spPr>
          <a:xfrm>
            <a:off x="4788000" y="1152360"/>
            <a:ext cx="3941640" cy="26276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Székesfehérvár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99"/>
                </a:solidFill>
                <a:latin typeface="Arial"/>
              </a:rPr>
              <a:t>Budapest–Székesfehérvár elővárosi vona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Infrastruktúrafejlesztést kihasználva menetrendi fejlesztés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vonatok egésznap legalább félóránkén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Menetidőcsökkentés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-10-20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Érd alsó – Kelenföld 9 perc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Új célállomások </a:t>
            </a:r>
            <a:r>
              <a:rPr b="0" lang="hu-HU" sz="1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 Kőbánya-Kispes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izárólag FLIRT motorvonat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kadálymentes állomások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Szövegdoboz 31"/>
          <p:cNvSpPr/>
          <p:nvPr/>
        </p:nvSpPr>
        <p:spPr>
          <a:xfrm rot="21229200">
            <a:off x="3018960" y="339408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6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AutoShape 18"/>
          <p:cNvSpPr/>
          <p:nvPr/>
        </p:nvSpPr>
        <p:spPr>
          <a:xfrm rot="21229200">
            <a:off x="2933280" y="332424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zövegdoboz 8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2013 első félévről 2014 első félév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Kép 1" descr=""/>
          <p:cNvPicPr/>
          <p:nvPr/>
        </p:nvPicPr>
        <p:blipFill>
          <a:blip r:embed="rId1"/>
          <a:stretch/>
        </p:blipFill>
        <p:spPr>
          <a:xfrm>
            <a:off x="6313320" y="1695600"/>
            <a:ext cx="1621080" cy="155880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79280" y="194760"/>
            <a:ext cx="90727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4687"/>
                </a:solidFill>
                <a:latin typeface="Arial"/>
              </a:rPr>
              <a:t>Elővárosi fejlesztések: Budapest–Lajosmizse</a:t>
            </a:r>
            <a:endParaRPr b="1" lang="en-US" sz="2400" spc="-1" strike="noStrike">
              <a:solidFill>
                <a:srgbClr val="00468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7489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Budapest–Lajosmizse elővárosi von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őbánya-Kispest helyett Budapest-Nyugati végállomás 2008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Egyre nagyobb számú Desiro motorvonat 2010-tő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Menetrendalapú infrastruktúrafejlesz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Cél: órás ütem létrehozása, kapacitásbővíté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Két új vonatkeresztezési hely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Sűrítés </a:t>
            </a:r>
            <a:r>
              <a:rPr b="0" lang="hu-HU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hu-HU" sz="1600" spc="-1" strike="noStrike">
                <a:solidFill>
                  <a:srgbClr val="000099"/>
                </a:solidFill>
                <a:latin typeface="Arial"/>
              </a:rPr>
              <a:t> egész napos órás ütem 2013-tó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Szövegdoboz 31"/>
          <p:cNvSpPr/>
          <p:nvPr/>
        </p:nvSpPr>
        <p:spPr>
          <a:xfrm rot="20599800">
            <a:off x="6750720" y="1143360"/>
            <a:ext cx="1746360" cy="307080"/>
          </a:xfrm>
          <a:prstGeom prst="rect">
            <a:avLst/>
          </a:pr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b050"/>
                </a:solidFill>
                <a:latin typeface="Arial"/>
              </a:rPr>
              <a:t>+39% utasfő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18"/>
          <p:cNvSpPr/>
          <p:nvPr/>
        </p:nvSpPr>
        <p:spPr>
          <a:xfrm rot="20599800">
            <a:off x="6695640" y="1073160"/>
            <a:ext cx="1908360" cy="434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9" name="Kép 1" descr=""/>
          <p:cNvPicPr/>
          <p:nvPr/>
        </p:nvPicPr>
        <p:blipFill>
          <a:blip r:embed="rId9"/>
          <a:stretch/>
        </p:blipFill>
        <p:spPr>
          <a:xfrm>
            <a:off x="1289160" y="3379680"/>
            <a:ext cx="6451560" cy="2641680"/>
          </a:xfrm>
          <a:prstGeom prst="rect">
            <a:avLst/>
          </a:prstGeom>
          <a:ln w="0">
            <a:noFill/>
          </a:ln>
        </p:spPr>
      </p:pic>
      <p:sp>
        <p:nvSpPr>
          <p:cNvPr id="830" name="Szövegdoboz 7"/>
          <p:cNvSpPr/>
          <p:nvPr/>
        </p:nvSpPr>
        <p:spPr>
          <a:xfrm>
            <a:off x="2268360" y="6062760"/>
            <a:ext cx="45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Az órás ütem bevezetésének évében 2012-ről 2013-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Dia számának helye 1"/>
          <p:cNvSpPr/>
          <p:nvPr/>
        </p:nvSpPr>
        <p:spPr>
          <a:xfrm>
            <a:off x="7010280" y="6093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753F-6B5D-4634-8915-DF6E735BEF2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2" name="Picture 2" descr="C:\Documents and Settings\foldiak.janos\Dokumentumok\Képek\Viszonylatszám_déli_térkép.png"/>
          <p:cNvPicPr/>
          <p:nvPr/>
        </p:nvPicPr>
        <p:blipFill>
          <a:blip r:embed="rId1"/>
          <a:stretch/>
        </p:blipFill>
        <p:spPr>
          <a:xfrm>
            <a:off x="-11160" y="806400"/>
            <a:ext cx="6205680" cy="527364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2"/>
          <p:cNvSpPr/>
          <p:nvPr/>
        </p:nvSpPr>
        <p:spPr>
          <a:xfrm>
            <a:off x="341280" y="195120"/>
            <a:ext cx="8623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7"/>
                </a:solidFill>
                <a:latin typeface="Arial"/>
              </a:rPr>
              <a:t>Viszonylatszámozás pilot projekt (2013. dec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zövegdoboz 11"/>
          <p:cNvSpPr/>
          <p:nvPr/>
        </p:nvSpPr>
        <p:spPr>
          <a:xfrm>
            <a:off x="5724360" y="961920"/>
            <a:ext cx="34196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Cél</a:t>
            </a:r>
            <a:r>
              <a:rPr b="0" lang="hu-HU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 vasút erősebb integrálása a Budapesti városi közlekedésb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Könnyebb útvonal tervez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Módsz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Városi jellegű viszonylatjelöl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S-Bahn jellegű közl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Jelölési képle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A-3-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A – megállási r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Z – Zónáz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G – Gyorsít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99"/>
                </a:solidFill>
                <a:latin typeface="Arial"/>
              </a:rPr>
              <a:t>S – Szemé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3 – útvon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S – végállomás kiír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99"/>
                </a:solidFill>
                <a:latin typeface="Arial"/>
              </a:rPr>
              <a:t>Pilotprojekt terüle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9"/>
                </a:solidFill>
                <a:latin typeface="Arial"/>
              </a:rPr>
              <a:t>Déliből kiinduló elővárosi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99"/>
                </a:solidFill>
                <a:latin typeface="Arial"/>
              </a:rPr>
              <a:t>1, 30a, 40a v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9:13:52Z</dcterms:created>
  <dc:creator>MÁV</dc:creator>
  <dc:description/>
  <dc:language>en-US</dc:language>
  <cp:lastModifiedBy>kormanyos.laszlo</cp:lastModifiedBy>
  <dcterms:modified xsi:type="dcterms:W3CDTF">2014-09-11T04:25:14Z</dcterms:modified>
  <cp:revision>206</cp:revision>
  <dc:subject/>
  <dc:title>Balaton északi part - racionalizálás</dc:title>
</cp:coreProperties>
</file>